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4E52-FA9A-45B1-A51D-1557DD9FE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BA44-B5C1-4388-B09B-A6B4E2568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07CA-0E10-442B-BD19-C80FA6D45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042A-495D-4A94-824E-77437FA1D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D3C21-847C-482C-B120-131038503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024BF-0827-40A6-B3BF-CBC694B15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5CB82-C3F0-4ED5-91DC-06E3B92F6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D121B-22E3-4FDA-A743-6D66424B8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66A9C-1CFE-44B2-AC89-4CA3DAB12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F4859-9B56-49CF-9240-CD52FE7AC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063E7-49E4-482D-B15A-768AE7358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F534-E3BC-41CD-870E-208B1E60F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DD651-CFC1-4B39-ACB6-ACC5A7E4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0E77F-77F2-4C6F-A6A9-C5514C48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DCA4B-0DD7-4C6C-A795-9AE09A080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5839A-7BC5-449A-9B27-94222FC18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2E510-7BE5-4E08-9001-94CC7CFE9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5FF6-5471-44E1-8F67-F3B31587D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05BC-9CCE-405F-8CFF-D901F4248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8373-9895-41D4-ADF0-2073EF70B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D150-728D-4C6C-8508-45938DD9F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A473-1160-468B-86C8-F8AF709E3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BD39-559D-4470-80BF-0E8D6B3DE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23C4-EEF6-4D04-981C-420B858E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06F7F-384B-42CC-BB1D-D0279060FF4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5A701-3F5D-45EE-A794-43C26EF93A7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ffff"/>
                </a:solidFill>
                <a:latin typeface="Times New Roman"/>
              </a:rPr>
              <a:t>Derecho Internacional Público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905120" y="3429000"/>
            <a:ext cx="67053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Profesora: Srta. Gilda Cicc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21840" y="0"/>
            <a:ext cx="7273440" cy="69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 EJECUTIVA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ORDEN INTERN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E UN PODER EJECUTIV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OBTIENE CUMPLIMIENTO DE LAS NORM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ASEGURA LA APLICACIÓN DE LAS SANC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ORDEN INTERNACIONAL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LTA UNA AUTORIDAD CENTR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HAGA OBLIGATORIA LAS NORMAS DEL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ACCION DEL ESTADO LESION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LA INTERVENCIÓN DE OTROS 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N LOS MEDI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 DAR EFECTIVIDAD AL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DIDAS QUE PUEDE ADOPTAR EL EST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RETIRO DE AGENTES DIPLOMÁTIC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RUPTURA DE RELACIONES DIPLOMÁTICAS CON ESTADO INFRACT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USPENSION CUMPLIMIENTO DE UN TRAT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NO RECONOCER UNA SITUACIÓN CONTRARIA AL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946440" y="557280"/>
            <a:ext cx="8230680" cy="49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OTRAS MEDID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OS SISTEMAS DE SEGURIDAD COLECTIVA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MERA EXPERIENCIA- SOCIEDAD DE LAS NACIONES-INSUFICIE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ECCIONADA POR LA ONU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DE LA CENTRALIZACIÓN SE EXPRES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LAS ATRIBUCIONES DEL CONSEJO DE SEGURIDAD CAPITULO VII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CENTRALIZACIÓN TAMBIEN SE EXPRESA  EN LA FUNCION EJECUTI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MECANISMO  PREVISTO EN LA CARTA DE LA ON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 CUMPLIR  LAS SENTENCIAS  DICTADAS POR LA CIJ ART 94-No 2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ALTA DE SANCIO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LTA DE UN PROCEDIMIENTO JUDICIAL OBLIGATORIO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SOLUCION 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LIC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FALTA DE UNA AUTORIDAD CENTRA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APLIQUE LAS SENTENC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QUE HAGA CUMPLIR EL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996480" y="0"/>
            <a:ext cx="7707960" cy="69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 JUDICIAL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DERECHO INTERN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FUNCION CORRESPOND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RIBUNALES PERMANEN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 CARACTERÍSTIC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OBLIGATORIEDAD DE LA JU7RISDIC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 JERARQUIZACION DE LAS INSTANCIAS JUDICIA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EL DIP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JURISDICCIÓN  ES OBLIGATORI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NDO LOS ESTADOS</a:t>
            </a:r>
            <a:r>
              <a:rPr b="0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HAN ACEPTA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RESAMEN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ESTADOS PUEDEN OTORGAR JURISDICCIÓN A UN TRIBUNAL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ES  O DESPU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SURJA EL LITIG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O LOS ESTADOS POR LA INTERDEPENDENCIA Y LA GLOBALIZA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VIOLAN EL DIP  CON FRECUENC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LA PREVENCIÓN Y SANCION  DE LAS VIOLACION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CONSEJO DE SEGURIDAD</a:t>
            </a:r>
            <a:r>
              <a:rPr b="0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ENE LA RESPONSABILIDAD PRIMORD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MANTENIMIENTO DE LA PAZ Y SEGURIDAD INTERNACIONA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S DECISIONES SON OBLIGATORIAS PARA SUS MIEMBR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SOLO EN 1990 POR EL ACTO DE AGRESION DE IRAK CONTRA KUWAI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OPTO  MEDIDAS  EN EL MARCO DEL CAPITULO VII DE LA ON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993960" y="0"/>
            <a:ext cx="7719840" cy="69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OLUCIÓN PACÍFICA DE LAS CONTROVERSI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DIP EXIST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OBLIGACIÓN DE SOLUCIONAR LAS CONTROVERS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MEDIOS PACIFIC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T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3 Y ART 33 DE LA ON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EL PRINCIPIO DE LA LIBRE ELECCIÓN DE LOS MEDI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UNICO MEDIO DE ARREGLO OBLIGATORIO PARA LAS PAR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EL JURISDICC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RBITR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O  JUDICI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RECURSO A ESTE MEDIO ES VOLUNTARI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PRECURSORES DEL D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OLOGOS ESPAÑO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FRANCISCO DE VITORIA SIGLO XV  Y SIGLO XV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ADRE SUAREZ  SIGLO XVI-  SIGLO XVI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LBERICO GENTILI  SIGLO XVI—SIGLO XVI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MAS IMPORTA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HOLANDES HUGO GROCIO  SIGLO XVI—SIGLO XVI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AS—---MARE LIBERUM—Y DE JURE  BELLI AC PACI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890280" y="0"/>
            <a:ext cx="8242920" cy="69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OMUNIDAD INTERNAC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ORIGEN D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NACIMIENTO SIGLO XVI Y XVII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 ESTADOS EUROPE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 NACE EN LA MODERNIDAD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    SISTEMA EUROPEO     ESTADO – N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   RENACIMIENTO EUROPEO     Y  LA  REFORM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OMPORTAMIENTOS OBLIGATORI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TIEMPOS DE GUER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TIEMPOS DE PAZ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 DEL DIP ACTUAL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  BASAN EN PRACTICAS SOBR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NMUNIDADES  DIPLOMÁTIC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RISIONEROS DE GUER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RBITRAJES ETC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DAD MEDIA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 OBLIGATORIAS PARA LAS COMUNIDADES FEUDALE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ESTADOS MODERNOS EUROPEOS CRISTIAN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PODERIO ECONOMICO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MILITAR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MENTARON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UEVO SISTEM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JURÍDICO UNIVERSA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UESTO A COMUNIDADES  NO EUROPE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990720" y="380880"/>
            <a:ext cx="8467560" cy="62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ANTIGÜEDAD Y LOS TIEMPOS MODERNOS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EA DE UN ESTADO UNIVERS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ERECHO ROMANO SE ADAPTA A NUEVAS NECESIDADES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ASI   APAREC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IUS  GENTIUM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JUNTO DE COSTUMBRES CREADAS  Y PUESTAS  EN PRACT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TODOS LOS PUEBLOS  EN EL IMPERIO ROMANO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”.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RENACIMIENTO  Y REFORMA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LERAN FIN  DEL SISTEMA FEUD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PAZ DE WESTFALIA  ( 1648 )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SO FIN A LA GUERRA DE LOS 30 AÑ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    HOLANDA( PAIS PROTESTANTE) Y LOS PAISES BAJOS( CATÓLICO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MOTIVOS POLÍTICO-RELIGIOSO)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 PAZ DE WESTFALI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MENTO HISTORICO POR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PTACIÓN DE UN NUEVO ORD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JURID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OLIT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Y RELIGIOSO  EN EUROP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072440" y="533520"/>
            <a:ext cx="7117920" cy="55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OMIENZA LA ERA DEL ESTADO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L IMPERIO ES REEMPLAZADO POR LOS 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URGEN   GRANDES POTENC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NGLATERRA—ESPAÑA—PORTUGAL—FRANCIA—SUECI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Y LOS PAISES BAJ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E PROCESO EXPRESA  UN NUEVO DERECHO PUBLICO EUROPE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SE ESTRUCTURA SOBRE LAS BASES DE UNA COMUNIDAD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ESCENTRALIZ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ESORGANIZ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RINCIPIO DE IGUALDAD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RÍDICA DE LOS 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Y DE LA SOBERANIA TERRITOR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ANSION DE IMPERIO ING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N LAS INDIAS     Y      EN AMERIC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 EXPENSAS DE  FRANCIA  Y DE ESPAÑ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999720" y="409680"/>
            <a:ext cx="787500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EPENDENCIA D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 DE JULIO  DE  1776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ITIMIDAD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MOCRAT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BR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ONSENTIMIENTO  DE LOS PUEBL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OLUCION FRANCESA  178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CIPI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ECHO DE LOS PUEBLO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DISPONER D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I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SM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Y DERECHOS DE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HOMBR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IUDADAN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GRESO D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IEN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15.-        RECONSTRUIR   EL   MAPA  DE  EUROP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IDENT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ONRO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23-   ENUNCIA-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CTRINA  MONRO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-- D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ÍTIC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XTERIOR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ORTEAMERICAN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ERIC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AR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MERICANOS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DAD  DE  ITALIA  Y  DE ALEMANIA-   SEGUND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ITAD  SIGLO XIX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AMERIC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99 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OMIENZA EL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STEM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AMERICAN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ROHIBICION   FUERZ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OLUCION   PACIFICA 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 LAS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CONTROVERSIA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DIFIC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U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ITUCIONALIZACION D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UNIDAD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TERNAC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CTIV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ROCESO  DESCOLONIZACIÓN  RESOLUCIÓN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1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URGE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UEV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ADOS EN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1960 L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COLONIZACIÓ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LER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FR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069920" y="328680"/>
            <a:ext cx="4827600" cy="17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STRUCTURA ESTAT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NTRALIZ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JERARQUIZ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ORGAN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Y ORGANOS CENTR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ODER EJECUTIVO-LEGISLATIVO- JUDICIAL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70640" y="2462040"/>
            <a:ext cx="768960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STRUCTURA INTERNAC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ESCENTRALIZ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NORGANIC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ARITA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GUALITARI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NO HAY ORGANOS CENTR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AMBITOS PARTICULARES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E CENTRALIZACIÓN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COMUNIDAD EUROPEA  Y CONSEJO DE SEGURIDAD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E  FUERTE PODER  DEL CONSEJO EN LA PAZ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IP ES UN DERECHO QUE RESPONDE A UN MEDIO SOCIAL DIFERENTE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ESTAN PRESENTES  LAS  FUNCIONES  BASIC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JUDICIAL   -LEGISLATIVA--  EJECUTIV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E UNA MANERA DISTIN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PROPIADA A LA COMUNIDAD INTERNACIONAL</a:t>
            </a: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067400" y="914400"/>
            <a:ext cx="7840800" cy="48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ATEGORÍAS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E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NORMAS QUE RIGEN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AS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RELACIONES  ENTR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OS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STA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-DERECHO INTERNACIONAL—NORMAS INTER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CORTESIA INTERNACION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TEGORÍA NORMATIVA  NO  JURÍDICA.-NO SON NORMAS JURÍDIC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FACILITAN LA CONVIVENCIA- ENTRE  LOS  SUJETOS INTERNACIONALE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ONTENIDO DE ESTAS NORMAS ES DE MENOR RELEVANCI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UNA NORMA DE CORTESÍA PUEDE CONVERTIR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N NORMA JURÍDIC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LGUNAS NORMAS DE PROTOCOLO SON US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LOS ESTADOS CUMPL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NO ESTAN OBLIGADOS A HACERL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101960" y="0"/>
            <a:ext cx="8038440" cy="70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NTRODUC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CIPLINA DE LAS RELACIONES INTERNACION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TO DEL DIP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JURÍDICA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N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ACIONE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TER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GLO XVIII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RIST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RITÁNICO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REMIA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NTHAM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TILIZO  L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RESIO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 INTERNATIONA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W”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 QUEDO COMO DERECH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CIÓN  DEL  DIP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 LAS RELACIONES ENTRE LOS ESTADOS INDEPENDIE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CIÓN INCOMPLET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QU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P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MBIÉN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LACIONE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RO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JETO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SANTA SE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ORGANIZACIONES INTER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GRUPOS NACIONALES INSURREC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ECHO INTERNACIONAL PUBLIC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DERECHO INTERNACIONAL PRIV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ISTINCION ENTRE  AMBOS, EN CUANT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L CONTENI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FUE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Y METO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960480" y="609480"/>
            <a:ext cx="8366040" cy="54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LASIFICACION DE LAS NORMAS JURÍDIC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ONVEN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ONSUETUDINAR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BILATERALES—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MULTILATER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 PARTICULAR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GENER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  PARTICULAR—OBLIGAN  A UN GRUPO DETERMINADO DE 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 GENERAL.—OBLIGAN A  TODOS LOS ESTAD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 QUE OBLIGAN A TODOS LOS ESTAD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N NORMAS CONSUETUDINARIA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ERTOS ESTAD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EXCLUYEN</a:t>
            </a: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LA APLICACIÓN DE UNA NORM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PROCESO PREVIO A LA POSITIVACIO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</a:t>
            </a: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HAZO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PRECEDE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EL ESTADO   RECALCITRANTE  U   OBJETOR PERSISTENTE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990720" y="380880"/>
            <a:ext cx="8153280" cy="57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-DISPOSITIV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MPERATIVAS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ORMAS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ISPOSITIVAS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 JURÍDICAS OBLIGATOR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TEN ACUERDO  EN CONTRAR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DOS ESTADOS CONVIENEN UNA RENUNCIA BILATERAL  A   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MUNIDAD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  JURISDICCIÓN.-)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ORMAS IMPERATIVAS.-O DE IUS COGENS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 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 JURÍDICA OBLIGATO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NO ADMITE ACUERDO EN CONTRAR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DO ACUERDO EN CONTRARIO</a:t>
            </a: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NUL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-PROHIBICION DEL USO DE LA FUERZA ETC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N U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MIT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UTONOMI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UNTAD  DE  LOS  ESTAD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MERA CONSAGRACIÓN POSITIVA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T 53   CONVENCION DE VIENA SOBRE DERECHO DE LOS TRATADOS 1969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ART 53 DEFINE  LA NORMA IMPERATIV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989640" y="380880"/>
            <a:ext cx="7260120" cy="62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OMINIO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RESERVADO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E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LOS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ESTADOS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 O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COMPETENCI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OMESTICA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MBITOS ESTATALES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DE NO  HAY   NORMAS INTER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 PRESCRIBAN  DETERMINADOS  COMPORTAMIEN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 LOS ESTAD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OMINIO REGLADO DEL   ESTADO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ESTADO CELEBRA UN TRATADO SOBRE UNA MATE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SUME UNA OBLIGACIÓN INTERNAC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QUE LIMITA  SU ACCION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OMINIO RESERVADO  EN EL DIP CLÁSICO ERA MAS AMPLI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Y POR LA GLOBALIZACIÓN Y LA INTERDEPEND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LEBRAN TRATADOS SOBRE DISTINTAS MATER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N LAS QUE ACTUAN DE ACUER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 LAS OBLIGACIONES CONTRAÍDAS EN LOS TRATADOS.-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ESTADO REGLA SU COMPORTAMIEN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NORMAS INTERNACIONALE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 PERDIENDO SU DOMINIO RESERVAD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 DDHH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584360" y="3920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76400" y="1219320"/>
            <a:ext cx="722772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RATO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NACIONAL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IN LIMITE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TO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RANJER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NDAR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INIMO INTERNACION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 ESTADO NO RESPETA STAND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S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INIMO INTERNAC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RANJERO RECURRE DE AMPARO O PROTECCIÓN DIPLOMÁTIC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U ESTAD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DHH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APAREC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FERENCI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DO DEBE TRATAR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ACIONALE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XTRANJER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GÚN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TADO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BR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DHH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UMIDO.-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071000" y="712800"/>
            <a:ext cx="770508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ERECHO INTERNACIONAL PRIV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LUCIONAR CONFLICTOS DE LEYE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NDO INTERVIENE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UNO O MAS ELEMENTOS EXTRANJER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XISTAN VARIAS LEGISLACIONES CONCURRE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ERECHO INTERNACIONAL PRIVAD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 LA SOLUCIO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C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ISLACIÓN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CIONA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CUENTR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LAS  S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IENE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ISLACIONE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D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AD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LAS QUE PUEDEN CODIFICARS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RA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 CODIGO DE BUSTAMANTE   AÑO  192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CONTENIDO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BR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STINATARI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ORTANT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QUE   Y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ND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AD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MPLEN O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RINGEN  EL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L DIP  OPERA EN LA COMUNIDAD INTERNACION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0"/>
            <a:ext cx="8153280" cy="64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ARACTERÍSTICAS  DE LA COMUNIDAD   INTERNAC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PRESENCIA DE SUJETOS DE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ANTA SE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ORGANIZACIONES INTER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GRUPOS INSURRECTOS RECONOCIDOS COMO BELIGERANTE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 ESTRUCTURA—PARITA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HAY SUBORINACION ENTRE 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RINCIPIO-   IGUALDAD DE LOS ESTADOS ANTE EL DIP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NDEPEND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EBER DE NO INTERVENCIÓN EN LOS ASUNTOS DE OTROS ESTADOS.-ON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- NUMERO DE SUJETOS—REDUCI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- AMBITO—UNIVERS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- INORGÁN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NO EXISTEN ORGANOS DE CARÁCTER ESTABLE Y PERMANE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- DESCENTRALIZAD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.- COMPOSICIÓN-INTERESTAT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066680" y="609480"/>
            <a:ext cx="6416640" cy="54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INUACIÓN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 CARACTERIZADO P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ARENCIA  DE  INSTITUCIONES ( INCERTIDUMBRE)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NSUFICIENTE  LA SANCION DE LAS VIOLACIONE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EXISTE UN PODER LEGISLATIV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ASAMBLEA GENERAL ADOPTA RESOLUCIONES NO OBLIGATOR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LIGACIONES DE COMPORTAMIEN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NER LOS MEDIOS PARA UN RESULTADO SIN EXIGIRL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SOLUCION DE CONTROVERS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LIGACIONES DE RESULT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ONEN EL DEBER DE ALCANZAR  UN F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NO RECURRIR A LA AMENAZA O AL USO DE LA FUERZ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990720" y="0"/>
            <a:ext cx="8153280" cy="68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EFINICIÓN DEL D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 IDENTIFICAR DENTRO DE TODAS LAS NORMAS JURÍDICA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A REGLA DE DIP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DEFINIR EL DIP  POR SUS DESTINATARIOS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:  CONJUNTO DE NORMAS QUE REGULAN LAS RELACIONES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SUJETOS DEL DIP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  DEFINIRLO POR EL CONTENIDO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- DEFINIRLO POR LA CREACIÓN DE LAS REGLAS-POR SUS FUENTES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PRESCINDE DE LA 1ª  PORQUE EL DIP SE REFIERE A LA RELACION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D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SE DESCARTA EL CRITERIO MATERIAL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PORQUE EL CONTENIDO DEL DIP  ES CAMBIANTE- FLUIDO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EJ PROTECCIÓN DE LOS DERECHOS HUMANO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EN 1789  FUERON OBJETO DE UNA DECLARACIÓN DE LA ASAMBLEA 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ITUYENTE FRANCES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Y EL 10- DE  DICIEMBRE DE 1948 SON PARTE INTEGRANTE DE L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DECLARACIÓN DE LA ASAMBLEA  GENERAL DE LA ONU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Y EL 4 DE  NOVIEMBRE  DE 1950, RECIBEN  UNA  PROTECCIÓ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INTERNACIONAL EFECTIVA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POR LA CONVENCIÓN SOBRE SALVAGUARD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DE LOS DERECHOS DEL HOMBRE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ADOPTADA  EN EL MARCO DEL CONSEJO DE  EUROPA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074960" y="0"/>
            <a:ext cx="8187480" cy="75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UED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FINIR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TERI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ORQU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EDE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RESPONDER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UEV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ALIDAD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O EXIST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GL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EMENTO FIJ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CAMBI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 EL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CEDENCI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P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  DEFIN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L CONJUNTO DE NORMAS POSITIVAD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LOS PODERES NORMATIVOS DE LA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UNIDAD INTERNACION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JURISPRUDENCIA  HAY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CIONES DEL DIP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LAS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UNTARISTAS   FUNDAMENTAN  EL  DIP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LA VOLUNTAD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ESTADOS.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 LA QU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ZO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 CORT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MANENT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STICI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TERNACION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SO LOTU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P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IG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LACION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D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DEPENDIENT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L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ECH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QU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NCULA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D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DE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UNTAD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UNTAD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IFESTAD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ONVENCIONES O EN US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CEPTAN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LMENT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AGRADORES D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RINCIPIOS  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ECHO Y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BLECIDOS CO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R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EXISTENCIA 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S COMUNIDAD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EPENDIENT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O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T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SECUCIÓ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ES COMUNES.-“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 DEFINICIÓ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O COINCIDE CO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 JURISPRUDENCIA INTERNACIONAL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QU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O HAY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ONVENCIONAL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I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ETUDINARI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LICA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CIPI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GENERAL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RECH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YO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SGO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ESNCIAL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RMINA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RDE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TERNO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AD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HÍ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GE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RISDICCIONES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PLICA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ICI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SUELVAN.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OS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CIPI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O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CEPTAD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OR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D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ACION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.: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BUENA F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Y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S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JUZGADA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EN TAMBIEN LOS PRINCIPIOS PROPIOS DEL DIP  ART  2  DE LA CARTA DE LA ONU.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082880" y="0"/>
            <a:ext cx="7968240" cy="68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L DIP Y LAS NORMAS DE CORTESÍA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IP SE DISTINGUE  DE LA MORAL O CORTESÍA INTERNACIONAL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POR LA RESPONSABILIDA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POR  EL GRADO DISTINTO  EN LAS SANCIONES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VIOLACIÓN DE UNA NORMA INTERNACIONAL ACARREA 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PONSABILIDAD INTERNACIONAL 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VIOLACIÓN DE UNA NORMA DE CORTESÍA INTERNACIONAL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IMPLICA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PONSABILIDAD INTERNACIONAL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O REPULSIÓN DE LA OPINIÓN PUBLICA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ORMAS DE CORTESÍA INTERNACIONAL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EMPLOS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   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ALUDAR BANDERA-BUQUES DE GUERR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USAR PAPEL BLANCO CORRESPONDENCIA DIPLOMÁTICA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NORMAS DE  CORTESÍA –LOS USOS INTERNACIONALE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TRANSFORMAN EN NORMAS JURÍDICAS INTERNACIONALE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NDO AL ELEMENTO MATERIAL SE  UNE LA  OPINIO JURIS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ES LA CONVICCIÓN DE QUE LOS USOS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LIGAN JURÍDICAMENTE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INMUNIDADES Y PRIVILEGIOS DIPLOMÁTICOS NACIERON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A MANERA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 DEL DIP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LAMENTAR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S RELACIONES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LOS SUJETOS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 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COMUNIDA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.-        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993600" y="380880"/>
            <a:ext cx="7486920" cy="60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ES LEGISLATIVA-  EJECUTIVA  Y JUDICIAL  EN EL  D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A FUNCION LEGISLATI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DIP NO EXISTE UN ORGANO LEGISLATIVO CENTRALIZADO Y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MANENT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O EN DERECHO INTER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 LEGISLATIVA INTERNAC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DESCENTRALIZ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 VOLUNTAD DE LOS ESTADOS EN LA CREACIÓN DE LA NORM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SE MANIFIESTA EN EL DERECHO CONVENCIONAL)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QUE LOS TRATADOS SOLO OBLIGAN A LOS ESTADOS PAR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LA COSTUMBRE- CONDUCTA COINCIDENTE DE LOS ESTAD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DERECHO INTER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LA CREACIÓN DE LA NORMA NO PARTICIPAN SUS DESTINATARI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LES IMPONE LA NORM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D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ESTADOS CREAN LAS NORMAS Y ELLOS SON LOS DESTINATARI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4T01:13:57Z</dcterms:created>
  <dc:creator>Héctor Escobar</dc:creator>
  <dc:description/>
  <dc:language>en-US</dc:language>
  <cp:lastModifiedBy>GILDA CICCI SALAZAR</cp:lastModifiedBy>
  <dcterms:modified xsi:type="dcterms:W3CDTF">2004-03-20T23:55:20Z</dcterms:modified>
  <cp:revision>21</cp:revision>
  <dc:subject/>
  <dc:title>Derecho Internacional Público</dc:title>
</cp:coreProperties>
</file>