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4D7-0622-4F5F-A2AA-8706F8BB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702-4414-4BC7-AB15-01747A7B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F9F-8E80-4CD5-AFCB-F4653176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D4F-3B9C-4339-867C-1D6668A9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4925-76AE-43E3-8A6C-B6C3E094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23A7-85C1-4E17-9B5E-E28D4C31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16C3-E43B-4CA1-BA16-195FD29C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ACA3-1345-4E18-809C-0FD82F7B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3967-FBD0-4EE1-A4A1-74595038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9DE3-C529-4F46-B72F-F099E8E9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D4D2-CB4E-4EF1-9A4F-66D1C3F6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BA6-F208-4A02-BC2B-5BED6441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91E8-23F1-4458-90C4-A2A4F0EC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D30D-1330-48EC-8E81-E81AFD20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4D53-6470-4CE1-B186-6523EC25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2837-EBEA-4272-BCC3-6AD56F24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844F-4B36-476B-825D-0635CB84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0A6-52BC-4CF2-B459-4AA5B5FA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ECA8-678E-44CB-B06A-B2E4EFCD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36B-5555-47D7-8DBB-FA0A139B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F900-FF5F-4F3E-B365-BF92D346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E1E-9F90-4A99-873C-B3FD695F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BEA-840F-4872-A826-3B9C24F3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6CF7-FFA1-45FC-B22C-9F633B19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602C-B686-4F9B-A6E5-C23CE77F54D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4F8F-4531-47B5-A9B9-E76CCD2F882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COSTUMBRE INTERNACIONAL</a:t>
            </a:r>
            <a:br>
              <a:rPr sz="4400"/>
            </a:b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s-MX" sz="2400" spc="-1" strike="noStrike">
                <a:solidFill>
                  <a:srgbClr val="ffcc00"/>
                </a:solidFill>
                <a:latin typeface="Arial Black"/>
              </a:rPr>
              <a:t>Profesora Gilda Cicc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FUENTE FORMAL D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rt. 38 ESTATUTO CIJ-O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3045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EMENTOS ESENCIALES DE CARÁCTER OBJETIVO “ USO CONSTANTE Y UNIFORME” EMPLEADOS POR LA CI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 CASO ASILO Y DE DERECHO DE PASO EN TERRITORIO DE LA IN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 DICTUM FALLO ARBITRAL ACUERDO AEREO ENTRE ITALIA Y USADIJO: DEBE SER “ CONSTANTE, EFECTIVAMENTE SEGUIDA Y SIN CAMBIO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OMISIÓN Y ABSTENCIÓN CONTRIBUYEN COMO LA ACCION A CONSTITUIR EL ELEMENTO MATERIAL DE LA COSTUMB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 CASO LOTUS: LA  CPJI ESTABLECIO:  ABSTENCIÓN REPETIDA PODRIA CONSTITUIR COSTUMBRE INTERNACIONAL SIEMPRE QUE EXISTIERA LA OPINIO JU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PJI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AY COSTUMBRE SI ABSTENCIÓN ESTUVIERA MOTIVADA POR CONCIENCIA DEBER DE  ABSTEN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TADOS SE HAN ABSTENIDO DE EJERCER DILIGENCIAS PENALES Y NO QUE SE RECONOCIESEN OBLIGADOS A ACTUAR ASI SOLO HAY COSTUMBRE SI LA ABSTENCIÓN ESTUVIESE MOTIVADA POR LA CONCIENCIA DE UN DEBER DE  ABSTENERS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ACT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STANTE Y UNIFOR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IJ CASO PLATAFORMA CONTINENTAL  DEL MAR DEL NO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FIC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IN QUE HAYA TRANSCURRIDO UN LARGO PERIODO DE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NA PARTICIPACIÓN MUY AMPLIA Y REPRESENTATIVA EN EL CONVEN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 ES NECESARIA LA UNANIM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 REQUIERE LA PARTICIPACIÓN GENERALIZADA DE LA COMUNIDAD INTER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304560"/>
            <a:ext cx="86108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 ACTOS O ABSTENCIONES SON REALIZADOS POR ORGANOS DEL ES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URACIÓN DE LA PRAC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JURISPRUDENCIA INTERNACIONAL NO EXIGE UN TIREMPO DETRMINADO DE DURACIÓN DE LA PRAC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 EL DIP CLÁSICO SE HABLABA DE  UNA PRACTICA DESDE TIEMPO INMEM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OY PRACTICA GENERAL CON RECONOCIMIENTO GENERAL QUE SE LOGRE EN BREVE- MEDIANO- O LARGO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824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MPORTA QUE PRACTICA HAYA SIDO FRECUENTE Y UNIFORME Y QUE HAYA TENIDO UN RECONOCIMIENTO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R CORTO QUE SEA EL PLAZO DEBE HABER REPETICIÓN DE PRECEDENTES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EMENTO SICOLOGICO-SUBJETIVO-ESPIRI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 BASTA LA REPETICIÓN DE PRECEDENTES AUNQUE SE TRATE DE ACTOS O ABSTENCIONES CONSTANTES Y UNIFOR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ELEMENTO SICOLOGICO ESTA CONSTITUIDO POR LA CONVICCIÓN DE  LOS ESTADOS Y OTROS SUJETOS QUE LOS ACTOS O ABSTENCIONES LOS REALIZAN COMO EJERCICIO DE UN DERECHO O COMO CUMPLIMIENTO DE UNA OBLIG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 DENOMINA OPINIO JUR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 DISTINGUE LA COSTUMBRE DE L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ROS USOS O DE LA CORTESÍA INTERNAC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 TAMBIEN DE LOS ACTOS REALIZADOS POR RAZONES DE CONVENI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ARIAS SENTENCIAS HAN RECONOCIDO LA NECESIDAD DE ESTE ELEMENTO SUBJETIVO. LOTUS-SE HABIA ALEGADO LA ABSTENCIÓN SE RECHAZO ESTA ALEGACIÓN AL NO PROBARSE LA OPINIO JU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ASO ASILO AUSENCIA DE OPINIO JURIS DESCARTO EXISTENCIA DE UNA COSTUMBRE REGION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 CASO PLATAFORMA CONTINENTAL CVIJ 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“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OS ACTOS NO SOLAMENTE DEBEN SUPONER UNA PRACTICA CONSTANTE SINO TAMBIEN DEBEN TENER TAL CARÁCTER O REALIZARSE DE TAL FORMA QUE DEMUESTREN LA CREENCIA DE QUE DICHA PRACTICA SE ESTIMA OBLIGATORIA EN VIRTUD DE UNA NORMA JURÍDICA QUE LA PRESCRIB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22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A NECESIDAD DE TAL CREENCIA ES DECIE: LA EXISTENCIA DE UN ELEMENTO SUBJETIVO SE HAY IMPLÍCITA EN EL PROPIO CONCEPTO DE OPINIO JU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OS ESTADOS INTERESADOS DEBEN SENTIR QUE CUMPLEN LO QUE SUPONE UNA OBLIGACIÓN JURÍD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I LA FRECUENCIA NI EL CARÁCTER HABITUAL DE LOS ACTOS ES BAST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AY ACTOS INTERNACIONALES QUE EN PROTOCOLO SON REALIZADOS OBEDECIENDO A SIMPLES CONSIDERACIONES DE CORTESÍA DE CONVENIENCIA O DE TRADICIÓN Y NO A UN SENTIMIENTO DE DEBER JURÍD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COSTUMB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UENTE EXTRACONVENCIONAL   ESPONTÁNEA FORMAL AUTON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 RESULTA DE LA MANIFESTACIÓN DE VOLUNTAD DE CREAR NORMAS JURÍD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INO DE UN CONJUNTO DE COMPORTAMIENTOS DE SUJETOS DE DERECH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92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LASIFICACION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rt. 38 ESTATUTO CIJ SE REFIERE A COSTUMBRES GENER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ERO LA JURISPRUDENCIA Y LA DOCTRINA RECONOCEN LA EXISTENCIA DE COSTUMBRES REGIONALES Y LOCALES O BILATER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IMPORTANCIA COSTUMB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DIP NACE COMO ORDENAMIENTO JURÍDICO BASADO EN LA COSTUMB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ARÁCTER DESCETRALIZADO DE SOCIEDAD INTERN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QUE CARECE DE LEGISLADO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 EPOCAS REC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 CODIFICAN ASPECTOS REGULADOS POR EL DERECHO CONSUETUDIN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P GENERAL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OY REGIDO FUNDAMENTALMENTE POR LA COSTUMB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S EN QUE EXISTEN CONVEN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STUMBRE RIGE MATERIAS NO CONTEMPLADAS O NO SUFICIENTEMENTE DESARROLLADAS EN LA CONVEN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 RIGE PARA LOS ESTADOS QUE NO SON PARTE EN EL TRA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I TRATADO CODIFICO COSTUMBRE, LA COSTUMBRE ES EL MISMO TEXTO DE LA NORMA CONVEN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RECHO DE LOS TRATADOS SE BASA EN UNA NORMA CONSUETUDIN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ACTA SUNT SERV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A INTERNACIONAL DESCENTRALIZ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ENTAJA COSTUMBRE: SE ADAPTA A TRANSFORMACIONES DE RELACIONES INTERNACIONALES. FUENTE MAS FLEXIBLE. QUE LOS TRA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S CONVENCIONES DEMORAN AÑOS EN ENTRAR EN VIGENC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J. LA CONVENCIÓN DE ONU SOBRE DERECHO DEL MAR 1982 ENTRO EN VIGENCIA 16 NOVIEMBRE 19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EN CAMBIO SE ENCUENTRAN EN VIGOR A TRAVES DE LA COSTUMB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CEPTOS COMO ZEE EJ VALOR MODIFICATORIO DE LA COSTUMBRE EN RELACION CON LA CONVEN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NVENCIONES PUNTO DE PARTIDA DE REGLAS CONSUETUDINARIAS 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RISTALIZADOR DE  REGLAS CONSUETUDINAR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 ES NECESARIO UN TIEMPO INMEMORIAL COMO ANTIGUAMENTE SE REQUERIA PARA LA FORMACIÓN DE LA COSTUMBRE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22860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STUMBRE CAMPOS MAS VA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J CIJ CASO NICARAGU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IJ ENGLOBO EN DERECHO CONSUETUDINARIO PRINCIOS DE NO INTERVENCIÓN- NO RECURSO A LA FUERZA- SOLUCION PACIFICA DE LAS CONTROVERSIAS ( CONCEPTO JURÍDICO FUNDAMENTAL SOBERANIA ESTADOS EN DERECHO CONSUETUDINA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SVENTAJAS COSTUMB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CERTIDUMBRE-IMPREC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 DIVERSAS COSTUMBRES SOBRE MISMA MA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EMENTOS COSTUMBRE INTER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OS ELEMENTOS NECESARIOS PARA CONSTITUIR COSTUMB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.- ELEMENTO MATERIAL-OBJETIVO-HISTOR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EMENTO CONSTITUIDO P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PRACTICA DE LOS ESTADOS Y DE OTROS SUJETOS DE D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ORMADA P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REPETICIÓN CONSTANTE Y UNIFORME DE ACTOS O ABSTEN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 DENOMINAN PRECED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22:38:45Z</dcterms:created>
  <dc:creator>aristide cicci</dc:creator>
  <dc:description/>
  <dc:language>en-US</dc:language>
  <cp:lastModifiedBy>GILDA CICCI SALAZAR</cp:lastModifiedBy>
  <dcterms:modified xsi:type="dcterms:W3CDTF">2005-09-11T22:42:52Z</dcterms:modified>
  <cp:revision>23</cp:revision>
  <dc:subject/>
  <dc:title>COSTUMBRE INTERNACIONAL</dc:title>
</cp:coreProperties>
</file>