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90F-383D-4D24-A118-3E4C3453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6D1-CAC3-45AA-9EE9-9187080F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416-A72C-4066-9B46-06F36A4C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8B5-EE2D-40B0-8F3E-AFEC25EC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78BA-7DAA-4517-BC0A-5999C492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4512-D62E-4810-A96A-C7E9FA27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0888-1509-47E9-8720-E9FE27F2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7F69-0DED-4B27-BA25-C5CB916A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6B7B-1CF4-42F5-A9F3-05FACDCB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B604-FC8B-469F-BE2D-F95EBA67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99BC-3442-440B-9CC9-39AA238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43D-04C2-4FA2-8FB6-1885F2BD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1587-1029-4EDD-89DF-EB8CBB6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D7F3-ECBD-447C-8319-C12F3A5B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E796-3353-4471-B2ED-DD2E5754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05CE-B5FD-470B-99EB-E2E93A14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D198-EC4C-413A-A157-25D32F33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1CA-3414-4A19-9097-853EF11A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829-BB4C-4BC9-A267-B9BE65CC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D4D-35F2-4969-8F63-155CA8E4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9D6-89E8-4E53-8E76-4020007E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449-C4A9-4DFA-BB95-CD886B17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189-2823-4FE2-807D-E81531E0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CCF-EAEC-4E0B-B804-9D2EE070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D531-E7CF-4623-BAF4-B2FB2E6683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C9D9-4BD7-4C61-8E27-060929491B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OSTUMBRE INTERNACIONAL</a:t>
            </a:r>
            <a:br>
              <a:rPr sz="4400"/>
            </a:b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s-MX" sz="2400" spc="-1" strike="noStrike">
                <a:solidFill>
                  <a:srgbClr val="ffcc00"/>
                </a:solidFill>
                <a:latin typeface="Arial Black"/>
              </a:rPr>
              <a:t>Profesora Gilda Cicc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UENTE FORMAL D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. 38 ESTATUTO CIJ-O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S ESENCIALES DE CARÁCTER OBJETIVO “ USO CONSTANTE Y UNIFORME” EMPLEADOS POR LA CI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CASO ASILO Y DE DERECHO DE PASO EN TERRITORIO DE LA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DICTUM FALLO ARBITRAL ACUERDO AEREO ENTRE ITALIA Y USADIJO: DEBE SER “ CONSTANTE, EFECTIVAMENTE SEGUIDA Y SIN CAMBI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OMISIÓN Y ABSTENCIÓN CONTRIBUYEN COMO LA ACCION A CONSTITUIR EL ELEMENTO MATERIAL DE LA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CASO LOTUS: LA  CPJI ESTABLECIO:  ABSTENCIÓN REPETIDA PODRIA CONSTITUIR COSTUMBRE INTERNACIONAL SIEMPRE QUE EXISTIERA LA OPINIO JU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PJI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Y COSTUMBRE SI ABSTENCIÓN ESTUVIERA MOTIVADA POR CONCIENCIA DEBER DE  ABSTEN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SE HAN ABSTENIDO DE EJERCER DILIGENCIAS PENALES Y NO QUE SE RECONOCIESEN OBLIGADOS A ACTUAR ASI SOLO HAY COSTUMBRE SI LA ABSTENCIÓN ESTUVIESE MOTIVADA POR LA CONCIENCIA DE UN DEBER DE  ABSTENERS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ACT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STANTE Y UNIFOR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IJ CASO PLATAFORMA CONTINENTAL  DEL MAR DEL NO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FI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 QUE HAYA TRANSCURRIDO UN LARGO PERIODO DE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A PARTICIPACIÓN MUY AMPLIA Y REPRESENTATIVA EN EL CONVEN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ES NECESARIA LA UNANIM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REQUIERE LA PARTICIPACIÓN GENERALIZADA DE LA COMUNIDAD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6108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ACTOS O ABSTENCIONES SON REALIZADOS POR ORGANOS DEL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URACIÓN DE LA PRA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URISPRUDENCIA INTERNACIONAL NO EXIGE UN TIREMPO DETRMINADO DE DURACIÓN DE LA PRA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DIP CLÁSICO SE HABLABA DE  UNA PRACTICA DESDE TIEMPO INMEM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Y PRACTICA GENERAL CON RECONOCIMIENTO GENERAL QUE SE LOGRE EN BREVE- MEDIANO- O LARGO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ORTA QUE PRACTICA HAYA SIDO FRECUENTE Y UNIFORME Y QUE HAYA TENIDO UN RECONOCIMIENTO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R CORTO QUE SEA EL PLAZO DEBE HABER REPETICIÓN DE PRECEDENTES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 SICOLOGICO-SUBJETIVO-ESPIRI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BASTA LA REPETICIÓN DE PRECEDENTES AUNQUE SE TRATE DE ACTOS O ABSTENCIONES CONSTANTES Y UNIFOR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LEMENTO SICOLOGICO ESTA CONSTITUIDO POR LA CONVICCIÓN DE  LOS ESTADOS Y OTROS SUJETOS QUE LOS ACTOS O ABSTENCIONES LOS REALIZAN COMO EJERCICIO DE UN DERECHO O COMO CUMPLIMIENTO DE UNA OBLI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DENOMINA OPINIO JU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DISTINGUE LA COSTUMBRE DE L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ROS USOS O DE LA CORTESÍA INTERNAC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TAMBIEN DE LOS ACTOS REALIZADOS POR RAZONES DE CONVENI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IAS SENTENCIAS HAN RECONOCIDO LA NECESIDAD DE ESTE ELEMENTO SUBJETIVO. LOTUS-SE HABIA ALEGADO LA ABSTENCIÓN SE RECHAZO ESTA ALEGACIÓN AL NO PROBARSE LA OPINIO JU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SO ASILO AUSENCIA DE OPINIO JURIS DESCARTO EXISTENCIA DE UNA COSTUMBRE REGION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 CASO PLATAFORMA CONTINENTAL CVIJ 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S ACTOS NO SOLAMENTE DEBEN SUPONER UNA PRACTICA CONSTANTE SINO TAMBIEN DEBEN TENER TAL CARÁCTER O REALIZARSE DE TAL FORMA QUE DEMUESTREN LA CREENCIA DE QUE DICHA PRACTICA SE ESTIMA OBLIGATORIA EN VIRTUD DE UNA NORMA JURÍDICA QUE LA PRESCRIB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NECESIDAD DE TAL CREENCIA ES DECIE: LA EXISTENCIA DE UN ELEMENTO SUBJETIVO SE HAY IMPLÍCITA EN EL PROPIO CONCEPTO DE OPINIO JU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ADOS INTERESADOS DEBEN SENTIR QUE CUMPLEN LO QUE SUPONE UNA OBLIGACIÓN JURÍD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I LA FRECUENCIA NI EL CARÁCTER HABITUAL DE LOS ACTOS ES BAS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AY ACTOS INTERNACIONALES QUE EN PROTOCOLO SON REALIZADOS OBEDECIENDO A SIMPLES CONSIDERACIONES DE CORTESÍA DE CONVENIENCIA O DE TRADICIÓN Y NO A UN SENTIMIENTO DE DEBER JURÍD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OSTUMB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ENTE EXTRACONVENCIONAL   ESPONTÁNEA FORMAL AUTO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RESULTA DE LA MANIFESTACIÓN DE VOLUNTAD DE CREAR NORMAS JURÍD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O DE UN CONJUNTO DE COMPORTAMIENTOS DE SUJETOS DE DERECH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92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LASIFICAC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rt. 38 ESTATUTO CIJ SE REFIERE A COSTUMBRES GENE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ERO LA JURISPRUDENCIA Y LA DOCTRINA RECONOCEN LA EXISTENCIA DE COSTUMBRES REGIONALES Y LOCALES O BILATE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IMPORTANCIA COSTUMB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DIP NACE COMO ORDENAMIENTO JURÍDICO BASADO EN LA COSTU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RÁCTER DESCETRALIZADO DE SOCIEDAD INTERN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E CARECE DE LEGISLAD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EPOCAS REC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CODIFICAN ASPECTOS REGULADOS POR EL DERECHO CONSUETUDI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P GENERAL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Y REGIDO FUNDAMENTALMENTE POR LA COSTUM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EN QUE EXISTEN CONVE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UMBRE RIGE MATERIAS NO CONTEMPLADAS O NO SUFICIENTEMENTE DESARROLLADAS EN LA CONVEN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RIGE PARA LOS ESTADOS QUE NO SON PARTE EN EL TRA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I TRATADO CODIFICO COSTUMBRE, LA COSTUMBRE ES EL MISMO TEXTO DE LA NORMA CONVEN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RECHO DE LOS TRATADOS SE BASA EN UNA NORMA CONSUETUDIN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ACTA SUNT SERV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INTERNACIONAL DESCENTRA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ENTAJA COSTUMBRE: SE ADAPTA A TRANSFORMACIONES DE RELACIONES INTERNACIONALES. FUENTE MAS FLEXIBLE. QUE LOS TRA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S CONVENCIONES DEMORAN AÑOS EN ENTRAR EN VIGE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J. LA CONVENCIÓN DE ONU SOBRE DERECHO DEL MAR 1982 ENTRO EN VIGENCIA 16 NOVIEMBRE 19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EN CAMBIO SE ENCUENTRAN EN VIGOR A TRAVES DE LA COSTUM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CEPTOS COMO ZEE EJ VALOR MODIFICATORIO DE LA COSTUMBRE EN RELACION CON LA CONV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NVENCIONES PUNTO DE PARTIDA DE REGLAS CONSUETUDINARIAS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RISTALIZADOR DE  REGLAS CONSUETUDINAR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 ES NECESARIO UN TIEMPO INMEMORIAL COMO ANTIGUAMENTE SE REQUERIA PARA LA FORMACIÓN DE LA COSTUMBRE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UMBRE CAMPOS MAS VA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J CIJ CASO NICARAG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IJ ENGLOBO EN DERECHO CONSUETUDINARIO PRINCIOS DE NO INTERVENCIÓN- NO RECURSO A LA FUERZA- SOLUCION PACIFICA DE LAS CONTROVERSIAS ( CONCEPTO JURÍDICO FUNDAMENTAL SOBERANIA ESTADOS EN DERECHO CONSUETUDIN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VENTAJAS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CERTIDUMBRE-IMPR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 DIVERSAS COSTUMBRES SOBRE MISMA MA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S COSTUMBRE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S ELEMENTOS NECESARIOS PARA CONSTITUIR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.- ELEMENTO MATERIAL-OBJETIVO-HISTO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 CONSTITUIDO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PRACTICA DE LOS ESTADOS Y DE OTROS SUJETOS DE D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RMADA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REPETICIÓN CONSTANTE Y UNIFORME DE ACTOS O ABSTE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DENOMINAN PRECE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22:38:45Z</dcterms:created>
  <dc:creator>aristide cicci</dc:creator>
  <dc:description/>
  <dc:language>en-US</dc:language>
  <cp:lastModifiedBy>GILDA CICCI SALAZAR</cp:lastModifiedBy>
  <dcterms:modified xsi:type="dcterms:W3CDTF">2005-09-11T22:42:52Z</dcterms:modified>
  <cp:revision>23</cp:revision>
  <dc:subject/>
  <dc:title>COSTUMBRE INTERNACIONAL</dc:title>
</cp:coreProperties>
</file>