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CAF3-D280-4EF0-B885-2FE873455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8F032-86E8-4C36-AE6F-FE5884F28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7CB03-5627-4A8F-A4AA-55825A488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8EEA1-FDDB-402A-9709-9BDB820BC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77EB2-B4DB-48D9-AF67-B589CA8AE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9E8DC-DFC0-4554-B087-C7184374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72A4-D03F-4443-838A-9B578C18E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23384-1386-4D1D-82E7-1F8207BC8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745E9-14CD-4533-BA2A-D350B9186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A6C4E-7339-406D-95E7-DE5A387F3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1EC9-A079-487F-BAE7-7F352270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F7DF-F07F-4F2F-B66A-A0D4C1257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C12D6-D7B3-4BA6-A3D2-C4B81C3135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611280" y="990720"/>
            <a:ext cx="7846920" cy="567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LAS ISAPRES</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Y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EL CONTRATO DE SALUD</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LVARO SALAMERO R.</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BOGADO</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esentación actualizada por el prof. CLAUDIO PALAVECIN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609480" y="380880"/>
            <a:ext cx="7772400" cy="603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ncorporación al Régimen de Prestaciones de Salud (Art. 137 DFL 1)</a:t>
            </a:r>
            <a:r>
              <a:rPr b="0" lang="es-ES_tradnl" sz="1800" spc="-1" strike="noStrike" u="sng">
                <a:solidFill>
                  <a:srgbClr val="000000"/>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 produce en forma automática al adquirir la calidad de afiliado o beneficiario y se mantiene mientras subsistan estas calidad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os afiliados pueden en cualquier momento, optar por ingresar con sus beneficiarios a una Isapre, en la forma y condiciones previstas en el DFL 1.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Objeto de las Isapres</a:t>
            </a:r>
            <a:r>
              <a:rPr b="0" lang="es-ES_tradnl"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1 DFL-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rt. 173 DFL-1; Objeto exclusivo:  financiamiento de prestaciones y beneficios de salud, así como las actividades que sean afines o complementarias, las que en ningún caso podrán implicar la ejecución de esas prestaciones y beneficios ni participar en la administración de prestador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o pueden celebrar convenios con los Servicios de Salud para el otorgamiento de los beneficios pactados. Excepción: convenios para la utilízación de pensionados, UCI y atención de servicios de urgencia.</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533520" y="7621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85800"/>
            <a:ext cx="8153280" cy="581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ey 19.650 (Dic/1999</a:t>
            </a:r>
            <a:r>
              <a:rPr b="1"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trodujo modificación al Art. 22 Ley de Isapres (Art. 173 DFL-1), que obliga a las Isapres a hacerse cargo del pago total de los gastos incurridos por sus beneficiarios en cobros de atenciones de </a:t>
            </a:r>
            <a:r>
              <a:rPr b="1" lang="es-ES_tradnl" sz="2000" spc="-1" strike="noStrike" u="sng">
                <a:solidFill>
                  <a:srgbClr val="000000"/>
                </a:solidFill>
                <a:uFillTx/>
                <a:latin typeface="Arial"/>
              </a:rPr>
              <a:t>emergencia y urgencias médicas</a:t>
            </a:r>
            <a:r>
              <a:rPr b="1" lang="es-ES_tradnl" sz="2000" spc="-1" strike="noStrike">
                <a:solidFill>
                  <a:srgbClr val="000000"/>
                </a:solidFill>
                <a:latin typeface="Arial"/>
              </a:rPr>
              <a:t>, ya que las clínicas y hospitales no pueden exigir cheques u otros documentos de pago como garantía. Una vez efectuado el pago a la clínica u hospital respectivo, la Isapre debe cobrar el valor al afiliado que usó el servic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 entiende que las Isapres han otorgado un préstamo al afiliado por la parte del valor de las prestaciones que sea de cargo de éste, si en el plazo de 30 días desde que la Isapre pagó al prestador, el afiliado no ha enterado dicho monto en la Isap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l préstamo debe pagarse por el afiliado en cuotas iguales y sucesivas, en forma directa si es independiente o voluntario o a través del empleador o entidad previsional, si es dependiente o pensionado</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609480" y="304920"/>
            <a:ext cx="822960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FILIACIÓN:</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os afiliados que opten por aportar su cotización para salud en una Isapre, deben suscribir un C</a:t>
            </a:r>
            <a:r>
              <a:rPr b="1" lang="es-ES_tradnl" sz="2000" spc="-1" strike="noStrike" u="sng">
                <a:solidFill>
                  <a:srgbClr val="000000"/>
                </a:solidFill>
                <a:uFillTx/>
                <a:latin typeface="Arial"/>
              </a:rPr>
              <a:t>ontrato de Salu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Isapre debe comunicar la suscripción del contrato a la Superintendencia y a la entidad encargada del pago de la pensión (pensionado) o al empleador (trabajador dependiente), antes del día 10 del mes siguiente a la firma del contrat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a:t>
            </a:r>
            <a:r>
              <a:rPr b="1" lang="es-ES_tradnl" sz="2000" spc="-1" strike="noStrike">
                <a:solidFill>
                  <a:srgbClr val="000000"/>
                </a:solidFill>
                <a:latin typeface="Arial"/>
              </a:rPr>
              <a:t>: Monto de dinero que el afiliado aporta mensualmente para financiar el plan de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Cotización legal obligatoria</a:t>
            </a:r>
            <a:r>
              <a:rPr b="1" lang="es-ES_tradnl" sz="2000" spc="-1" strike="noStrike">
                <a:solidFill>
                  <a:srgbClr val="000000"/>
                </a:solidFill>
                <a:latin typeface="Arial"/>
              </a:rPr>
              <a:t>: Es el monto mínimo que por ley se descuenta a todo trabajador dependiente o pensionado y corresponde al 7% de la remuneración imponible con un tope de 4,2 U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685800" y="762120"/>
            <a:ext cx="7772400" cy="54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ONTRATO DE SALUD</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el otorgamiento de las prestaciones y beneficios de salud, se debe suscribir un </a:t>
            </a:r>
            <a:r>
              <a:rPr b="1" lang="es-ES_tradnl" sz="2400" spc="-1" strike="noStrike" u="sng">
                <a:solidFill>
                  <a:srgbClr val="000000"/>
                </a:solidFill>
                <a:uFillTx/>
                <a:latin typeface="Arial"/>
              </a:rPr>
              <a:t>contrato de plazo indefinido</a:t>
            </a:r>
            <a:r>
              <a:rPr b="1" lang="es-ES_tradnl" sz="2400" spc="-1" strike="noStrike">
                <a:solidFill>
                  <a:srgbClr val="000000"/>
                </a:solidFill>
                <a:latin typeface="Arial"/>
              </a:rPr>
              <a:t>, con la Isapre que se elij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s una convención por medio de la cual la Isapre y el afiliado, se obligan recíprocamente, la primera a financiar las prestaciones y beneficios de salud pactados y la segunda a enterar la cotiz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838080" y="685800"/>
            <a:ext cx="7772400" cy="569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octrina de la Superintendencia (Naturaleza Jdca.);</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Si bien es efectivo que como toda convención es el resultado de acuerdo de voluntades, entre la Isapre y el afiliado, no es menos cierto que es un contrato dirigido y está sujeto a la observación de normas de orden público que escapan a la autonomía de la voluntad de los contratan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lo se explica por su objeto, que dice relación con el otorgamiento de beneficios propios de la Seg. Social, que comprometen la responsabilidad del Eº en orden a asegurar el derecho a la protección de salud de la población y a proteger las acciones de salud, conforme al Art. 19 Nº9 de la Constit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609480" y="457200"/>
            <a:ext cx="7925040" cy="595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nstrumentos que lo integran</a:t>
            </a:r>
            <a:r>
              <a:rPr b="0" lang="es-ES_tradnl" sz="2400" spc="-1" strike="noStrike">
                <a:solidFill>
                  <a:srgbClr val="000000"/>
                </a:solidFill>
                <a:latin typeface="Arial"/>
              </a:rPr>
              <a:t>: </a:t>
            </a:r>
            <a:r>
              <a:rPr b="1" lang="es-ES_tradnl" sz="2400" spc="-1" strike="noStrike">
                <a:solidFill>
                  <a:srgbClr val="000000"/>
                </a:solidFill>
                <a:latin typeface="Arial"/>
              </a:rPr>
              <a:t>Todo contrato de salud debe señalar lugar y fecha de celebración o modificación e individualización del afiliado y del representante de la Isapr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ocumentos que lo forman y que son firmados por las par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Plan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Condiciones Gener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Declaración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FUN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5.- Arancel o nómina de prestaciones valorizadas de la Isapre, incluye el código de la prestación, su nombre y su valor en $ ó UF</a:t>
            </a:r>
            <a:r>
              <a:rPr b="1"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685800" y="609480"/>
            <a:ext cx="784872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stipulaciones del Contrato</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189 DFL-1). Las partes convendrán libremente las prestaciones y beneficios incluidos, así como la forma, modalidad y condiciones de otorgamiento. Se deben estipular como mínimo lo siguiente: (Ley Larga estableció)</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 Garantías explícitas, de acceso, calidad, protección financiera y oportunidad contempladas en el Rég. General de Garantías en Salu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Plan de Salud Complementar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 Forma en que se modificarán las cotizaciones, prestaciones y beneficios, por incorporación o retiro de beneficiari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Mecanismos para otorgar las prestaciones y beneficios que norma esta Ley (beneficios mínimos) y de aquellas que se estipulan en el contrato (beneficios convencion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5.- Precio del plan y unidad en que se expresará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609480" y="457200"/>
            <a:ext cx="80010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6.- Montos máximos de los beneficios o montos máximos establecidos para algunas prestaciones, con la limitación del inc. 1° del Art. 33 bis; </a:t>
            </a:r>
            <a:r>
              <a:rPr b="1" lang="es-ES_tradnl" sz="2400" spc="-1" strike="noStrike" u="sng">
                <a:solidFill>
                  <a:srgbClr val="000000"/>
                </a:solidFill>
                <a:uFillTx/>
                <a:latin typeface="Arial"/>
              </a:rPr>
              <a:t>Límite de restricción de cobertura:</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Restricciones a la cobertu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Estipulación precisa de las exclusiones, si las hubie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914400" y="457200"/>
            <a:ext cx="7696080" cy="59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y Beneficios Convencionale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los contratos se debe precisar, que las prestaciones y beneficios, estarán contenidas básicamente en el Arancel de referencia de la Isapre y en el plan de salud pacta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materializar lo convenido se estipula: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a forma y modalidades para el otorgamiento de los beneficios: Venta de Bonos y Reembolsos.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equisitos exigidos para acceder a las prestaciones; Período de vigencia para hacer uso de beneficios, plazos para realizar reembols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066680" y="1219320"/>
            <a:ext cx="723924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restaciones Mínimas Obligatorias</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contrato de salud debe contener las prestaciones mínimas obligatorias que establece el Art. 194 DFL-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Examen de medicina preventi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Protección de la mujer durante el embarazo y hasta el 6° mes del nacimiento del hijo y protección del niño hasta los 6 añ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ago de subsidios por incapacidad labor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
          <p:cNvSpPr/>
          <p:nvPr/>
        </p:nvSpPr>
        <p:spPr>
          <a:xfrm>
            <a:off x="3048120" y="533520"/>
            <a:ext cx="37335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ORIGEN LEGAL</a:t>
            </a:r>
            <a:endParaRPr b="0" lang="en-US" sz="3000" spc="-1" strike="noStrike">
              <a:solidFill>
                <a:srgbClr val="000000"/>
              </a:solidFill>
              <a:latin typeface="Times New Roman"/>
            </a:endParaRPr>
          </a:p>
        </p:txBody>
      </p:sp>
      <p:sp>
        <p:nvSpPr>
          <p:cNvPr id="43" name=""/>
          <p:cNvSpPr/>
          <p:nvPr/>
        </p:nvSpPr>
        <p:spPr>
          <a:xfrm>
            <a:off x="609480" y="1454040"/>
            <a:ext cx="7925040" cy="46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a.-</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Constitución Política de 1980</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Recogió los principios que dieron lugar a la reforma de salud:</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Rol subsidiario del Estado.</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Libertad para elegir el régimen, sistema o estructura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Validación del sector privado como opción para atención de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otización obligatoria para salu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838080" y="762120"/>
            <a:ext cx="7162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55640" y="838080"/>
            <a:ext cx="78976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RESTRICCIONES A LA COBERTUR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Isapres están facultadas para establecer restricciones a la cobertura. </a:t>
            </a:r>
            <a:r>
              <a:rPr b="1" lang="es-ES_tradnl" sz="2800" spc="-1" strike="noStrike" u="sng">
                <a:solidFill>
                  <a:srgbClr val="000000"/>
                </a:solidFill>
                <a:uFillTx/>
                <a:latin typeface="Arial"/>
              </a:rPr>
              <a:t>Art. 194 letras g) y h) DFL-1.</a:t>
            </a:r>
            <a:r>
              <a:rPr b="1" lang="es-ES_tradnl" sz="2800" spc="-1" strike="noStrike">
                <a:solidFill>
                  <a:srgbClr val="000000"/>
                </a:solidFill>
                <a:latin typeface="Arial"/>
              </a:rPr>
              <a:t> Ellas sólo pueden referirse a:</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00"/>
                </a:solidFill>
                <a:latin typeface="Arial"/>
              </a:rPr>
              <a:t>1.- </a:t>
            </a:r>
            <a:r>
              <a:rPr b="1" lang="es-ES_tradnl" sz="2800" spc="-1" strike="noStrike" u="sng">
                <a:solidFill>
                  <a:srgbClr val="000000"/>
                </a:solidFill>
                <a:uFillTx/>
                <a:latin typeface="Arial"/>
              </a:rPr>
              <a:t>enfermedades preexistentes declaradas</a:t>
            </a:r>
            <a:r>
              <a:rPr b="1" lang="es-ES_tradnl" sz="2800" spc="-1" strike="noStrike">
                <a:solidFill>
                  <a:srgbClr val="000000"/>
                </a:solidFill>
                <a:latin typeface="Arial"/>
              </a:rPr>
              <a:t>, por un plazo máximo de 18 meses, contado desde la suscripción del contrato y con la </a:t>
            </a:r>
            <a:r>
              <a:rPr b="1" lang="es-ES_tradnl" sz="2800" spc="-1" strike="noStrike" u="sng">
                <a:solidFill>
                  <a:srgbClr val="000000"/>
                </a:solidFill>
                <a:uFillTx/>
                <a:latin typeface="Arial"/>
              </a:rPr>
              <a:t>limitación del inc 1° Art. 190 DFL-1</a:t>
            </a:r>
            <a:r>
              <a:rPr b="1" lang="es-ES_tradnl" sz="2800" spc="-1" strike="noStrike">
                <a:solidFill>
                  <a:srgbClr val="000000"/>
                </a:solidFill>
                <a:latin typeface="Arial"/>
              </a:rPr>
              <a:t>.</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2.- las prestaciones señaladas en el </a:t>
            </a:r>
            <a:r>
              <a:rPr b="1" lang="es-ES_tradnl" sz="2800" spc="-1" strike="noStrike" u="sng">
                <a:solidFill>
                  <a:srgbClr val="000000"/>
                </a:solidFill>
                <a:uFillTx/>
                <a:latin typeface="Arial"/>
              </a:rPr>
              <a:t>inc. 2° Art. 190 DFL-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990720" y="762120"/>
            <a:ext cx="723888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800" spc="-1" strike="noStrike" u="sng">
                <a:solidFill>
                  <a:srgbClr val="000000"/>
                </a:solidFill>
                <a:uFillTx/>
                <a:latin typeface="Arial"/>
              </a:rPr>
              <a:t>Prestaciones de parto</a:t>
            </a:r>
            <a:r>
              <a:rPr b="0" lang="es-ES_tradnl" sz="2400" spc="-1" strike="noStrike">
                <a:solidFill>
                  <a:srgbClr val="000000"/>
                </a:solidFill>
                <a:latin typeface="Arial"/>
              </a:rPr>
              <a:t>: </a:t>
            </a:r>
            <a:r>
              <a:rPr b="1" lang="es-ES_tradnl" sz="2400" spc="-1" strike="noStrike">
                <a:solidFill>
                  <a:srgbClr val="000000"/>
                </a:solidFill>
                <a:latin typeface="Arial"/>
              </a:rPr>
              <a:t>En el caso de embarazo declar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obertura será como mínimo equivalente a la proporción entre el N° de meses de vigencia de los beneficios que tenga la afiliada al momento del parto y el N° total de meses de duración del embarazo, de acuerdo al plan conveni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sí, si la afiliada tiene inicio de vigencia de beneficios en el 5° mes de embarazo y el parto se produce el 7° mes de embarazo, la bonificación será de 3/7 de la cobertura establecida en el plan de sal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609480" y="609480"/>
            <a:ext cx="7925040" cy="489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nfermedades Preexistentes No Declaradas</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rt. 190 N° 6 DFL-1 antes de reforma introducida por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Habiendo transcurrido el plazo de 5 años contado desde el primer día del mes siguiente al de la suscripción del contrato o de la incorporación del beneficiario, la Isapre deberá concurrir al pago de las prestaciones por enfermedades preexistentes no declaradas, en los mismos términos estipulados en el contrato para prestaciones originadas por enfermedades no preexistentes cubiertas por el pla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s Isapres no tienen la obligación de otorgar cobertura por enfermedades preexistentes no declaradas cuando demuestren que esa patología requirió atención médica durante los antedichos 5 años y que el afiliado, a sabiendas, lo ocultó para favorecerse de esta situación</a:t>
            </a:r>
            <a:r>
              <a:rPr b="0" lang="es-ES_tradnl"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533520" y="533520"/>
            <a:ext cx="8305560" cy="550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CLUSIONES DE COBERTURA</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l contrato de salud debe existir la estipulación precisa de las exclusiones, si las hubiere, referidas a prestaciones señaladas en el </a:t>
            </a:r>
            <a:r>
              <a:rPr b="1" lang="es-CL" sz="2000" spc="-1" strike="noStrike" u="sng">
                <a:solidFill>
                  <a:srgbClr val="000000"/>
                </a:solidFill>
                <a:uFillTx/>
                <a:latin typeface="Arial"/>
              </a:rPr>
              <a:t>Art. 190 DFL-1: (Ley Larg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Cirugía plástica con fines de embellecimiento u otras prestaciones con el mismo f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se considera que tienen fines de embellecimiento la cirugía plástica, destinada a corregir malformaciones o deformaciones sufridas por la criatura durante el embarazo o nacimiento, ni la destinada a reparar deformaciones sufridas en un accidente, ni la que tenga finalidad estrictamente curativa o reparado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Atención particular de enfermerí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Hospitalización con fines de repos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838080" y="6858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914400" y="457200"/>
            <a:ext cx="762012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Prestaciones cubiertas por otras leyes hasta el monto de lo cubier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Prestaciones que requiera el beneficiario como consecuencia de su participación en actos de guer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Enfermedades o condiciones de salud preexistentes no declaradas, (</a:t>
            </a:r>
            <a:r>
              <a:rPr b="1" lang="es-CL" sz="2000" spc="-1" strike="noStrike" u="sng">
                <a:solidFill>
                  <a:srgbClr val="000000"/>
                </a:solidFill>
                <a:uFillTx/>
                <a:latin typeface="Arial"/>
              </a:rPr>
              <a:t>modificación Ley Larga</a:t>
            </a:r>
            <a:r>
              <a:rPr b="1" lang="es-CL" sz="2000" spc="-1" strike="noStrike">
                <a:solidFill>
                  <a:srgbClr val="000000"/>
                </a:solidFill>
                <a:latin typeface="Arial"/>
              </a:rPr>
              <a:t>); “salvo que se acredite justa causa de err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entenderá que </a:t>
            </a:r>
            <a:r>
              <a:rPr b="1" lang="es-CL" sz="2000" spc="-1" strike="noStrike" u="sng">
                <a:solidFill>
                  <a:srgbClr val="000000"/>
                </a:solidFill>
                <a:uFillTx/>
                <a:latin typeface="Arial"/>
              </a:rPr>
              <a:t>son preexistentes</a:t>
            </a:r>
            <a:r>
              <a:rPr b="1" lang="es-CL" sz="2000" spc="-1" strike="noStrike">
                <a:solidFill>
                  <a:srgbClr val="000000"/>
                </a:solidFill>
                <a:latin typeface="Arial"/>
              </a:rPr>
              <a:t> aquellas enfermedades, patologías o condiciones de salud que hayan sido conocidas por el afiliado y diagnosticadas médicamente con anterioridad a la suscripción del contrato o a la incorporación del beneficiario, en su ca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ales antecedentes de salud deben ser registrados fidedignamente por el afiliado en un documento denominado </a:t>
            </a:r>
            <a:r>
              <a:rPr b="1" lang="es-CL" sz="2000" spc="-1" strike="noStrike" u="sng">
                <a:solidFill>
                  <a:srgbClr val="000000"/>
                </a:solidFill>
                <a:uFillTx/>
                <a:latin typeface="Arial"/>
              </a:rPr>
              <a:t>Declaración de Salud</a:t>
            </a:r>
            <a:r>
              <a:rPr b="1" lang="es-CL" sz="2000" spc="-1" strike="noStrike">
                <a:solidFill>
                  <a:srgbClr val="000000"/>
                </a:solidFill>
                <a:latin typeface="Arial"/>
              </a:rPr>
              <a:t>, junto con los demás antecedentes de salud que requiera la Isapre</a:t>
            </a:r>
            <a:r>
              <a:rPr b="1" lang="es-C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685800" y="380880"/>
            <a:ext cx="7924680" cy="559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a declaración de salud debe ser suscrita en forma previa a la firma del contrato o a la incorporación del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orma parte esencial del contrato. La falta de este documento no lo invalidará, pero hará presumir de derecho que la Isapre renunció a la posibilidad de restringir la cobertura o de poner término al contrato por la omisión de alguna enfermedad o condición preexisten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está obligada a pagar prestaciones por enfermedades preexistentes no declaradas, en los mismos términos estipulados en el contrato para prestaciones por enfermedades no preexistentes cubiertas por el plan, </a:t>
            </a:r>
            <a:r>
              <a:rPr b="1" lang="es-CL" sz="2000" spc="-1" strike="noStrike" u="sng">
                <a:solidFill>
                  <a:srgbClr val="000000"/>
                </a:solidFill>
                <a:uFillTx/>
                <a:latin typeface="Arial"/>
              </a:rPr>
              <a:t>si se acredita que la omisión se debió a justa causa de error o cuando haya transcurrido un plazo de cinco años, desde la suscripción del contrato o desde la incorporación del beneficiario</a:t>
            </a:r>
            <a:r>
              <a:rPr b="1" lang="es-CL" sz="2000" spc="-1" strike="noStrike">
                <a:solidFill>
                  <a:srgbClr val="000000"/>
                </a:solidFill>
                <a:latin typeface="Arial"/>
              </a:rPr>
              <a:t>, sin que el beneficiario haya requerido atención médica por la patología preexistente. En estos casos, tampoco procederá la terminación del contrat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609480" y="533520"/>
            <a:ext cx="784872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 presumirá la mala fe si la Isapre prueba que la patología preexistente requirió atención médica durante los antedichos 5 años y el afiliado a sabiendas la ocultó a fin de favorecerse de la disposición legal. En estos casos la Isapre puede poner término al contrato de sal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Prestaciones otorgadas fuera del territorio nacional (introducida por Ley Larg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8.- Todas aquellas prestaciones y medicamentos (ambulatorios), no contemplados en el Arancel a que se refiere la letra e) del Art. 189 DFL-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838080" y="609480"/>
            <a:ext cx="7620120" cy="509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DURACION DEL CONTRATO DE SALUD</a:t>
            </a:r>
            <a:r>
              <a:rPr b="1" lang="es-CL"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be ser pactado por tiempo indefinido y no podrá dejarse sin efecto durante su vigencia, sino por incumplimiento de las obligaciones contractuales o por mutuo acuer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 según correspond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 ese caso, queda el afiliado y sus cargas, si no optan por un nuevo contrato de salud, afectos al régimen general de cotizaciones, prestaciones y beneficios de salud que les corresponden como beneficiarios de la Ley 18.46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457200" y="457200"/>
            <a:ext cx="8305920" cy="547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 Y DEL AFILIAD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Obligaciones de la Isapre</a:t>
            </a:r>
            <a:r>
              <a:rPr b="1" lang="es-CL" sz="2400" spc="-1" strike="noStrike">
                <a:solidFill>
                  <a:srgbClr val="000000"/>
                </a:solidFill>
                <a:latin typeface="Arial"/>
              </a:rPr>
              <a:t>:</a:t>
            </a:r>
            <a:r>
              <a:rPr b="0" lang="es-C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Financiar prestaciones y beneficios de salud, con cargo al aporte de la cotización legal para salud o una superior conven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Proporcionar información suficiente y oportuna a sus afiliados respecto de materias fundamentales de sus contra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Informar la suscripción del contrato al empleador (trabajadores dependientes) o a la entidad pagadora de la pensión (pension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4.- C</a:t>
            </a:r>
            <a:r>
              <a:rPr b="1" lang="es-CL" sz="2000" spc="-1" strike="noStrike">
                <a:solidFill>
                  <a:srgbClr val="000000"/>
                </a:solidFill>
                <a:latin typeface="Arial"/>
              </a:rPr>
              <a:t>omunicar a la Superintendencia tanto la suscripción del contrato como la terminación del mism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p:nvPr/>
        </p:nvSpPr>
        <p:spPr>
          <a:xfrm>
            <a:off x="990720" y="533520"/>
            <a:ext cx="71625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533520" y="533520"/>
            <a:ext cx="8229600" cy="597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bligaciones del Afiliado</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a:t>
            </a:r>
            <a:r>
              <a:rPr b="1" lang="es-CL" sz="2400" spc="-1" strike="noStrike">
                <a:solidFill>
                  <a:srgbClr val="000000"/>
                </a:solidFill>
                <a:latin typeface="Arial"/>
              </a:rPr>
              <a:t>Comunicar a la Isapre, dentro del plazo de 30 días de producido el hecho, todo cambio de empleador, toda modificación en la condición laboral y/o situación previsional, toda variación de los integrantes del grupo familiar que sean beneficiari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porcionar la información de salud que la Isapre le solicite, de él o de sus beneficiarios, someterse a análisis y exámenes que éste indique, siempre que no sean perjudiciales para su salud o la de sus beneficiarios. Los gastos que estos exámenes irroguen serán de carg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Comunicar a la Isapre todo cambio de domicil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914400" y="762120"/>
            <a:ext cx="74674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a:t>
            </a:r>
            <a:r>
              <a:rPr b="1" lang="es-ES_tradnl" sz="2400" spc="-1" strike="noStrike" u="sng">
                <a:solidFill>
                  <a:srgbClr val="000000"/>
                </a:solidFill>
                <a:uFillTx/>
                <a:latin typeface="Times New Roman"/>
              </a:rPr>
              <a:t> </a:t>
            </a:r>
            <a:r>
              <a:rPr b="1" lang="es-ES_tradnl" sz="2400" spc="-1" strike="noStrike" u="sng">
                <a:solidFill>
                  <a:srgbClr val="000000"/>
                </a:solidFill>
                <a:uFillTx/>
                <a:latin typeface="Arial"/>
              </a:rPr>
              <a:t>D.L. 3500</a:t>
            </a:r>
            <a:r>
              <a:rPr b="1" lang="es-ES_tradnl" sz="2400" spc="-1" strike="noStrike">
                <a:solidFill>
                  <a:srgbClr val="000000"/>
                </a:solidFill>
                <a:latin typeface="Arial"/>
              </a:rPr>
              <a:t>: La cotización puede enterarse en las instituciones o entidades que otorguen al trabajador las prestaciones y beneficio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D.F.L. N° 3 (1981)</a:t>
            </a:r>
            <a:r>
              <a:rPr b="1" lang="es-ES_tradnl" sz="2400" spc="-1" strike="noStrike">
                <a:solidFill>
                  <a:srgbClr val="000000"/>
                </a:solidFill>
                <a:latin typeface="Arial"/>
              </a:rPr>
              <a:t>: Dio origen al sistema privado de salud en Chile. Precisa que esas instituciones se llamarán Isapres. Desarrolló su organización, funciones y contro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d.- Ley 18.469 (1986)</a:t>
            </a:r>
            <a:r>
              <a:rPr b="1" lang="es-ES_tradnl" sz="2400" spc="-1" strike="noStrike">
                <a:solidFill>
                  <a:srgbClr val="000000"/>
                </a:solidFill>
                <a:latin typeface="Arial"/>
              </a:rPr>
              <a:t>: Creó el régimen general de prestaciones. Incorporó a las Isapres en forma armónica al sistema de sal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838080" y="914400"/>
            <a:ext cx="7696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685800" y="914400"/>
            <a:ext cx="80010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Comunicar el extravío, pérdida o destrucción de la cédula de identidad y/o de la credencial de salud. De lo contrario debe asumir las obligaciones que en su nombre pudiese contraer el portador de los documentos extraviad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El cotizante por el hecho de requerir su afiliación queda obligado a individualizar a todos sus beneficiarios en la declaración de salud. Asimismo, debe suministrar datos verídicos de su emplead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El cotizante independiente o afiliado voluntario o cesante debe declarar y pagar las cotizaciones pact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838080" y="685800"/>
            <a:ext cx="75438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7.- </a:t>
            </a:r>
            <a:r>
              <a:rPr b="1" lang="es-CL" sz="2400" spc="-1" strike="noStrike">
                <a:solidFill>
                  <a:srgbClr val="000000"/>
                </a:solidFill>
                <a:latin typeface="Arial"/>
              </a:rPr>
              <a:t>El afiliado debe pagar las cuotas del préstamo más los reajustes e intereses que la Isapre le otorgue para cubrir el copago de atenciones de urgencia o emergencia conforme a la Ley 19.650 o para financiar el deducible de la CAE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8.- Realizar una declaración de salud en términos fidedignos, señalando las enfermedades, patologías o embarazos preexistentes, es decir, que le hayan sido diagnosticadas médicamente con anterioridad a la suscripción del contrat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1143000" y="914400"/>
            <a:ext cx="7162920" cy="413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XTENSION DEL CONTRATO DE SALUD</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8º DFL-1:</a:t>
            </a:r>
            <a:r>
              <a:rPr b="0" lang="es-CL" sz="2400" spc="-1" strike="noStrike">
                <a:solidFill>
                  <a:srgbClr val="000000"/>
                </a:solidFill>
                <a:latin typeface="Arial"/>
              </a:rPr>
              <a:t> </a:t>
            </a:r>
            <a:r>
              <a:rPr b="1" lang="es-CL" sz="2400" spc="-1" strike="noStrike">
                <a:solidFill>
                  <a:srgbClr val="000000"/>
                </a:solidFill>
                <a:latin typeface="Arial"/>
              </a:rPr>
              <a:t>En el evento que al día del término del contrato por desahucio el cotizante se encuentre en situación de incapacidad laboral, el contrato se extenderá de pleno derecho hasta el último día del mes en que finalice la incapacidad y mientras no se declare la invalidez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
          <p:cNvSpPr/>
          <p:nvPr/>
        </p:nvSpPr>
        <p:spPr>
          <a:xfrm>
            <a:off x="762120" y="457200"/>
            <a:ext cx="7924680" cy="496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REVISION DEL CONTRATO DE SALUD</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197 inc. 3º DFL-1</a:t>
            </a:r>
            <a:r>
              <a:rPr b="1" lang="es-CL" sz="2400" spc="-1" strike="noStrike">
                <a:solidFill>
                  <a:srgbClr val="000000"/>
                </a:solidFill>
                <a:latin typeface="Arial"/>
              </a:rPr>
              <a:t> </a:t>
            </a:r>
            <a:r>
              <a:rPr b="1" lang="es-CL" sz="2000" spc="-1" strike="noStrike">
                <a:solidFill>
                  <a:srgbClr val="000000"/>
                </a:solidFill>
                <a:latin typeface="Arial"/>
              </a:rPr>
              <a:t>Anualmente, en el mes de suscripción del contrato, la Isapre podrá revisar los contratos de salud que correspondan, pudiendo sólo modificarel precio base del plan, con las limitaciones a que se refiere el art. 198, en condiciones generales que no importen discriminación entre los afiliados de un mismo pla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s revisiones no podrán tener en consideración el estado de salud del afiliado y beneficiario.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as condiciones generales deberán ser las mismas que se estén ofreciendo a esa fecha a los nuevos contratantes en el respectivo plan. La infracción a esta disposición dará lugar a que el contrato se entienda vigente en las mismas condiciones generale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09480" y="533520"/>
            <a:ext cx="800100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decuación propuesta deberá ser comunicada al afectado mediante carta certificada expedida con, a lo menos, </a:t>
            </a:r>
            <a:r>
              <a:rPr b="1" lang="es-CL" sz="2400" spc="-1" strike="noStrike" u="sng">
                <a:solidFill>
                  <a:srgbClr val="000000"/>
                </a:solidFill>
                <a:uFillTx/>
                <a:latin typeface="Arial"/>
              </a:rPr>
              <a:t>tres meses de anticipación</a:t>
            </a:r>
            <a:r>
              <a:rPr b="1" lang="es-CL" sz="2400" spc="-1" strike="noStrike">
                <a:solidFill>
                  <a:srgbClr val="000000"/>
                </a:solidFill>
                <a:latin typeface="Arial"/>
              </a:rPr>
              <a:t> al vencimiento del períod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tales circunstancias, el afiliado podrá aceptar el contrato con las adecuación de precio propuesta por la Isapre; y en el evento que nada diga, se entenderá que las acep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 misma oportunidad y forma en que se comunique la adecuación, la Isapre deberá ofrecerle otros planes de salud alternativos, en condiciones equivalentes, pudiendo el afiliado aceptar alguno de ellos, o bien desafiliar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533520" y="609480"/>
            <a:ext cx="8076960" cy="578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procedimiento de adecuación contractual compren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Remisión de la carta de adecu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ronunciamiento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Formalización del acuer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Remisión de la carta</a:t>
            </a:r>
            <a:r>
              <a:rPr b="0" lang="es-CL" sz="2400" spc="-1" strike="noStrike" u="sng">
                <a:solidFill>
                  <a:srgbClr val="000000"/>
                </a:solidFill>
                <a:uFillTx/>
                <a:latin typeface="Arial"/>
              </a:rPr>
              <a:t> </a:t>
            </a:r>
            <a:r>
              <a:rPr b="1" lang="es-CL" sz="2400" spc="-1" strike="noStrike">
                <a:solidFill>
                  <a:srgbClr val="000000"/>
                </a:solidFill>
                <a:latin typeface="Arial"/>
              </a:rPr>
              <a:t>(Punto 2.1. Res.Exenta 546)</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remitir una carta certificada al último domicilio registrado en el contrato de salud. </a:t>
            </a:r>
            <a:endParaRPr b="0" lang="en-US" sz="24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1" lang="es-ES" sz="2400" spc="-1" strike="noStrike">
                <a:solidFill>
                  <a:srgbClr val="000000"/>
                </a:solidFill>
                <a:latin typeface="Arial"/>
              </a:rPr>
              <a:t>Puesta en la oficina de correos, a más tardar el </a:t>
            </a:r>
            <a:r>
              <a:rPr b="1" lang="es-CL" sz="2400" spc="-1" strike="noStrike">
                <a:solidFill>
                  <a:srgbClr val="000000"/>
                </a:solidFill>
                <a:latin typeface="Arial"/>
              </a:rPr>
              <a:t>1° día del mes anteprecedente al del vencimiento del período an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762120" y="457200"/>
            <a:ext cx="777240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1" lang="es-CL" sz="2400" spc="-1" strike="noStrike">
                <a:solidFill>
                  <a:srgbClr val="000000"/>
                </a:solidFill>
                <a:latin typeface="Arial"/>
              </a:rPr>
              <a:t>En la carta se debe comunicar todas las adecuaciones propuestas para el plan vigente. Asimismo, se debe identificar claramente el o los planes alternativos en condiciones equivalentes a éste, entre los cuales podrá optar el cotizante, si no está de acuerdo con la adecuación propuest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Plan de salud alternativo: aquél que mantiene con el plan vigente una relación de igualdad ya sea en el precio o en beneficio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La Isapre debe estar siempre en condiciones de acreditar el hecho de haber remitido la carta dentro del plazo señalado. Para ello debe disponer de la nómina de correo certific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533520" y="457200"/>
            <a:ext cx="792468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ronunciamiento del cotizante: (Punto 2.2)</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vez que el cotizante recibe la carta debe pronunciarse sobre su contenido, teniendo como plazo hasta el último día del mes en que se cumple la anualidad contractu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aceptación puede ser expresa o tácit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xpresa</a:t>
            </a:r>
            <a:r>
              <a:rPr b="1" lang="es-CL" sz="2400" spc="-1" strike="noStrike">
                <a:solidFill>
                  <a:srgbClr val="000000"/>
                </a:solidFill>
                <a:latin typeface="Arial"/>
              </a:rPr>
              <a:t>:</a:t>
            </a:r>
            <a:r>
              <a:rPr b="0" lang="es-CL" sz="2400" spc="-1" strike="noStrike">
                <a:solidFill>
                  <a:srgbClr val="000000"/>
                </a:solidFill>
                <a:latin typeface="Arial"/>
              </a:rPr>
              <a:t> </a:t>
            </a:r>
            <a:r>
              <a:rPr b="1" lang="es-CL" sz="2400" spc="-1" strike="noStrike">
                <a:solidFill>
                  <a:srgbClr val="000000"/>
                </a:solidFill>
                <a:latin typeface="Arial"/>
              </a:rPr>
              <a:t>el afiliado manifiesta formalmente su intención de aceptar el plan adecuado, alguno de los planes alternativos u otro plan de los que comercializa la Isapre, suscribiendo los documentos contractuales antes del último día del mes en que se cumple su anualidad contractua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85800" y="304920"/>
            <a:ext cx="77724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ácita</a:t>
            </a:r>
            <a:r>
              <a:rPr b="1" lang="es-CL" sz="2400" spc="-1" strike="noStrike">
                <a:solidFill>
                  <a:srgbClr val="000000"/>
                </a:solidFill>
                <a:latin typeface="Arial"/>
              </a:rPr>
              <a:t>:   transcurrido el plazo previsto por la ley, el afiliado no se manifiesta respecto de la oferta formulada por la Isapre, es decir, guarda silencio, con lo cual se entiende que acepta el plan adecu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Si el cotizante no acepta la adecuación propuesta, ni los planes alternativos ofrecidos u otro plan de los que comercialice la Isapre, deberá poner término al contrato suscribiendo para ello una carta de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ormalización de la adecuación: (Punto 2.3)</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ducido el acuerdo, la adecuación debe perfeccionarse. Se suscribe o emite, según sea el caso, el documento contractual que correspon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762120"/>
            <a:ext cx="73911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L CONTRAT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rt. 197 inc 1° DFL-1; Durante la vigencia del contrato la Isapre debe a requerimiento del afiliado, ofrecerle un nuevo plan se salud en el evento que se encuentre en situación de </a:t>
            </a:r>
            <a:r>
              <a:rPr b="1" lang="es-ES" sz="2400" spc="-1" strike="noStrike" u="sng">
                <a:solidFill>
                  <a:srgbClr val="000000"/>
                </a:solidFill>
                <a:uFillTx/>
                <a:latin typeface="Arial"/>
              </a:rPr>
              <a:t>cesantía</a:t>
            </a:r>
            <a:r>
              <a:rPr b="1" lang="es-ES" sz="2400" spc="-1" strike="noStrike">
                <a:solidFill>
                  <a:srgbClr val="000000"/>
                </a:solidFill>
                <a:latin typeface="Arial"/>
              </a:rPr>
              <a:t>, experimente una </a:t>
            </a:r>
            <a:r>
              <a:rPr b="1" lang="es-ES" sz="2400" spc="-1" strike="noStrike" u="sng">
                <a:solidFill>
                  <a:srgbClr val="000000"/>
                </a:solidFill>
                <a:uFillTx/>
                <a:latin typeface="Arial"/>
              </a:rPr>
              <a:t>variación permanente en la cotización legal</a:t>
            </a:r>
            <a:r>
              <a:rPr b="1" lang="es-ES" sz="2400" spc="-1" strike="noStrike">
                <a:solidFill>
                  <a:srgbClr val="000000"/>
                </a:solidFill>
                <a:latin typeface="Arial"/>
              </a:rPr>
              <a:t> o en la </a:t>
            </a:r>
            <a:r>
              <a:rPr b="1" lang="es-ES" sz="2400" spc="-1" strike="noStrike" u="sng">
                <a:solidFill>
                  <a:srgbClr val="000000"/>
                </a:solidFill>
                <a:uFillTx/>
                <a:latin typeface="Arial"/>
              </a:rPr>
              <a:t>composición del grupo famili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1.-.</a:t>
            </a:r>
            <a:r>
              <a:rPr b="1" lang="es-ES" sz="2400" spc="-1" strike="noStrike" u="sng">
                <a:solidFill>
                  <a:srgbClr val="000000"/>
                </a:solidFill>
                <a:uFillTx/>
                <a:latin typeface="Arial"/>
              </a:rPr>
              <a:t>Situación de cesantía</a:t>
            </a:r>
            <a:r>
              <a:rPr b="0" lang="es-ES" sz="2400" spc="-1" strike="noStrike">
                <a:solidFill>
                  <a:srgbClr val="000000"/>
                </a:solidFill>
                <a:latin typeface="Arial"/>
              </a:rPr>
              <a:t>: </a:t>
            </a:r>
            <a:r>
              <a:rPr b="1" lang="es-ES" sz="2400" spc="-1" strike="noStrike">
                <a:solidFill>
                  <a:srgbClr val="000000"/>
                </a:solidFill>
                <a:latin typeface="Arial"/>
              </a:rPr>
              <a:t>el afiliado se encuentra cesante, desde que pone término a su relación laboral, cualquiera sea la causal que la haya origin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990720" y="609480"/>
            <a:ext cx="731520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Ley 18.933 (1990)</a:t>
            </a:r>
            <a:r>
              <a:rPr b="1" lang="es-ES_tradnl" sz="2400" spc="-1" strike="noStrike">
                <a:solidFill>
                  <a:srgbClr val="000000"/>
                </a:solidFill>
                <a:latin typeface="Arial"/>
              </a:rPr>
              <a:t>: Derogó el D.F.L. N° 3 creando la Superintendencia de Isapres y dictó normas para el otorgamiento de prestaciones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f.- Ley 19.381 (1995)</a:t>
            </a:r>
            <a:r>
              <a:rPr b="1" lang="es-ES_tradnl" sz="2400" spc="-1" strike="noStrike">
                <a:solidFill>
                  <a:srgbClr val="000000"/>
                </a:solidFill>
                <a:latin typeface="Arial"/>
              </a:rPr>
              <a:t>: Incorporó modificaciones a la Ley de Isapres, entre otras, el Art. 33 bis, relativo a materias tales como exclusiones, que se entiende por preexistencias, plazo de 5 años,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g.-</a:t>
            </a:r>
            <a:r>
              <a:rPr b="0" lang="es-ES_tradnl" sz="2400" spc="-1" strike="noStrike" u="sng">
                <a:solidFill>
                  <a:srgbClr val="000000"/>
                </a:solidFill>
                <a:uFillTx/>
                <a:latin typeface="Arial"/>
              </a:rPr>
              <a:t> </a:t>
            </a:r>
            <a:r>
              <a:rPr b="1" lang="es-ES_tradnl" sz="2400" spc="-1" strike="noStrike" u="sng">
                <a:solidFill>
                  <a:srgbClr val="000000"/>
                </a:solidFill>
                <a:uFillTx/>
                <a:latin typeface="Arial"/>
              </a:rPr>
              <a:t>Ley 19.650 (1999):</a:t>
            </a:r>
            <a:r>
              <a:rPr b="1" lang="es-ES_tradnl" sz="2400" spc="-1" strike="noStrike">
                <a:solidFill>
                  <a:srgbClr val="000000"/>
                </a:solidFill>
                <a:latin typeface="Arial"/>
              </a:rPr>
              <a:t> Emergencias y urgencias. Prohibe la exigencia de cheque u otros documentos de pago como garan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838080" y="685800"/>
            <a:ext cx="7315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 sz="2400" spc="-1" strike="noStrike">
                <a:solidFill>
                  <a:srgbClr val="000000"/>
                </a:solidFill>
                <a:latin typeface="Arial"/>
              </a:rPr>
              <a:t>Isapre debe ofrecer al afiliado, al menos, el plan de menor precio de entre aquellos que comercialice. Sin pérjuicio que las partes mantengan el plan u otro, en las condiciones de precio que correspondan, si así lo acuerda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a:t>
            </a:r>
            <a:r>
              <a:rPr b="1" lang="es-ES" sz="2400" spc="-1" strike="noStrike" u="sng">
                <a:solidFill>
                  <a:srgbClr val="000000"/>
                </a:solidFill>
                <a:uFillTx/>
                <a:latin typeface="Arial"/>
              </a:rPr>
              <a:t>Variación permanente de la cotización</a:t>
            </a:r>
            <a:r>
              <a:rPr b="1" lang="es-ES" sz="2400" spc="-1" strike="noStrike">
                <a:solidFill>
                  <a:srgbClr val="000000"/>
                </a:solidFill>
                <a:latin typeface="Arial"/>
              </a:rPr>
              <a:t>: modificación no ocasional de la cotización, derivada de un aumento o disminución de la remuneración imponible, renta declarada o de la pens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a:t>
            </a:r>
            <a:r>
              <a:rPr b="0" lang="es-ES_tradnl" sz="2400" spc="-1" strike="noStrike">
                <a:solidFill>
                  <a:srgbClr val="000000"/>
                </a:solidFill>
                <a:latin typeface="Times New Roman"/>
              </a:rPr>
              <a:t>.</a:t>
            </a:r>
            <a:r>
              <a:rPr b="1" lang="es-ES" sz="2400" spc="-1" strike="noStrike" u="sng">
                <a:solidFill>
                  <a:srgbClr val="000000"/>
                </a:solidFill>
                <a:uFillTx/>
                <a:latin typeface="Arial"/>
              </a:rPr>
              <a:t>Variación en el grupo familiar</a:t>
            </a:r>
            <a:r>
              <a:rPr b="0" lang="es-ES" sz="2400" spc="-1" strike="noStrike">
                <a:solidFill>
                  <a:srgbClr val="000000"/>
                </a:solidFill>
                <a:latin typeface="Arial"/>
              </a:rPr>
              <a:t>: </a:t>
            </a:r>
            <a:r>
              <a:rPr b="1" lang="es-ES" sz="2400" spc="-1" strike="noStrike">
                <a:solidFill>
                  <a:srgbClr val="000000"/>
                </a:solidFill>
                <a:latin typeface="Arial"/>
              </a:rPr>
              <a:t>la Isapre debe ofrecer un nuevo plan, toda vez que el afiliado lo solicite y se fundamente en la variación  de su grupo familiar. (Ingreso o retiro de benefici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457200" y="533520"/>
            <a:ext cx="8001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rPr>
              <a:t>Modificación de precio por cambio en el tramo de edad (Diferente a Proceso de Adecu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uando no se verifique un proceso de adecuación, la Isapre debe informar al afiliado la modificación que experimente el precio del plan por el cambio en el tramos de edad de éste o de alguno de los beneficiari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ra ello debe enviar una carta al último domicilio registrado en la Isapre, antes del día 10 del mes siguiente al cumplimiento de la respectiva anualidad, explicando la causa del cambio de precio y acompañando copia del FUN que da cuenta de la mod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066680" y="762120"/>
            <a:ext cx="7315200" cy="54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TERMINO DEL CONTRATO DE SALU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Por incumplimiento de obligaciones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2.- Por desahucio o desafiliación del cotiza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3.- Desafiliación en caso de cesantí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4.- Desafiliación por Mutuo Acuerdo con Efecto Retroacti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5.- Por cancelación del registro de la Isap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 Por muerte del afiliad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990720" y="762120"/>
            <a:ext cx="7238880" cy="515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 Por incumplimiento de obligaciones del cotizante   Art. 201 DFL-1 (Art. 40 Ley Larg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Isapre sólo puede poner término al contrato cuando el afiliado incurra en alguno de los siguientes incumplimiento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a:t>
            </a:r>
            <a:r>
              <a:rPr b="0" lang="es-CL" sz="2000" spc="-1" strike="noStrike">
                <a:solidFill>
                  <a:srgbClr val="000000"/>
                </a:solidFill>
                <a:latin typeface="Arial"/>
              </a:rPr>
              <a:t> </a:t>
            </a:r>
            <a:r>
              <a:rPr b="1" lang="es-CL" sz="2000" spc="-1" strike="noStrike">
                <a:solidFill>
                  <a:srgbClr val="000000"/>
                </a:solidFill>
                <a:latin typeface="Arial"/>
              </a:rPr>
              <a:t>Falsear o no entregar de manera fidedigna toda la información en la Declaración de Salud, </a:t>
            </a:r>
            <a:r>
              <a:rPr b="1" lang="es-CL" sz="2000" spc="-1" strike="noStrike" u="sng">
                <a:solidFill>
                  <a:srgbClr val="000000"/>
                </a:solidFill>
                <a:uFillTx/>
                <a:latin typeface="Arial"/>
              </a:rPr>
              <a:t>salvo</a:t>
            </a:r>
            <a:r>
              <a:rPr b="1" lang="es-CL" sz="2000" spc="-1" strike="noStrike">
                <a:solidFill>
                  <a:srgbClr val="000000"/>
                </a:solidFill>
                <a:latin typeface="Arial"/>
              </a:rPr>
              <a:t> que el afiliado </a:t>
            </a:r>
            <a:r>
              <a:rPr b="1" lang="es-CL" sz="2000" spc="-1" strike="noStrike" u="sng">
                <a:solidFill>
                  <a:srgbClr val="000000"/>
                </a:solidFill>
                <a:uFillTx/>
                <a:latin typeface="Arial"/>
              </a:rPr>
              <a:t>demuestre justa causa de error</a:t>
            </a:r>
            <a:r>
              <a:rPr b="1" lang="es-CL"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simple omisión de una preexistencia no dará derecho a terminar el contrato, a menos que la Isapre demuestre que la omisión le causa perjuicios y que de haber conocido esa enfermedad, no habría contrata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685800" y="609480"/>
            <a:ext cx="76960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 </a:t>
            </a:r>
            <a:r>
              <a:rPr b="1" lang="es-CL" sz="2000" spc="-1" strike="noStrike">
                <a:solidFill>
                  <a:srgbClr val="000000"/>
                </a:solidFill>
                <a:latin typeface="Arial"/>
              </a:rPr>
              <a:t>No pago de cotizaciones por parte de los cotizantes voluntarios e independien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ejercer esta facultad, será indispensable haber comunicado el no pago de la cotización en los términos del inciso final del Art. 38.</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3.- </a:t>
            </a:r>
            <a:r>
              <a:rPr b="1" lang="es-CL" sz="2000" spc="-1" strike="noStrike">
                <a:solidFill>
                  <a:srgbClr val="000000"/>
                </a:solidFill>
                <a:latin typeface="Arial"/>
              </a:rPr>
              <a:t>Impetrar formalmente u obtener indebidamente, para él o para alguno de sus beneficiarios, beneficios que no le corresponden o que sean mayores a los que procedan. Igual sanción se aplica cuando se beneficie a un tercero ajeno al contra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Omitir del contrato a algún familiar beneficiario de los indicados en las letras b) y c) del artículo 6º Ley 18.469, con el fin de perjudicar a la Isapre.</a:t>
            </a:r>
            <a:endParaRPr b="0" lang="en-US" sz="20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609480" y="838080"/>
            <a:ext cx="76964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Ley Larga agregó:</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ra ejercer la facultad (de poner término al contrato, por incumplimiento de obligaciones) por la Isapre debe comunicar por escrito tal decisión al afiliado, caso en el cual </a:t>
            </a:r>
            <a:r>
              <a:rPr b="1" lang="es-CL" sz="2400" spc="-1" strike="noStrike" u="sng">
                <a:solidFill>
                  <a:srgbClr val="000000"/>
                </a:solidFill>
                <a:uFillTx/>
                <a:latin typeface="Arial"/>
              </a:rPr>
              <a:t>los beneficios</a:t>
            </a:r>
            <a:r>
              <a:rPr b="1" lang="es-CL" sz="2400" spc="-1" strike="noStrike">
                <a:solidFill>
                  <a:srgbClr val="000000"/>
                </a:solidFill>
                <a:latin typeface="Arial"/>
              </a:rPr>
              <a:t>, con excepción de las prestaciones derivadas de enfermedades preexistentes no declaradas, seguirán siendo de cargo de la Isapre, hasta el término del mes siguiente a la fecha de la comunicación o hasta el término de la incapacidad laboral.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914400" y="838080"/>
            <a:ext cx="73915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B.- Por desahucio o desafiliación del cotizante</a:t>
            </a:r>
            <a:r>
              <a:rPr b="1" lang="es-CL" sz="2400" spc="-1" strike="noStrike">
                <a:solidFill>
                  <a:srgbClr val="000000"/>
                </a:solidFill>
                <a:latin typeface="Arial"/>
              </a:rPr>
              <a:t> (Art 197 inciso 2º DFL-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afiliado puede, una vez transcurrido un año de vigencia de beneficios contractuales, desahuciar el contrato, para lo cual bastará una comunicación escrita a la Isapre, con copia al empleador o a la pagadora de la pen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término del contrato produce efectos a contar del 1º día del mes subsiguiente a la firma de la carta, salvo acuerdo expreso en contrario.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685800" y="990720"/>
            <a:ext cx="7772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C.- </a:t>
            </a:r>
            <a:r>
              <a:rPr b="1" lang="es-CL" sz="2400" spc="-1" strike="noStrike" u="sng">
                <a:solidFill>
                  <a:srgbClr val="000000"/>
                </a:solidFill>
                <a:uFillTx/>
                <a:latin typeface="Arial"/>
              </a:rPr>
              <a:t>Desafiliación en caso de Cesantía</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l cotizante que se encuentre en situación de cesantía, debidamente acreditada, puede solicitar su desafili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este caso, la desafiliación producirá efectos el último día del mes en que presente la carta de desafiliación, o cuando corresponda, el último día del mes en que se encuentren financiados los beneficios, por efecto de cotizaciones devengada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762120" y="762120"/>
            <a:ext cx="75438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a:t>
            </a:r>
            <a:r>
              <a:rPr b="0" lang="es-ES_tradnl" sz="2400" spc="-1" strike="noStrike">
                <a:solidFill>
                  <a:srgbClr val="000000"/>
                </a:solidFill>
                <a:latin typeface="Arial"/>
              </a:rPr>
              <a:t> </a:t>
            </a:r>
            <a:r>
              <a:rPr b="1" lang="es-CL" sz="2400" spc="-1" strike="noStrike" u="sng">
                <a:solidFill>
                  <a:srgbClr val="000000"/>
                </a:solidFill>
                <a:uFillTx/>
                <a:latin typeface="Arial"/>
              </a:rPr>
              <a:t>Desafiliación por Mutuo Acuerdo con Efecto Retroactivo</a:t>
            </a:r>
            <a:r>
              <a:rPr b="1" lang="es-CL" sz="2400" spc="-1" strike="noStrike">
                <a:solidFill>
                  <a:srgbClr val="000000"/>
                </a:solidFill>
                <a:latin typeface="Arial"/>
              </a:rPr>
              <a: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 petición expresa del cotizante y para regularizar su situación ante Fonasa, las partes pueden poner término al contrato por mutuo acuerdo con efecto retroactivo, a contar del 1° día del mes siguiente a aquél en que la Isapre recibió la última cot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E.- Por cancelación del registro de la Isapre</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838080" y="533520"/>
            <a:ext cx="769644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F.- Por muerte del afiliado</a:t>
            </a:r>
            <a:r>
              <a:rPr b="1" lang="es-C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Art. 203 DFL-1 (41 bisLey Larga):</a:t>
            </a:r>
            <a:r>
              <a:rPr b="1" lang="es-CL" sz="2400" spc="-1" strike="noStrike">
                <a:solidFill>
                  <a:srgbClr val="000000"/>
                </a:solidFill>
                <a:latin typeface="Arial"/>
              </a:rPr>
              <a:t> En el evento que el afiliado fallezca una vez transcurrido un año de vigencia ininterrumpida de los beneficios contractuales, la Isapre está obligada a mantener, por un período no inferior a un año contado desde el fallecimiento, todos los beneficios del contrato de salud vigente a esa fecha, a todos los beneficiarios declarados, entendiéndose incorporados en éstos al hijo que esté por nacer y que habría sido su beneficiario leg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380880" y="533520"/>
            <a:ext cx="8382240" cy="56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h.- Ley 19.895 (2003) “Ley Corta”</a:t>
            </a:r>
            <a:r>
              <a:rPr b="1" lang="es-ES_tradnl" sz="2400" spc="-1" strike="noStrike">
                <a:solidFill>
                  <a:srgbClr val="000000"/>
                </a:solidFill>
                <a:latin typeface="Arial"/>
              </a:rPr>
              <a:t>.</a:t>
            </a:r>
            <a:r>
              <a:rPr b="0" lang="es-ES_tradnl" sz="2400" spc="-1" strike="noStrike">
                <a:solidFill>
                  <a:srgbClr val="000000"/>
                </a:solidFill>
                <a:latin typeface="Arial"/>
              </a:rPr>
              <a:t> </a:t>
            </a:r>
            <a:r>
              <a:rPr b="1" lang="es-ES_tradnl" sz="2400" spc="-1" strike="noStrike">
                <a:solidFill>
                  <a:srgbClr val="000000"/>
                </a:solidFill>
                <a:latin typeface="Arial"/>
              </a:rPr>
              <a:t>Modificó normas sobre solvencia y garantía de las Isapres (adjudicación de cartera en caso de iliquide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i.- Ley 19.937 (Feb/2004)</a:t>
            </a:r>
            <a:r>
              <a:rPr b="1" lang="es-ES_tradnl" sz="2400" spc="-1" strike="noStrike">
                <a:solidFill>
                  <a:srgbClr val="000000"/>
                </a:solidFill>
                <a:latin typeface="Arial"/>
              </a:rPr>
              <a:t>: Ley de Autoridad Sanitaria, vigente a contar del 01/01/2005.</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Establece nueva concepción de autoridad sanitaria.</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Crea la Superintendencia de Salud (reemplaza a la Superintendencia de Isapres SISP</a:t>
            </a:r>
            <a:r>
              <a:rPr b="0" lang="es-ES_tradnl" sz="2400" spc="-1" strike="noStrike">
                <a:solidFill>
                  <a:srgbClr val="000000"/>
                </a:solidFill>
                <a:latin typeface="Arial"/>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j.- Ley 19.966 (Sep/2004)</a:t>
            </a:r>
            <a:r>
              <a:rPr b="1" lang="es-ES_tradnl" sz="2400" spc="-1" strike="noStrike">
                <a:solidFill>
                  <a:srgbClr val="000000"/>
                </a:solidFill>
                <a:latin typeface="Arial"/>
              </a:rPr>
              <a:t>: Establece el Régimen de Garantías en Salud (GES). Rige a partir del 01/07/2005.</a:t>
            </a:r>
            <a:r>
              <a:rPr b="0"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914400"/>
            <a:ext cx="7391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533520" y="914400"/>
            <a:ext cx="807696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k.- D.S. N°170 (28/1/2005)</a:t>
            </a:r>
            <a:r>
              <a:rPr b="1" lang="es-ES_tradnl" sz="2400" spc="-1" strike="noStrike">
                <a:solidFill>
                  <a:srgbClr val="000000"/>
                </a:solidFill>
                <a:latin typeface="Arial"/>
              </a:rPr>
              <a:t>: Aprueba Garantías Explícitas en Salud, para 25 patologías. Rige a contar del 01/07/2005.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l.- Ley Nº20.015 “Ley Larga”:</a:t>
            </a:r>
            <a:r>
              <a:rPr b="1" lang="es-ES_tradnl" sz="2400" spc="-1" strike="noStrike">
                <a:solidFill>
                  <a:srgbClr val="000000"/>
                </a:solidFill>
                <a:latin typeface="Arial"/>
              </a:rPr>
              <a:t> Publicada en el Diario Oficial, el 17/5/2005;  Modifica Ley de Isapres. Entra en vigencia el 1/7/2005, misma fecha en que entra a regir el decreto que contiene las G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m.- DFL 1 del Ministerio de Salud:</a:t>
            </a:r>
            <a:r>
              <a:rPr b="1" lang="es-ES_tradnl" sz="2400" spc="-1" strike="noStrike">
                <a:solidFill>
                  <a:srgbClr val="000000"/>
                </a:solidFill>
                <a:latin typeface="Arial"/>
              </a:rPr>
              <a:t> Publicado en el Diario Oficial el 24/04/2006, fija el texto refundido, coordinado y sistematizado del DL N°2.763, de 1979 y de las leyes N°18.933 y N°18.46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457200" y="685800"/>
            <a:ext cx="822960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NATURALEZA JURIDICA</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tidades que se constituyen como personas jurídicas cuyo objeto exclusivo es “financiar” prestaciones y beneficios de salud, con cargo al aporte de la cotización para salud establecida en la le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609480" y="533520"/>
            <a:ext cx="7925040" cy="57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BENEFICIARIOS</a:t>
            </a:r>
            <a:r>
              <a:rPr b="1" lang="es-ES_tradnl" sz="2400" spc="-1" strike="noStrike">
                <a:solidFill>
                  <a:srgbClr val="000000"/>
                </a:solidFill>
                <a:latin typeface="Arial"/>
              </a:rPr>
              <a:t>:</a:t>
            </a:r>
            <a:r>
              <a:rPr b="0"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a:t>
            </a:r>
            <a:r>
              <a:rPr b="1" lang="es-ES_tradnl" sz="2400" spc="-1" strike="noStrike" u="sng">
                <a:solidFill>
                  <a:srgbClr val="000000"/>
                </a:solidFill>
                <a:uFillTx/>
                <a:latin typeface="Arial"/>
              </a:rPr>
              <a:t>Ley 18.469</a:t>
            </a:r>
            <a:r>
              <a:rPr b="1" lang="es-ES_tradnl" sz="2400" spc="-1" strike="noStrike">
                <a:solidFill>
                  <a:srgbClr val="000000"/>
                </a:solidFill>
                <a:latin typeface="Arial"/>
              </a:rPr>
              <a:t> creó el Régimen de Prestaciones de Salud, estableciendo en el </a:t>
            </a:r>
            <a:r>
              <a:rPr b="1" lang="es-ES_tradnl" sz="2400" spc="-1" strike="noStrike" u="sng">
                <a:solidFill>
                  <a:srgbClr val="000000"/>
                </a:solidFill>
                <a:uFillTx/>
                <a:latin typeface="Arial"/>
              </a:rPr>
              <a:t>Art. 5º</a:t>
            </a:r>
            <a:r>
              <a:rPr b="1" lang="es-ES_tradnl" sz="2400" spc="-1" strike="noStrike">
                <a:solidFill>
                  <a:srgbClr val="000000"/>
                </a:solidFill>
                <a:latin typeface="Arial"/>
              </a:rPr>
              <a:t> quiénes son </a:t>
            </a:r>
            <a:r>
              <a:rPr b="1" lang="es-ES_tradnl" sz="2400" spc="-1" strike="noStrike" u="sng">
                <a:solidFill>
                  <a:srgbClr val="000000"/>
                </a:solidFill>
                <a:uFillTx/>
                <a:latin typeface="Arial"/>
              </a:rPr>
              <a:t>Afiliados (ahora Art. 135 DFL 1)</a:t>
            </a: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Trabajadores dependientes del sector público o priv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2.- Trabajadores independientes que coticen en cualquier régimen prevision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3.- Personas que coticen en cualquier rég. legal de pensión como imponentes voluntario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4.- Personas que gocen de pensión previsional de cualquier naturaleza o de subsidio por incapacidad laboral o por cesantía. </a:t>
            </a:r>
            <a:r>
              <a:rPr b="1" lang="es-ES_tradnl"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914400" y="304920"/>
            <a:ext cx="7848720" cy="57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rt. 136 DFL 1 otorga la calidad de </a:t>
            </a:r>
            <a:r>
              <a:rPr b="1" lang="es-ES_tradnl" sz="2000" spc="-1" strike="noStrike" u="sng">
                <a:solidFill>
                  <a:srgbClr val="000000"/>
                </a:solidFill>
                <a:uFillTx/>
                <a:latin typeface="Arial"/>
              </a:rPr>
              <a:t>B</a:t>
            </a:r>
            <a:r>
              <a:rPr b="1" lang="es-ES_tradnl" sz="2000" spc="-1" strike="noStrike" u="sng">
                <a:solidFill>
                  <a:srgbClr val="000000"/>
                </a:solidFill>
                <a:uFillTx/>
                <a:latin typeface="Arial"/>
              </a:rPr>
              <a:t>eneficiarios</a:t>
            </a:r>
            <a:r>
              <a:rPr b="1" lang="es-ES_tradnl" sz="2000" spc="-1" strike="noStrike">
                <a:solidFill>
                  <a:srgbClr val="000000"/>
                </a:solidFill>
                <a:latin typeface="Arial"/>
              </a:rPr>
              <a:t> a las siguientes persona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 Los afiliados al régimen, señalados en el Nº1 anteri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 Los causantes por los cuales las personas indicadas en el Nº1 y Nº4 perciban asignación famili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 Personas que respecto de los afiliados del Nº2 y Nº3 cumplan con calidades y requerimientos que exige la ley para ser causante de asignación familiar de trabajador dependien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La mujer embarazada aún cuando no sea afiliada ni beneficiaria y el niño hasta los 6 años de edad.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Personas carentes de recursos o Indigent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 Los causantes de subsidio familiar (Ley N°18.02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g.- Las personas que gocen de una prestación de cesantía de acuerdo a la ley N° 19.728 y sus causantes de asignación famili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5T18:04:50Z</dcterms:created>
  <dc:creator>MIRIAM  ROJAS</dc:creator>
  <dc:description/>
  <dc:language>en-US</dc:language>
  <cp:lastModifiedBy>Haus</cp:lastModifiedBy>
  <dcterms:modified xsi:type="dcterms:W3CDTF">2007-05-23T17:24:54Z</dcterms:modified>
  <cp:revision>41</cp:revision>
  <dc:subject/>
  <dc:title>Sin título de diapositiva</dc:title>
</cp:coreProperties>
</file>