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E0C-3046-476D-9C6D-EF231039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820-1F6A-4E88-BB15-A7BF1B9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200-EB36-4DA1-B353-8253DDB2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0EA-F003-4377-94F1-504F1F4A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DA2-E5AC-42EF-881D-423BD3A5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40AC-ED14-4CD9-93CB-E90AF219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BC10-E6DA-4C27-B5CC-C1763D8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BD1B-58BE-45AA-A1B3-59783DC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AD02-375E-4B36-BB71-C586628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0EF-ECA4-4ED3-8BB1-CE445DCC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3C55-A864-4817-9871-E81EFE3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FEF-7C5F-4F4C-B875-AF4FF12B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D33A-1D37-4BBD-B25F-2DB050F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014-C57A-4ABC-A050-6A636A1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6D6B-E594-4BD6-B9D3-59B39CC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8B2-0E4D-4724-A3B3-0B82E413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A19-3EF3-4353-8B33-93FE0FDF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E62-A9AB-4520-8C49-235110B8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A2B-10BB-43A0-A6EF-124128C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5A3-4EDE-4415-8621-0A6933F1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2F2-2CAD-41BF-A622-3E3ABF1F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B27-E99D-41D1-BD1E-B57DD8D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CDF-996D-4942-A166-D71A0AF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F11-626D-4B94-B193-930C77ED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C9E-CFBE-4701-A4A7-BE106B265D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9F9-2265-42CC-B1C9-02015D557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NDIC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a  Libertad Sindical  y    las organizaciones    sindical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22D-417D-4055-AEA0-F530A6AC9042}" type="slidenum">
              <a:t>1</a:t>
            </a:fld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7773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.-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endencias de la regulación nacion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imacía sindicatos industri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filiación única y obligato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ruptura: G. Minerí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grícola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.L. 275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ámbito aplicación actual legisl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objetivos sindicales   *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C68-295C-41D5-B34E-3A9956D7F151}" type="slidenum">
              <a:t>10</a:t>
            </a:fld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3.- Constitución y Dirección   de las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tipos de sindicatos (entre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otros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de 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inter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independient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transito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quórums &gt; promoción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DAB-96B2-4AB9-A525-20A8D68750BC}" type="slidenum">
              <a:t>11</a:t>
            </a:fld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*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istema de registro     &gt; procedimient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regulación estatutaria &gt; primací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elección directores     &gt; procedimiento           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fuer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censur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A42-B3F7-4736-8CF4-7082C4457758}" type="slidenum">
              <a:t>12</a:t>
            </a:fld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.- la libertad sindical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Garamond"/>
                <a:hlinkClick r:id="rId2" action="ppaction://hlinksldjump"/>
              </a:rPr>
              <a:t>2.- tendencias de la regulación nacion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.- 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33A-2193-4C0C-B83C-5E845F766F51}" type="slidenum">
              <a:t>2</a:t>
            </a:fld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.-la 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los Derechos fundament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concep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vertiente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como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omo Dº Colectiv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60E-C85D-406E-BC7B-C1C234CA570C}" type="slidenum">
              <a:t>3</a:t>
            </a:fld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582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 Convenios   Nº   87  y   98    OI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constitu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afili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 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no discriminación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pluralismo sindic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cláusulas anti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466-B4CA-44C6-9050-297A5AB9DBED}" type="slidenum">
              <a:t>4</a:t>
            </a:fld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Libre constitución sindicat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sistemas: libre, preventivo, registr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re afiliación, desafiliación, no afiliació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2C-ED17-4E21-9A04-23708AA07FB8}" type="slidenum">
              <a:t>5</a:t>
            </a:fld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No discrimin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unidad y paralelismo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Constitución de sindica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Afili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F20-A3D4-4165-994B-AD1E11CB5F07}" type="slidenum">
              <a:t>6</a:t>
            </a:fld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las cláusulas anti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láusulas de exclu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ingres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sepa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cláusulas de preferencia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298-35E0-45D1-9722-078829DB646B}" type="slidenum">
              <a:t>7</a:t>
            </a:fld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686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 facultad constituyen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, prescripción parcial/tot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autonomía interna</a:t>
            </a:r>
            <a:r>
              <a:rPr b="1" lang="es-ES_tradnl" sz="3600" spc="-1" strike="noStrike">
                <a:solidFill>
                  <a:srgbClr val="00cc00"/>
                </a:solidFill>
                <a:latin typeface="Garamond"/>
              </a:rPr>
              <a:t> 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re designación dirigente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reunión y deliber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adm. fondos 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 libertad creación servicios complemen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2C0-6370-46E6-B769-85C74CED7019}" type="slidenum">
              <a:t>8</a:t>
            </a:fld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ertad de acción sindical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Libertad Federativa y Confederativa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F99-2741-4E35-B217-09DE6383F4CC}" type="slidenum">
              <a:t>9</a:t>
            </a:fld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0:19:03Z</dcterms:created>
  <dc:creator>Héctor Humeres</dc:creator>
  <dc:description/>
  <dc:language>en-US</dc:language>
  <cp:lastModifiedBy>USUARIO</cp:lastModifiedBy>
  <cp:lastPrinted>2002-04-14T18:31:46Z</cp:lastPrinted>
  <dcterms:modified xsi:type="dcterms:W3CDTF">2007-08-15T16:25:53Z</dcterms:modified>
  <cp:revision>11</cp:revision>
  <dc:subject/>
  <dc:title>DIPLOMADO EN “EL NUEVO DERECHO DE LA EMPRESA”</dc:title>
</cp:coreProperties>
</file>