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DEBA-65DB-496D-8623-59DE3099F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8DD5-B4C2-4AF5-A32E-13C4F26CB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2E02-2337-49B8-B994-F75A70F80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4885-E256-44BA-91C1-68750CD83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DEB6F-516F-478B-A004-30B0E60E9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D6B55-298A-43D1-B487-7B0FB1C97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9E075-1D98-41A0-ABF5-26879442A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92EB3-CCE4-4DF3-9785-3B47FDCEF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6DD40-109B-4955-88B8-F8A48AE5E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7081F-7A67-4C67-BBD8-9B545653A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96DDE-42B3-47B8-97CD-18871C538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92CC-7888-4003-9CB2-A60266078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3B2F0-4023-44AC-B50A-0AE074614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04AC8-21D2-440A-A08A-4B89472D5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73599-8EB5-4492-A34F-CCEC4F06F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A5C9A-9703-4180-9D00-CF50B12D9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CA307-618D-4D76-BB37-F6B45264C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8D7C-0E35-492C-9ECD-CD074E39B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1EC7-7044-4824-97F5-42235C64D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4976-5519-490D-91C7-96E901E84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321F-8F5A-4248-B06F-DD4F3E406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527E-2640-495B-8401-4999C22A8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D4EC-F78D-45DD-9335-DB011A475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D132-89C3-4581-9B82-65DCA86FB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1C64A-BBD7-41AF-9212-4D68E0B95E0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EE54F-95F1-4EC2-8F20-91B958FE485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0.xm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8305920" cy="114300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ffff00"/>
                </a:solidFill>
                <a:latin typeface="Garamond"/>
              </a:rPr>
              <a:t>SINDICATO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      </a:t>
            </a: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La  Libertad Sindical  y    las organizaciones    sindicales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H. HUMERES N.-    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4EEB-9EFA-4462-8AA9-3580F7CA608B}" type="slidenum">
              <a:t>1</a:t>
            </a:fld>
          </a:p>
        </p:txBody>
      </p:sp>
    </p:spTree>
  </p:cSld>
  <p:transition spd="slow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88640"/>
            <a:ext cx="7773840" cy="61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2.-</a:t>
            </a:r>
            <a:r>
              <a:rPr b="1" lang="en-US" sz="2800" spc="-1" strike="noStrike">
                <a:solidFill>
                  <a:srgbClr val="ff0000"/>
                </a:solidFill>
                <a:latin typeface="Garamond"/>
              </a:rPr>
              <a:t>Tendencias de la regulación naciona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12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12120" indent="-312120">
              <a:lnSpc>
                <a:spcPct val="6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primacía sindicatos industriales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1212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afiliación única y obligatoria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1212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* ruptura: G. Minería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agrícolas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12120" indent="-312120">
              <a:lnSpc>
                <a:spcPct val="7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D.L. 2756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12120" indent="-312120">
              <a:lnSpc>
                <a:spcPct val="7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ámbito aplicación actual legislación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* objetivos sindicales   *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H. HUMERES N.-    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79AD-CCAE-43F9-BB7B-5EA9370D3412}" type="slidenum">
              <a:t>10</a:t>
            </a:fld>
          </a:p>
        </p:txBody>
      </p:sp>
    </p:spTree>
  </p:cSld>
  <p:transition spd="slow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89000"/>
            <a:ext cx="7772400" cy="59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s-ES_tradnl" sz="3200" spc="-1" strike="noStrike">
                <a:solidFill>
                  <a:srgbClr val="ff0000"/>
                </a:solidFill>
                <a:latin typeface="Garamond"/>
              </a:rPr>
              <a:t>3.- Constitución y Dirección   de las entidades sindicales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281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281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281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Garamond"/>
              </a:rPr>
              <a:t>* tipos de sindicatos (entre </a:t>
            </a:r>
            <a:r>
              <a:rPr b="1" lang="es-ES_tradnl" sz="3200" spc="-1" strike="noStrike" u="sng">
                <a:solidFill>
                  <a:srgbClr val="ffff00"/>
                </a:solidFill>
                <a:uFillTx/>
                <a:latin typeface="Garamond"/>
              </a:rPr>
              <a:t>otros</a:t>
            </a:r>
            <a:r>
              <a:rPr b="1" lang="es-ES_tradnl" sz="3200" spc="-1" strike="noStrike">
                <a:solidFill>
                  <a:srgbClr val="ffff00"/>
                </a:solidFill>
                <a:latin typeface="Garamond"/>
              </a:rPr>
              <a:t>) :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28116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s-ES_tradnl" sz="3200" spc="-1" strike="noStrike">
                <a:solidFill>
                  <a:srgbClr val="ffff00"/>
                </a:solidFill>
                <a:latin typeface="Garamond"/>
              </a:rPr>
              <a:t>&gt; de empresa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28116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s-ES_tradnl" sz="3200" spc="-1" strike="noStrike">
                <a:solidFill>
                  <a:srgbClr val="ffff00"/>
                </a:solidFill>
                <a:latin typeface="Garamond"/>
              </a:rPr>
              <a:t>&gt; interempresa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2811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s-ES_tradnl" sz="3200" spc="-1" strike="noStrike">
                <a:solidFill>
                  <a:srgbClr val="ffff00"/>
                </a:solidFill>
                <a:latin typeface="Garamond"/>
              </a:rPr>
              <a:t>&gt; trabajadores independientes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2811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s-ES_tradnl" sz="3200" spc="-1" strike="noStrike">
                <a:solidFill>
                  <a:srgbClr val="ffff00"/>
                </a:solidFill>
                <a:latin typeface="Garamond"/>
              </a:rPr>
              <a:t>&gt; trabajadores transitorios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2811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2811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Garamond"/>
              </a:rPr>
              <a:t>* quórums &gt; promoción sindica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2811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281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281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H. HUMERES N.-    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9BFA-6192-4135-9C75-81B45E0F1C64}" type="slidenum">
              <a:t>11</a:t>
            </a:fld>
          </a:p>
        </p:txBody>
      </p:sp>
    </p:spTree>
  </p:cSld>
  <p:transition spd="slow"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-360"/>
            <a:ext cx="84582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Constitución y dirección entidades sindicales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28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28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284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2844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* 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sistema de registro     &gt; procedimiento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  <a:p>
            <a:pPr marL="2844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* regulación estatutaria &gt; primacía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  <a:p>
            <a:pPr marL="2844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* elección directores     &gt; procedimiento             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  <a:p>
            <a:pPr marL="2844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        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&gt; fueros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  <a:p>
            <a:pPr marL="2844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        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&gt; censura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  <a:p>
            <a:pPr marL="28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28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H. HUMERES N.-    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1ED2-9EA3-4D8B-BF21-0DD6FAFDEA7D}" type="slidenum">
              <a:t>12</a:t>
            </a:fld>
          </a:p>
        </p:txBody>
      </p:sp>
    </p:spTree>
  </p:cSld>
  <p:transition spd="slow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8305920" cy="114300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0" y="-360"/>
            <a:ext cx="9144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Agenda</a:t>
            </a: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1.- la libertad sindical 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ccff"/>
                </a:solidFill>
                <a:uFillTx/>
                <a:latin typeface="Garamond"/>
                <a:hlinkClick r:id="rId2" action="ppaction://hlinksldjump"/>
              </a:rPr>
              <a:t>2.- tendencias de la regulación naciona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3.- constitución y dirección entidades sindicales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H. HUMERES N.-    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9C9F-2BA7-45B4-AA2E-78C7A79F3A46}" type="slidenum">
              <a:t>2</a:t>
            </a:fld>
          </a:p>
        </p:txBody>
      </p:sp>
    </p:spTree>
  </p:cSld>
  <p:transition spd="slow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260280"/>
            <a:ext cx="7772400" cy="58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Garamond"/>
              </a:rPr>
              <a:t>1.-la Libertad sindical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a)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Garamond"/>
              </a:rPr>
              <a:t>los Derechos fundamentales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* conceptos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* vertientes: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 - </a:t>
            </a:r>
            <a:r>
              <a:rPr b="1" lang="en-US" sz="3200" spc="-1" strike="noStrike">
                <a:solidFill>
                  <a:srgbClr val="66ff33"/>
                </a:solidFill>
                <a:latin typeface="Garamond"/>
              </a:rPr>
              <a:t>como Dº individua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66ff33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66ff33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66ff33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66ff33"/>
                </a:solidFill>
                <a:latin typeface="Garamond"/>
              </a:rPr>
              <a:t>- como Dº Colectivo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H. HUMERES N.-    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E418-FF4B-4688-AD6A-02535CFD91C0}" type="slidenum">
              <a:t>3</a:t>
            </a:fld>
          </a:p>
        </p:txBody>
      </p:sp>
    </p:spTree>
  </p:cSld>
  <p:transition spd="slow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8000" y="333000"/>
            <a:ext cx="8458200" cy="53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  <a:p>
            <a:pPr marL="288000" indent="0">
              <a:lnSpc>
                <a:spcPct val="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  </a:t>
            </a:r>
            <a:r>
              <a:rPr b="1" lang="en-US" sz="3600" spc="-1" strike="noStrike">
                <a:solidFill>
                  <a:srgbClr val="ff0000"/>
                </a:solidFill>
                <a:latin typeface="Garamond"/>
              </a:rPr>
              <a:t>Libertad sindical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  <a:p>
            <a:pPr marL="288000" indent="0">
              <a:lnSpc>
                <a:spcPct val="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  <a:p>
            <a:pPr marL="288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a)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Garamond"/>
              </a:rPr>
              <a:t> Dº Individua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28800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&gt;  Convenios   Nº   87  y   98    OIT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28800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Garamond"/>
              </a:rPr>
              <a:t>&gt;&gt;</a:t>
            </a: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66ff33"/>
                </a:solidFill>
                <a:latin typeface="Garamond"/>
              </a:rPr>
              <a:t>libre constitución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Garamond"/>
              </a:rPr>
              <a:t>&gt;&gt;</a:t>
            </a: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66ff33"/>
                </a:solidFill>
                <a:latin typeface="Garamond"/>
              </a:rPr>
              <a:t>libre afiliación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28800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&gt; te mas conexos: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28800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   </a:t>
            </a:r>
            <a:r>
              <a:rPr b="1" lang="en-US" sz="2800" spc="-1" strike="noStrike">
                <a:solidFill>
                  <a:srgbClr val="ff0000"/>
                </a:solidFill>
                <a:latin typeface="Garamond"/>
              </a:rPr>
              <a:t>&gt;&gt;</a:t>
            </a: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66ff33"/>
                </a:solidFill>
                <a:latin typeface="Garamond"/>
              </a:rPr>
              <a:t>no discriminación</a:t>
            </a:r>
            <a:r>
              <a:rPr b="1" lang="en-US" sz="3200" spc="-1" strike="noStrike">
                <a:solidFill>
                  <a:srgbClr val="66ff33"/>
                </a:solidFill>
                <a:latin typeface="Garamond"/>
              </a:rPr>
              <a:t>   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28800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&gt;&gt;</a:t>
            </a:r>
            <a:r>
              <a:rPr b="1" lang="en-US" sz="2800" spc="-1" strike="noStrike">
                <a:solidFill>
                  <a:srgbClr val="66ff33"/>
                </a:solidFill>
                <a:latin typeface="Garamond"/>
              </a:rPr>
              <a:t>pluralismo sindica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28800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Garamond"/>
              </a:rPr>
              <a:t>&gt;&gt;</a:t>
            </a: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66ff33"/>
                </a:solidFill>
                <a:latin typeface="Garamond"/>
              </a:rPr>
              <a:t>cláusulas antisindicales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288000" indent="0">
              <a:lnSpc>
                <a:spcPct val="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H. HUMERES N.-    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2F26-971A-4745-A436-CB7121759C21}" type="slidenum">
              <a:t>4</a:t>
            </a:fld>
          </a:p>
        </p:txBody>
      </p:sp>
    </p:spTree>
  </p:cSld>
  <p:transition spd="slow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89000"/>
            <a:ext cx="9144000" cy="59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      </a:t>
            </a:r>
            <a:r>
              <a:rPr b="1" lang="en-US" sz="3600" spc="-1" strike="noStrike">
                <a:solidFill>
                  <a:srgbClr val="ff0000"/>
                </a:solidFill>
                <a:latin typeface="Garamond"/>
              </a:rPr>
              <a:t>Libertad sindical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Tahoma"/>
              </a:rPr>
              <a:t>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Garamond"/>
              </a:rPr>
              <a:t>Derecho Individual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&gt; Libre constitución sindicatos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  <a:p>
            <a:pPr marL="33264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&gt;&gt;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66ff33"/>
                </a:solidFill>
                <a:latin typeface="Garamond"/>
              </a:rPr>
              <a:t>sistemas: libre, preventivo, registro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&gt; 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Libre afiliación, desafiliación, no afiliación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  <a:p>
            <a:pPr marL="332640" indent="0">
              <a:lnSpc>
                <a:spcPct val="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H. HUMERES N.-    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0B88-ED2D-4B50-B64D-E09B9947559A}" type="slidenum">
              <a:t>5</a:t>
            </a:fld>
          </a:p>
        </p:txBody>
      </p:sp>
    </p:spTree>
  </p:cSld>
  <p:transition spd="slow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333000"/>
            <a:ext cx="91440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     </a:t>
            </a:r>
            <a:r>
              <a:rPr b="1" lang="en-US" sz="3600" spc="-1" strike="noStrike">
                <a:solidFill>
                  <a:srgbClr val="ff0000"/>
                </a:solidFill>
                <a:latin typeface="Garamond"/>
              </a:rPr>
              <a:t>Libertad sindical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Garamond"/>
              </a:rPr>
              <a:t>Derecho Individual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&gt; temas conexos: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&gt;&gt;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 No discriminación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&gt;&gt;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unidad y paralelismo sindica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66ff33"/>
                </a:solidFill>
                <a:latin typeface="Garamond"/>
              </a:rPr>
              <a:t>&gt;&gt;&gt; Constitución de sindicatos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66ff33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66ff33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66ff33"/>
                </a:solidFill>
                <a:latin typeface="Garamond"/>
              </a:rPr>
              <a:t>&gt;&gt;&gt; Afiliación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H. HUMERES N.-    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2374-F6E7-462B-BE01-CC2C52FE6FE4}" type="slidenum">
              <a:t>6</a:t>
            </a:fld>
          </a:p>
        </p:txBody>
      </p:sp>
    </p:spTree>
  </p:cSld>
  <p:transition spd="slow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189000"/>
            <a:ext cx="9144000" cy="59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      </a:t>
            </a:r>
            <a:r>
              <a:rPr b="1" lang="en-US" sz="3600" spc="-1" strike="noStrike">
                <a:solidFill>
                  <a:srgbClr val="ff0000"/>
                </a:solidFill>
                <a:latin typeface="Garamond"/>
              </a:rPr>
              <a:t>Libertad sindical 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Garamond"/>
              </a:rPr>
              <a:t>Derecho Individual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&gt; temas conexos:  </a:t>
            </a:r>
            <a:r>
              <a:rPr b="1" lang="en-US" sz="3600" spc="-1" strike="noStrike">
                <a:solidFill>
                  <a:srgbClr val="ff0000"/>
                </a:solidFill>
                <a:latin typeface="Garamond"/>
              </a:rPr>
              <a:t> 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&gt;&gt;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 las cláusulas antisindicales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66ff33"/>
                </a:solidFill>
                <a:latin typeface="Garamond"/>
              </a:rPr>
              <a:t>&gt;&gt;&gt;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cláusulas de exclusión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66ff33"/>
                </a:solidFill>
                <a:latin typeface="Garamond"/>
              </a:rPr>
              <a:t>- cláusulas de ingreso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66ff33"/>
                </a:solidFill>
                <a:latin typeface="Garamond"/>
              </a:rPr>
              <a:t>     </a:t>
            </a:r>
            <a:r>
              <a:rPr b="1" lang="en-US" sz="3200" spc="-1" strike="noStrike">
                <a:solidFill>
                  <a:srgbClr val="66ff33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66ff33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66ff33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66ff33"/>
                </a:solidFill>
                <a:latin typeface="Garamond"/>
              </a:rPr>
              <a:t>- cláusulas de separación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66ff33"/>
                </a:solidFill>
                <a:latin typeface="Garamond"/>
              </a:rPr>
              <a:t>&gt;&gt;&gt;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 cláusulas de preferencia sindica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H. HUMERES N.-    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DDCD-08C4-4F6F-82FD-1337D20F5D4D}" type="slidenum">
              <a:t>7</a:t>
            </a:fld>
          </a:p>
        </p:txBody>
      </p:sp>
    </p:spTree>
  </p:cSld>
  <p:transition spd="slow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9000"/>
            <a:ext cx="8686800" cy="59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0000"/>
                </a:solidFill>
                <a:latin typeface="Garamond"/>
              </a:rPr>
              <a:t>Libertad sindical</a:t>
            </a:r>
            <a:r>
              <a:rPr b="1" lang="es-ES_tradnl" sz="3200" spc="-1" strike="noStrike">
                <a:solidFill>
                  <a:srgbClr val="ff0000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25800" indent="0">
              <a:lnSpc>
                <a:spcPct val="6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  <a:p>
            <a:pPr marL="325800" indent="0">
              <a:lnSpc>
                <a:spcPct val="6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 u="sng">
                <a:solidFill>
                  <a:srgbClr val="ffff00"/>
                </a:solidFill>
                <a:uFillTx/>
                <a:latin typeface="Garamond"/>
              </a:rPr>
              <a:t>Derecho  Colectivo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0000"/>
                </a:solidFill>
                <a:latin typeface="Garamond"/>
              </a:rPr>
              <a:t>&gt;</a:t>
            </a:r>
            <a:r>
              <a:rPr b="1" lang="es-ES_tradnl" sz="3600" spc="-1" strike="noStrike">
                <a:solidFill>
                  <a:srgbClr val="ffff00"/>
                </a:solidFill>
                <a:latin typeface="Garamond"/>
              </a:rPr>
              <a:t> facultad constituyente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  <a:p>
            <a:pPr marL="32580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s-ES_tradnl" sz="2800" spc="-1" strike="noStrike">
                <a:solidFill>
                  <a:srgbClr val="66ff33"/>
                </a:solidFill>
                <a:latin typeface="Garamond"/>
              </a:rPr>
              <a:t>&gt;&gt;&gt;libertad, prescripción parcial/tota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2580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2580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0000"/>
                </a:solidFill>
                <a:latin typeface="Garamond"/>
              </a:rPr>
              <a:t>&gt;</a:t>
            </a:r>
            <a:r>
              <a:rPr b="1" lang="es-ES_tradnl" sz="3600" spc="-1" strike="noStrike">
                <a:solidFill>
                  <a:srgbClr val="ffff00"/>
                </a:solidFill>
                <a:latin typeface="Garamond"/>
              </a:rPr>
              <a:t>autonomía interna</a:t>
            </a:r>
            <a:r>
              <a:rPr b="1" lang="es-ES_tradnl" sz="3600" spc="-1" strike="noStrike">
                <a:solidFill>
                  <a:srgbClr val="00cc00"/>
                </a:solidFill>
                <a:latin typeface="Garamond"/>
              </a:rPr>
              <a:t> :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ff33"/>
                </a:solidFill>
                <a:latin typeface="Garamond"/>
              </a:rPr>
              <a:t>	</a:t>
            </a:r>
            <a:r>
              <a:rPr b="1" lang="es-ES_tradnl" sz="2800" spc="-1" strike="noStrike">
                <a:solidFill>
                  <a:srgbClr val="66ff33"/>
                </a:solidFill>
                <a:latin typeface="Garamond"/>
              </a:rPr>
              <a:t>&gt;&gt;&gt;libre designación dirigentes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ff33"/>
                </a:solidFill>
                <a:latin typeface="Garamond"/>
              </a:rPr>
              <a:t>	</a:t>
            </a:r>
            <a:r>
              <a:rPr b="1" lang="es-ES_tradnl" sz="2800" spc="-1" strike="noStrike">
                <a:solidFill>
                  <a:srgbClr val="66ff33"/>
                </a:solidFill>
                <a:latin typeface="Garamond"/>
              </a:rPr>
              <a:t>&gt;&gt;&gt;libertad reunión y deliberación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ff33"/>
                </a:solidFill>
                <a:latin typeface="Garamond"/>
              </a:rPr>
              <a:t>	</a:t>
            </a:r>
            <a:r>
              <a:rPr b="1" lang="es-ES_tradnl" sz="2800" spc="-1" strike="noStrike">
                <a:solidFill>
                  <a:srgbClr val="66ff33"/>
                </a:solidFill>
                <a:latin typeface="Garamond"/>
              </a:rPr>
              <a:t>&gt;&gt;&gt;libertad adm. fondos sindicales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ff33"/>
                </a:solidFill>
                <a:latin typeface="Garamond"/>
              </a:rPr>
              <a:t>   </a:t>
            </a:r>
            <a:r>
              <a:rPr b="1" lang="es-ES_tradnl" sz="2800" spc="-1" strike="noStrike">
                <a:solidFill>
                  <a:srgbClr val="66ff33"/>
                </a:solidFill>
                <a:latin typeface="Garamond"/>
              </a:rPr>
              <a:t>&gt;&gt;&gt; libertad creación servicios complement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ffff00"/>
                </a:solidFill>
                <a:uFillTx/>
                <a:latin typeface="Comic Sans MS"/>
              </a:rPr>
              <a:t> 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H. HUMERES N.-    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A167-8E0C-47EA-98D6-B7A18A0EEEC6}" type="slidenum">
              <a:t>8</a:t>
            </a:fld>
          </a:p>
        </p:txBody>
      </p:sp>
    </p:spTree>
  </p:cSld>
  <p:transition spd="slow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-3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      </a:t>
            </a:r>
            <a:r>
              <a:rPr b="1" lang="en-US" sz="3600" spc="-1" strike="noStrike">
                <a:solidFill>
                  <a:srgbClr val="ff0000"/>
                </a:solidFill>
                <a:latin typeface="Garamond"/>
              </a:rPr>
              <a:t>Libertad sindical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Garamond"/>
              </a:rPr>
              <a:t>Derecho  Colectivo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1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Garamond"/>
              </a:rPr>
              <a:t>&gt; 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Libertad de acción sindical  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00cc00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Garamond"/>
              </a:rPr>
              <a:t>&gt;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 Libertad Federativa y Confederativa 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cc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H. HUMERES N.-    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C450-C236-43FF-83AA-F1F8AB926172}" type="slidenum">
              <a:t>9</a:t>
            </a:fld>
          </a:p>
        </p:txBody>
      </p:sp>
    </p:spTree>
  </p:cSld>
  <p:transition spd="slow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1T20:19:03Z</dcterms:created>
  <dc:creator>Héctor Humeres</dc:creator>
  <dc:description/>
  <dc:language>en-US</dc:language>
  <cp:lastModifiedBy>USUARIO</cp:lastModifiedBy>
  <cp:lastPrinted>2002-04-14T18:31:46Z</cp:lastPrinted>
  <dcterms:modified xsi:type="dcterms:W3CDTF">2007-08-15T16:25:53Z</dcterms:modified>
  <cp:revision>11</cp:revision>
  <dc:subject/>
  <dc:title>DIPLOMADO EN “EL NUEVO DERECHO DE LA EMPRESA”</dc:title>
</cp:coreProperties>
</file>