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56A-1809-456E-A730-1084D8D1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EC8-FA2A-4E38-A494-6822CD7E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13B-D3F6-4157-8E29-8D48AD18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172-2BBA-485C-973B-81C87DB3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536-A864-4EFA-B399-0157CAE3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BBC-32F5-4738-80A7-F89BF7FB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176-5E5E-47D1-9B4D-38CFBF95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D40-4071-4E4E-B9F0-1815EAE9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79B-E3B8-4D0E-A614-9A9B1E54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133-5063-4600-A271-EE0FAFA3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8AD-0715-4F28-B499-C3D1E299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23F-21FB-4EB8-BC5F-D165C946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AD4D-E706-4D60-B3C0-F6F50FDC8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3059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5345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0773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38080" y="22860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114300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621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9907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2193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69160" y="3808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ncu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97000" y="2438280"/>
            <a:ext cx="60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OS CONVEN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720" y="5581800"/>
            <a:ext cx="603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Derecho Comercial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Derecho Concurs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ctavio Bofill Genz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Juni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59640" y="2708280"/>
            <a:ext cx="0" cy="346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600" y="1700280"/>
            <a:ext cx="227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nvenio preven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40440" y="1773360"/>
            <a:ext cx="187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nvenio simplemente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5920" y="220500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1989000"/>
            <a:ext cx="5270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impide ejercer acciones contra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se suspenden juicios pendi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 obsta a la realización de bienes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spende prescripción extintiva de revocato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ide compens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9760" y="2708280"/>
            <a:ext cx="197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produce efecto suspensivo de la quieb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7800" y="292428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97800" y="378936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6360" y="7588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24000" y="1268280"/>
            <a:ext cx="5484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280" y="1268280"/>
            <a:ext cx="50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ectos de la presentación de la pro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12080" y="3670200"/>
            <a:ext cx="2023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se presenta apoyado por 51% del total pasivo, el síndico sólo pue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lizar ciertos bi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200" y="3357720"/>
            <a:ext cx="6913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se presenta apoyado por 2 o + acreedores que suman más del 5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 total del pasivo (177 bis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deudor no podrá ser declarado en quieb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ciarse ni proseguirse ejecuciones ni restitución juicios arrie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spende prescripción extin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hibición de gravar y enaje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ante 90 días desde la notificación cita acreedores a delibe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no hay acuerdo en 90 días, quiebra de oficio del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se presenta apoyado por 2 o + acreedores que suman más del 66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 total del pasivo (177 quáter), efectos adi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0320" y="335772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87480" y="2133720"/>
            <a:ext cx="77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preside el Presidente designado por la Junta, ante el ju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6360" y="7588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8120" y="1295280"/>
            <a:ext cx="2133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13000" y="1339920"/>
            <a:ext cx="18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POSI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10320" y="1773360"/>
            <a:ext cx="22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unta de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3640" y="2492280"/>
            <a:ext cx="68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arecencia de acreedores es personal o por medio de manda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234936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70828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0686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3880" y="2852640"/>
            <a:ext cx="855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icipan acreedores que figuren en nómina de créditos reconocidos y los impug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mitidos para este efecto por el juez en audiencia verbal, sólo para junta en cuest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rt. 1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8606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21600" y="3645000"/>
            <a:ext cx="297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síndico tiene derecho a 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5080" y="4005360"/>
            <a:ext cx="741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ólo votan los acreedores comunes o valistas. Acreedores privilegiados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ferentes, si votan, se entiende renuncian a sus preferencias o privilegi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3120" y="5514840"/>
            <a:ext cx="86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udo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debe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arecer; so pena de declaración de quiebra por el tribunal (preventiv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422100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571500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1080" y="4869000"/>
            <a:ext cx="580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ertos parientes sólo pueden votar en contra d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50846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2520" y="4532400"/>
            <a:ext cx="86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ionarios de créditos de 30 días previos a la proposición no votan ni pueden impug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472428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0720" y="5180040"/>
            <a:ext cx="30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votan relacionados ni EI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537372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360" y="7588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53360" y="1557360"/>
            <a:ext cx="41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robación de los Convenios Judici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6680" y="2060640"/>
            <a:ext cx="8344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considera aprobado (art 190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buClr>
                <a:srgbClr val="0000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ntimiento del deudor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buClr>
                <a:srgbClr val="0000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to conforme de los 2/3 de los acreedores concurrentes que representen el 75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 pasivo con derecho a vo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414972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7440" y="3860640"/>
            <a:ext cx="782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ónyuge, ascendientes, descendientes, hermanos del deudor o represent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c: 193 Sólo para oponerse a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1680" y="4653000"/>
            <a:ext cx="55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sonas relacionadas (art 100 Ley Mercado de Valor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486900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62920" y="5157720"/>
            <a:ext cx="81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tular de EIRL respecto de ella y viceversa; cesionario de créditos de últimos 30 d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537372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56600" y="3429000"/>
            <a:ext cx="199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pueden vota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486900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96360" y="7588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22766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20606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3040" y="1916280"/>
            <a:ext cx="827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un mecanismo que permite a los acreedores que apoyan el convenio excluir a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identes, pagando o asegurando el pago de sus acre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5240" y="2708280"/>
            <a:ext cx="79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be proponerse en la misma Junta, una vez conocido el resultado de la vo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28526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4800" y="3213000"/>
            <a:ext cx="838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supone el pago o garantía del total del crédito si no de la parte que se estima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pagaría durante la liquidación judicial de acuerdo a 174 Nº 2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342900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3640" y="1413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clusión de los acreedores disidentes (19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98480" y="4076640"/>
            <a:ext cx="829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 que desea excluir debe acompañar vale vista a orden de acreedor disi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acuerdo a 174 Nº 2 letra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3520" y="4797360"/>
            <a:ext cx="834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 disidente puede impugnar cantidad, da lugar a incidente que si es acog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liga a acreedor excluyente a pagar la diferenc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 excluido conservará acciones en contra de terceros obligados al pago de s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édito y estos podrán subrogar o reemplazar a acreedor excluido en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29264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1280" y="501336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96360" y="7588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" y="22766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0606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6520" y="1916280"/>
            <a:ext cx="66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empre pueden asistir a Junta y discutir proposiciones de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1000" y="2421000"/>
            <a:ext cx="829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drán votar sólo en la medida que renuncien a sus preferencias. El hecho de que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 preferente vote importa la renuncia de la prefer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256536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8680" y="3213000"/>
            <a:ext cx="782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iere mención expresa: (i) renuncia parcial y (ii) voto de acreedores c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éditos preferente y no preferentes que quieran incluir ambos tipos de cré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8360" y="342900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63640" y="1413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oto Acreedores preferentes (1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8320" y="4076640"/>
            <a:ext cx="79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s montos de los créditos cuyas preferencias fueron renunciadas se incluyen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pasivo, hasta el monto de la renu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8440" y="4797360"/>
            <a:ext cx="854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sionarios de créditos adquiridos dentro de últimos 30 días anteriores a proposi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pueden concurrir a Junta ni votar el Convenio ni impugnar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42926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501336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49600" y="1481040"/>
            <a:ext cx="3188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mpugnación d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1916280"/>
            <a:ext cx="8748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gitimados activ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 la acción de impugn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es del deudor a quien pudiere afectar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dos aquellos que hubiesen otorgado cauciones reales o personales o que sean terc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eedores de bienes constituidos en garantía de obligaciones del deudor, cuando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ectivos acreedores no hubieren votado a favor d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1080" y="2060640"/>
            <a:ext cx="287280" cy="142920"/>
          </a:xfrm>
          <a:custGeom>
            <a:avLst/>
            <a:gdLst>
              <a:gd name="textAreaLeft" fmla="*/ 44640 w 287280"/>
              <a:gd name="textAreaRight" fmla="*/ 251640 w 2872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256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436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4076640"/>
            <a:ext cx="287280" cy="142920"/>
          </a:xfrm>
          <a:custGeom>
            <a:avLst/>
            <a:gdLst>
              <a:gd name="textAreaLeft" fmla="*/ 44640 w 287280"/>
              <a:gd name="textAreaRight" fmla="*/ 251640 w 2872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4005360"/>
            <a:ext cx="874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gitimado pas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 la acción de impugnación es siempre el deudor, aunque no hubiere efectuado las proposiciones, y en el caso que hubiere sido propuesto por un acreedor, éste también será parte del incidente de oposi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96360" y="7588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1989000"/>
            <a:ext cx="287280" cy="14472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40464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50320" y="1500120"/>
            <a:ext cx="3155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mpugnación d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7640" y="1844640"/>
            <a:ext cx="9459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ausales de Impugnación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art. 196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fectos de forma en convocación y celebración de junta, o error en cómput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s mayorías que exige la 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2. Falsedad o exageración del crédito o incapacidad o falta de personería para votar de 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hayan concurrido para formar la mayoría, si excluido desaparece tal mayo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3. Fraude entre acreedores y deudor para votar convenio o abstenerse de concurr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4. Error u omisión sustancial en las listas de bienes o de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5. Ocultación o exageración del activo o pas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6. Disposiciones contrarias a art 178 inc 1-5 (objeto del conven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4160" y="76500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2360" y="187956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306864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42920" y="404640"/>
            <a:ext cx="6330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0320" y="1500120"/>
            <a:ext cx="3155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mpugnación d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6840" y="1773360"/>
            <a:ext cx="771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z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5 días desde la notificación por aviso que da cuenta de la aprobación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venio (197 y 1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entaciones extemporáneas serán rechazadas de pl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8280" y="2997360"/>
            <a:ext cx="9333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ramita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e arregla bajo las normas de los incidentes (19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alquier acreedor puede intervenir como tercero coadyuv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venio comienza a regir des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buClr>
                <a:srgbClr val="0000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 se encuentra vencido plazo para impugnar sin haberse presen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buClr>
                <a:srgbClr val="0000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 cause ejecutoria resolución que desecha impugn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ambos casos el juez lo debe declarar de oficio o a petición de interes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nvenio judicial preventivo comienza a regir sin perjuicio de las impugnaciones si é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 cuentan con el apoyo del 30% del pasivo con derecho a vo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Si se acog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ugnaciones actos no pueden dejarse sin efecto sino por 2468 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407664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04160" y="76500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42920" y="404640"/>
            <a:ext cx="6330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89920" y="1587600"/>
            <a:ext cx="4953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fectos de la sentencia que acoge impugn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64920" y="1984320"/>
            <a:ext cx="874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ntenci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que acoge la solicitud de impugnación deja sin efecto todo el proce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 aprobación del conven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72560" y="2992320"/>
            <a:ext cx="37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udor puede reiterar la propos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1280" y="220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32148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57520" y="3789360"/>
            <a:ext cx="5145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fectos de la sentencia que rechaza impugn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6480" y="4221000"/>
            <a:ext cx="829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convenio empezará a regir desde que quede ejecutoriada la sentencia que rech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impugn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5400" y="4863960"/>
            <a:ext cx="86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octrina postula que pendiente la resolución de término, no cabría declarar l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4437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50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61600" y="83664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venio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62520" y="2254320"/>
            <a:ext cx="0" cy="15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42040" y="1981080"/>
            <a:ext cx="227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nvenio preven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42720" y="1981080"/>
            <a:ext cx="33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nvenio simplemente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5920" y="275760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570040"/>
            <a:ext cx="361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orta la quiebra del deudor (2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84720" y="2585880"/>
            <a:ext cx="363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inúa la prosecución del proc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03560" y="275760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03560" y="320040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96360" y="7588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08280" y="1339920"/>
            <a:ext cx="35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fectos del  Rechazo d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3048120"/>
            <a:ext cx="361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puede reitera, pero bajo l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0320" y="320040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90920" y="1295280"/>
            <a:ext cx="3709800" cy="47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333320" y="301608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deudor puede reitera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97480" y="4006800"/>
            <a:ext cx="400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fectos de la aprobación d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64000" y="3962520"/>
            <a:ext cx="40687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22560" y="4768920"/>
            <a:ext cx="0" cy="15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02440" y="4495680"/>
            <a:ext cx="227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nvenio preven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02760" y="4495680"/>
            <a:ext cx="33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nvenio simplemente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320" y="527220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1280" y="5084640"/>
            <a:ext cx="361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no se deducen impugnaciones, dentro del plazo legal, el juez de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larar aprobado el conveni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icio o a petición de parte (1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63960" y="527220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67080" y="5054760"/>
            <a:ext cx="361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no se deducen impugnaciones, dentro del plazo legal, el juez de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larar aprobado el conveni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icio o a petición de parte (1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ctrina procesalista niega el carácter contractual del conveni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obligatoriedad del convenio es la resolución judicial o la 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ctrina contractualista ve en el convenio un cont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solución judicial es sólo una solemnidad impuesta para el control de la legalidad d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scute la naturaleza de transacción de los conven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 aquellos que la critic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s convenios no generan concesiones recíprocas de las pa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transacción sólo puede operar sobre un proceso declar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transacción produce efecto de cosa juzg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transacción opera sólo en la esfera extra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/>
          <p:nvPr/>
        </p:nvCxnSpPr>
        <p:spPr>
          <a:xfrm flipH="1" rot="16200000">
            <a:off x="982080" y="5051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982080" y="53391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63" name=""/>
          <p:cNvCxnSpPr/>
          <p:nvPr/>
        </p:nvCxnSpPr>
        <p:spPr>
          <a:xfrm flipH="1" rot="16200000">
            <a:off x="982080" y="47862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64" name=""/>
          <p:cNvCxnSpPr/>
          <p:nvPr/>
        </p:nvCxnSpPr>
        <p:spPr>
          <a:xfrm flipH="1" rot="16200000">
            <a:off x="982080" y="4499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796360" y="836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NATURALEZA JURÍ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54360" y="1487520"/>
            <a:ext cx="262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FECTOS D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6480" y="1484280"/>
            <a:ext cx="26575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600" y="3927600"/>
            <a:ext cx="34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27478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32367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ne término a la quiebra o impide su declaración, según sea el c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1989000"/>
            <a:ext cx="83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liga a todos los acreedores, incluso a los disidentes, omitidos e inconcurrentes (200). Sólo se excluyen los acreedores privilegiados y preferentes (2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558972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inhabilidades que produce la quiebra continúa mientras el deudor no sea rehabilitado según la ley, (201 y 23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37162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proceso de calificación de la quiebra no se interrum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5640" y="7588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2120" y="410040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s juicios acumulados que no hubieren terminado por el convenio continúan bajo la esfera del tribunal que conoció de l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2120" y="4941720"/>
            <a:ext cx="838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deudor puede quedar sujeto a intervención o a comisión de acreedores hasta que se cumpla 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0920" y="2660760"/>
            <a:ext cx="837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ley define quiénes son acreedores para este efecto (2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53280" y="1487520"/>
            <a:ext cx="29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TINCIÓN  D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06480" y="1484280"/>
            <a:ext cx="30891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600" y="3927600"/>
            <a:ext cx="34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27478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421000"/>
            <a:ext cx="8381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   Declaración de nulidad, sin efecto retroa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usal de nulidad art. 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año de prescripció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1989000"/>
            <a:ext cx="837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umplimiento de sus estipul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95640" y="7588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81400" y="4365720"/>
            <a:ext cx="4737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fectos de la sentencia que  acoge la  nu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6840" y="47973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extingue 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530064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extinguen las garantías constituidas para caucionar las obligaciones d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5280" y="575640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orta la quiebra del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306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53280" y="1487520"/>
            <a:ext cx="29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TINCIÓN  D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06480" y="1484280"/>
            <a:ext cx="30891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600" y="3927600"/>
            <a:ext cx="34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27478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1989000"/>
            <a:ext cx="83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cumplimiento del Convenio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efecto retroa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5640" y="7588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2349360"/>
            <a:ext cx="8381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usales 211 - 2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competente para conocer la acción de resolución el tribunal que tramitó su aprob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cribe en el plazo de 6 meses desde que haya podido entabl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24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306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836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3480" y="4581360"/>
            <a:ext cx="3624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fectos de la sentencia que  ac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6840" y="518004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extingue 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6840" y="544500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orta la quiebra del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6840" y="573408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se extinguen las garantías constituidas para caucionar las obligaciones d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928080" y="148752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UEV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06480" y="1484280"/>
            <a:ext cx="19368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600" y="3927600"/>
            <a:ext cx="34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27478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95640" y="7588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" y="206064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es son los casos: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528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5280" y="299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0080" y="3716280"/>
            <a:ext cx="909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f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54120" y="24922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pertura de la quiebra sobreseída temporalmente (162 y 16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6840" y="407664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currencia de acreedores concordatarios y no concordatarios (2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285264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laración de quiebra del deudor mientras esté vigente un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323676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laración de quiebra por nulidad o incumplimiento del convenio simplemente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6840" y="446076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mite el ejercicio de acciones revocatorias conforme a la ley (2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6840" y="486900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orta la terminación del convenio vi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2440" y="184464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VEN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757160" y="1506600"/>
            <a:ext cx="6120" cy="11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896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757520" y="1506600"/>
            <a:ext cx="865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1480" y="134136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cuerdo extrajud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38440" y="2492280"/>
            <a:ext cx="17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venio jud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4720" y="23702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4720" y="23702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3068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6320" y="2205000"/>
            <a:ext cx="271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venio judicial Preven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9600" y="2924280"/>
            <a:ext cx="293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venio Simplemente Jud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350208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50400" y="3457440"/>
            <a:ext cx="235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cuerdo extra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41600" y="3457440"/>
            <a:ext cx="19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nvenio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7440" y="400536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880" y="3817800"/>
            <a:ext cx="359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luntad unánime de quienes s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ligados por é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31520" y="3833640"/>
            <a:ext cx="508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luntad representativa de determinadas may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2360" y="4468680"/>
            <a:ext cx="31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requiere aprobación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47800" y="4483080"/>
            <a:ext cx="289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iere aprobación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7440" y="465300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05440" y="400536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05440" y="465300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2800" y="49705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ólo es preven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77320" y="4970520"/>
            <a:ext cx="25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 preventivo y alza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7440" y="515772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05440" y="515772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120" y="5397480"/>
            <a:ext cx="360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 la unanimidad que exige, obl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prefe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32920" y="5445000"/>
            <a:ext cx="553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 regla general no obliga a preferentes, a me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 renuncie a la preferencia o se tenga por renunci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7440" y="558972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05440" y="544500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69400" y="83664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Clas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7440" y="7588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cuerdo Extra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557360"/>
            <a:ext cx="17287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8480" y="16444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440" y="2319480"/>
            <a:ext cx="7568640" cy="40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jo la ley anterior existían requisitos de forma y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lebración de asambl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entación de la situación financiera del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a d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ocolización del convenio y del balance o inventario suscr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venio de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nimidad de los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Hoy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libertad absoluta “aunque se denominen convenios” (arts. 169, 1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e refieren al pago o administración de bi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f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ólo tienen el efecto de obligar a los que concurren a e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270972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2040" y="2060640"/>
            <a:ext cx="227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nvenio preven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42720" y="2060640"/>
            <a:ext cx="33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nvenio simplemente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314172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92428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oce tribunal que correspondería declarar quiebra, salvo: Tribunal arbitral, (i) art 180, sociedades fiscalizadas por Superintendencia  Valores y Seguros, o (ii) 184, acuerdo deudor y acreedores de 66% total pas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86720" y="3043080"/>
            <a:ext cx="38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oce tribunal que declaró l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2387520"/>
            <a:ext cx="47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pueden presentar en cualquier oportunidad previo a la apertura de l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51520" y="3581280"/>
            <a:ext cx="41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 cualquier estado de la quiebra (a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ndiente los plazos para recurrir de el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256536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26160" y="321480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26160" y="3809880"/>
            <a:ext cx="25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000" y="479736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464832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719600"/>
            <a:ext cx="44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 solicitante no puede haber sido condenado ni procesado por algún delito del 466 del C.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34320" y="5133960"/>
            <a:ext cx="312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se exige capacidad e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97440" y="533412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360" y="7588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295280"/>
            <a:ext cx="2133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13000" y="1339920"/>
            <a:ext cx="18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POSI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37200" y="4495680"/>
            <a:ext cx="29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 el fallido o los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18788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presenta el deudor, por iniciativa propia o del acreedor (171, 17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42926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3840" y="5300640"/>
            <a:ext cx="439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imiento especial de propuesta: experto facilitador (art 177 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55166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092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030400"/>
            <a:ext cx="85104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i a iniciativa de uno o más acreedores (172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ólo algunos acreedor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Es acreedor del 43 número 1 o 2 (puede no ser actualmente exigible), salvo relacionados y EIRL (117 bis,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olicita se ordene al deudor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 sucesión) presentar la propos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es a la sucesión aplican mismos efectos que quiebra sucesión (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fectos especiales ante la notificación de la solicitud del acreedor (impide retirar, desistir, transigir), y ante la proposición: pago posterior al acreedor es nu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se desecha solicitud del acreedor, éste puede pedir quiebra (se radica competencia en el tribunal si es por la misma causa y h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Falta de presentación de la proposición – por parte del deudor - en plazo, acarrea la quiebra de oficio del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udor requerido puede acogerse al 117 ter (experto facilitad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360" y="7588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1295280"/>
            <a:ext cx="476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9080" y="1341360"/>
            <a:ext cx="432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POSICIONES CONVENIO PREVEN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1773360"/>
            <a:ext cx="8510400" cy="52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Procedimiento especial: experto facilitador (177 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dimiento a iniciativa del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ompaña antecedentes de solicitud de quiebra prop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pide citación a junta de acreedores para designar experto facilitad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notificación por av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designa interventor con facultades específicas, presenta nómina de acreedores (17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Experto facilitador deberá evaluar (i) y proponer convenio más ventajoso que la quiebr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para los acreedore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ii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pedir al juez se declare la quiebra del deud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que lo hará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in más trámi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i experto facilitador no evacua cometido, juez declara quiebra de o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es: en nómina del deudor, certificada por auditores externos SVS, independientes, salvo relacionados y EI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íodo d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lack out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uspende derecho a pedir quiebra o iniciar ejecuciones del deudor, suspende prescripción extintiva, interventor de la libre administración de bienes del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erto facilitador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ualqui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ersona natural capaz de administrar sus bie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presenta proposición, plazos y formas especiales para la junta que las cono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6360" y="7588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1295280"/>
            <a:ext cx="476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89080" y="1341360"/>
            <a:ext cx="432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POSICIONES CONVENIO PREVEN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5880" y="2205000"/>
            <a:ext cx="80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nido del convenio (17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960" y="4005360"/>
            <a:ext cx="85107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ternativas de contenido son variables, dependen de la realidad de cada empresa, sus activos y pasivos, ejemplos de proposi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ificación de plazos de pago, amortizaciones e intereses; tratamiento diferenciado para acreedores y proveedores, hoy indiscutible sobre la base de propuestas alternativ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étodos de pago distintos a los origin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s parciales con daciones en pago o liquidaciones de a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totales o parciales con flujos del giro, creación de bolsones de flujos y utilidades para grupos de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6360" y="7588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295280"/>
            <a:ext cx="2133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1339920"/>
            <a:ext cx="18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POSI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05640" y="1873080"/>
            <a:ext cx="22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quisitos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2637000"/>
            <a:ext cx="820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ualquier objeto lícito que evite la quiebra o le ponga término, salvo alteración de cuantía de créd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 puede  ser discriminato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nteamientos alternativos, a opción de acr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drá pactarse arbitraje como medio de solución de confli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52380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ahoma"/>
              </a:rPr>
              <a:t>Los Conven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2711520"/>
            <a:ext cx="0" cy="346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300400"/>
            <a:ext cx="414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nvenio preventiv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ue deriva de arts. 171 y 1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37800" y="2438280"/>
            <a:ext cx="33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nvenio simplemente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5920" y="30686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1080" y="2852640"/>
            <a:ext cx="47646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ez hará notificar al mayor acreedor (hasta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gundo o sorteo) para que nomine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ue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a síndico titular y supl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mete al deudor a intervención del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índico emita informe sobre proposic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reedores presenten antecedentes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stifiquen sus cré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voca a Junta de acreedor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tación audiencia especial para fijación de 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norarios del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icación por av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icadas, no pueden ser retir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05480" y="3043080"/>
            <a:ext cx="324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acoge solicitud, Juez ordena que se someta a aprobación en Junta extraordin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14840" y="4116240"/>
            <a:ext cx="3017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nómina que reconoce créditos debe est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da a la fecha de la Junta que conozca l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posiciones del conve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92720" y="321480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42926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360" y="7588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venio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1295280"/>
            <a:ext cx="2133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13000" y="1339920"/>
            <a:ext cx="18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POSI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66480" y="1873080"/>
            <a:ext cx="28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ramitación proposi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00" y="573408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602136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3:39:54Z</dcterms:created>
  <dc:creator>OBG</dc:creator>
  <dc:description/>
  <dc:language>en-US</dc:language>
  <cp:lastModifiedBy>Octavio Bofill</cp:lastModifiedBy>
  <dcterms:modified xsi:type="dcterms:W3CDTF">2007-06-19T20:43:48Z</dcterms:modified>
  <cp:revision>119</cp:revision>
  <dc:subject/>
  <dc:title>Conven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9879F79855A26347AFFD05BE888293EA047F3000</vt:lpwstr>
  </property>
  <property fmtid="{D5CDD505-2E9C-101B-9397-08002B2CF9AE}" pid="3" name="_ReviewCycleID">
    <vt:r8>-137917959</vt:r8>
  </property>
  <property fmtid="{D5CDD505-2E9C-101B-9397-08002B2CF9AE}" pid="4" name="_ReviewingToolsShownOnce">
    <vt:lpwstr/>
  </property>
</Properties>
</file>