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6F4-742A-4017-8711-82F5FDC0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697-9659-4D06-8C8E-83875E7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317-C83D-43DD-870C-011CC54E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853-2398-4B54-9901-224EF850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FC5-E8C1-4046-AC9F-02C8FEF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137-D477-4E9D-85F5-3969ABF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F04-CAFB-45E7-A954-A5409D1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759-88AB-4A48-B63A-C22A6897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E85-873D-4906-B171-A9B3A2C8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C59-2413-4EAA-84E7-A7CC057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84A-3257-49C3-94ED-FB85686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BE8-C3E9-432D-BCB3-8B1D591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51B7-566C-479D-8356-864B3032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Globales ( a lo men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n de reducción buses en uso: opacidad 30% m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s de emisión para diversos tipos de vehí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49672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des fuentes plan volu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todo el otoño e invier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 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s de emisión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e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, mandatorias o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. 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Metas por contaminante (año 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45417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-10 (combust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vo (polvo resuspedi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57:59Z</dcterms:modified>
  <cp:revision>54</cp:revision>
  <dc:subject/>
  <dc:title>PowerPoint Presentation</dc:title>
</cp:coreProperties>
</file>