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16C-6F68-43F6-B78A-007E1A9C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1D8-EA5E-4598-BD87-66A3F994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8B7-697C-435B-9A60-1A3BF845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686-E238-4534-B9F8-1D3081CE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8CD-CB5B-46B4-9C3D-FAC7FC78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990-62F6-4847-8726-9489F1A6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AFB-05D8-414A-9608-495A500A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FA5-B41D-4443-AA2B-65148818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AA4-B30F-4DE0-B8F9-6F5E9EDD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17D-90FD-4AC2-95A6-725C0959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E4B-C237-45FF-B476-A9A7024D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11E-6C98-4B9F-89ED-46AA4D08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7D86-40B1-4DA5-B365-46A4ADD65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Globales ( a lo men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an de reducción buses en uso: opacidad 30% me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s de emisión para diversos tipos de vehí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49672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des fuentes plan volun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todo el otoño e invier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 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s de emisión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e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, mandatorias o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. 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Metas por contaminante (año 200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057400"/>
          <a:ext cx="7772400" cy="45417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-10 (combust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vo (polvo resuspedi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4-06-02T16:57:59Z</dcterms:modified>
  <cp:revision>54</cp:revision>
  <dc:subject/>
  <dc:title>PowerPoint Presentation</dc:title>
</cp:coreProperties>
</file>