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7F2-57A2-4CDA-8B5B-98FA1023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D3A-5BA3-4324-A5D0-117FE2F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D3C-1E1F-4C59-8548-AAB40158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92D-4B8F-44C2-91A8-F785D80D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EE6-4D78-414E-81B9-3E97FBBC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54E-65A0-4FB3-A26F-87CFDD22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C89-C4D3-4FE6-87C9-17131D0E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79E-78D2-4849-8621-8F8620D7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9CC-353E-4288-8231-7D1057EF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99F-7ADC-4DFC-89E3-69B77A1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C6C-CC1D-431B-AEC8-6F44075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895-EE1C-4052-8825-DDDCB227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F6CC-FF52-4696-BD15-01F39851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Globales ( a lo men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an de reducción buses en uso: opacidad 30% m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s de emisión para diversos tipos de vehí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49672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des fuentes plan volun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todo el otoño e invier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 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s de emisión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e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, mandatorias o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. 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Metas por contaminante (año 200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7400"/>
          <a:ext cx="7772400" cy="45417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-10 (combust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vo (polvo resuspedi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57:59Z</dcterms:modified>
  <cp:revision>54</cp:revision>
  <dc:subject/>
  <dc:title>PowerPoint Presentation</dc:title>
</cp:coreProperties>
</file>