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3D42-184B-424A-828D-1D44EE54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483F-731A-45A5-B046-DBE69D91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2420-36FE-4EE1-8BC6-9DAA6C67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4AE3-230F-42AD-A935-AF713FBD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5688-9373-4532-A7EB-B96EE554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26DD-1BAB-4E7B-9E34-22AA88C8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1E74-00B4-4B2D-A877-EBF87727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0C22-24A4-4D30-88E8-E6212AF5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93FE-EAC6-4EFF-9258-FE3BBEF8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2566-2289-4BF8-BD93-E95D1664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94A9-EFEF-45CE-AEDE-11B545BE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EC07-CCB4-4088-AFD4-7D219440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69C7-4735-4E1D-AABC-8D56803B0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Plan de Preven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 y Descontaminación R.M. (P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Metas por sector (Fuentes Móvil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tas Globales ( a lo meno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P-10: 7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tas Transporte Público: Se asignana metas individuales en licitación plazo cumplimiento. 200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lan de reducción buses en uso: opacidad 30% me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rmas de emisión para diversos tipos de vehículos nue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Metas por sector (Fuentes Fija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1981080"/>
          <a:ext cx="7772400" cy="496728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ínea B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ra met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 p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i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ng/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andes fuentes plan volunta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a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a 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Otras regu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ulaciones para combust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emisiones para calefacción residencial( normas de emis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contaminación intramu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rmas de control de COV asociado a cadena de distribución de combust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levantamiento de polvo y generación de áreas verdes (Compensación de áreas verde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Otras regu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didas todo el otoño e inviern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didas para enfrentar episodios crí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ntecedentes previos al P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vio al plan existián una serie de regulaciones dictadas antes de Ley 19.300, en virtud de disposiciones vigentes a esa época. Salvo catalíticos es casi todo para M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ransportes normas de emisión ( autos catalíticos), y revisión técnica. Retiro de buses, Licitación de recorr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uentes Fijas: Normas de emisión D.S. Nº4, y complementos 1992 (MP). Compensación de emisiones ( fuentes nuevas y forma de cumplir meta 1997). 1995, exclusión de procesos de sistema de compens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tras fuentes: prohibición uso de chimeneas de hogar abierto, de quemas agrícolas en períodos inver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gulación de situaciones de pre-emergencia y emerg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grama de lavado de call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Anteceden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1996 Declaración zona saturada y letent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aturada para Ozono, Material Particulado respirable, pts y monóxido caebo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tente: Dioxido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scusión respecto a criterios geográficos para declarar la R.M., como zona satur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lan complejo gran cantidad de medida, mandatorias o recomend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uentes Fij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tas para diversos contaminantes en grandes fuentes. Se hace más estricto el D.S. Nº4 Min. Salud. Compensación de emisiones ( valida exclusión de procesos de compensación definida el año 1995 y mayor compensación para fuentes nueves con exigencia mayor el 2000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bligaciones de medir emisiones de gases. No se cu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tas más fáciles y disminución de dificultades de fiscalización para fuentes más pequeñ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s de combustibles de uso industr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scusión tema criterios de corte para pre-emergencia y emerg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entes Móv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uevas normas de emisión para vehiculos nue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rmativa relativa a calidad de combus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ños de antigüedad de vehícul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scusión restricción catalíticos (se incorpora en modificación 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tras Fuen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s para la actividad de constr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s relativas a áreas verdes (200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entes Nuevas o modificación existentes: Además de normas vigentes, compensación de emisiones cuando su emisión anual excede ciertos niveles (entra obligación de compensar para proyectos inmobiliarios, rellenos sanitarios,et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PPDA 2004. D.S. Nº58 de 2003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volución de calidad del aire 1997-200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Valores maximos de MP-10 y las concentraciones anuales bajan en un 27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e-emergencias bajan de 37 a 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mergencias de 4 a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Participación por sector para material particul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u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B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Cam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Vehículos liv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 F. Movile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Proc. Combu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Otros Proc. Ind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Ftes. 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Fuentes Fi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fuentes a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1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1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4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1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2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Metas por contaminante (año 200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2057400"/>
          <a:ext cx="7772400" cy="454176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P-10 (combust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lvo (polvo resuspedid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duc.  ton/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7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5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duc. ton/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vier Vergara</cp:lastModifiedBy>
  <dcterms:modified xsi:type="dcterms:W3CDTF">2004-06-02T16:57:59Z</dcterms:modified>
  <cp:revision>54</cp:revision>
  <dc:subject/>
  <dc:title>PowerPoint Presentation</dc:title>
</cp:coreProperties>
</file>