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260F9-00B2-4FF3-8C3C-9E00F1E0E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EE29F-86F5-4E6F-9464-3C6BA0FE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2C74D-6823-4AAE-A9C5-C6F02037A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12FA7-0574-4AF0-92DF-747B91DF6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D1BB1-DD88-4174-8A94-9825C918C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32F3-96EE-4527-848D-E84E7D08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5973-3887-4435-B753-E0D6203A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3327-D2FA-4142-92A3-F6F3B5D8B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4AF61-D1FE-4896-A885-3CAEFE4F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3660-6746-45C5-AA2B-760C5CA2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A961-D763-4AB4-AB14-3A4532FD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240F-D3E5-4AB3-B15D-F2E2A9A22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B615-F56C-4E4D-8889-3A1164675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rol de Contaminación:</a:t>
            </a:r>
            <a:br>
              <a:rPr sz="4400"/>
            </a:br>
            <a:r>
              <a:rPr b="0" lang="es-CL" sz="4400" spc="-1" strike="noStrike">
                <a:solidFill>
                  <a:srgbClr val="a50021"/>
                </a:solidFill>
                <a:latin typeface="Tahoma"/>
              </a:rPr>
              <a:t>Aire, Agua y Suel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técnico y económic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costo-benef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zo de 40 di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0 dias desde la publicación del extracto en el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de las observaciones formulada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observaciones: 30 días después de vencido el plazo, el Director Ejecitivo lo debe someter al Consejo Directivo para la aprobacion del Plan defini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obje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primarias</a:t>
            </a:r>
            <a:r>
              <a:rPr b="0" lang="es-CL" sz="3200" spc="-1" strike="noStrike">
                <a:solidFill>
                  <a:srgbClr val="000000"/>
                </a:solidFill>
                <a:latin typeface="Tahoma"/>
                <a:ea typeface="Courier New"/>
              </a:rPr>
              <a:t>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límite máximo admisible de emisión para cada contaminante regulado.     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h) La proposición, cuando sea posible, de mecanismos de </a:t>
            </a:r>
            <a:r>
              <a:rPr b="1" lang="es-CL" sz="2000" spc="-1" strike="noStrike">
                <a:solidFill>
                  <a:srgbClr val="000000"/>
                </a:solidFill>
                <a:latin typeface="Tahoma"/>
                <a:ea typeface="Courier New"/>
              </a:rPr>
              <a:t>compensación de emision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i) Un </a:t>
            </a:r>
            <a:r>
              <a:rPr b="1" lang="es-CL" sz="2000" spc="-1" strike="noStrike">
                <a:solidFill>
                  <a:srgbClr val="000000"/>
                </a:solidFill>
                <a:latin typeface="Tahoma"/>
                <a:ea typeface="Courier New"/>
              </a:rPr>
              <a:t>cronograma de reducción de emisiones</a:t>
            </a:r>
            <a:r>
              <a:rPr b="0" lang="es-CL" sz="2000" spc="-1" strike="noStrike">
                <a:solidFill>
                  <a:srgbClr val="000000"/>
                </a:solidFill>
                <a:latin typeface="Tahoma"/>
                <a:ea typeface="Courier New"/>
              </a:rPr>
              <a:t> y de entrada en vigencia de los instrumentos ya descrito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j) La </a:t>
            </a:r>
            <a:r>
              <a:rPr b="1" lang="es-CL" sz="2000" spc="-1" strike="noStrike">
                <a:solidFill>
                  <a:srgbClr val="000000"/>
                </a:solidFill>
                <a:latin typeface="Tahoma"/>
                <a:ea typeface="Courier New"/>
              </a:rPr>
              <a:t>estimación de sus costos y beneficios económicos y sociales</a:t>
            </a:r>
            <a:r>
              <a:rPr b="0" lang="es-CL" sz="2000" spc="-1" strike="noStrike">
                <a:solidFill>
                  <a:srgbClr val="000000"/>
                </a:solidFill>
                <a:latin typeface="Tahoma"/>
                <a:ea typeface="Courier New"/>
              </a:rPr>
              <a:t>, desde el punto de vista de la población, ecosistemas o especies protegidos; de los emisores y del Estad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k) Las condiciones que exigirá la Comisión para el desarrollo de </a:t>
            </a:r>
            <a:r>
              <a:rPr b="1" lang="es-CL" sz="2000" spc="-1" strike="noStrike">
                <a:solidFill>
                  <a:srgbClr val="000000"/>
                </a:solidFill>
                <a:latin typeface="Tahoma"/>
                <a:ea typeface="Courier New"/>
              </a:rPr>
              <a:t>nuevas actividades en el área geográfica</a:t>
            </a:r>
            <a:r>
              <a:rPr b="0" lang="es-CL" sz="2000" spc="-1" strike="noStrike">
                <a:solidFill>
                  <a:srgbClr val="000000"/>
                </a:solidFill>
                <a:latin typeface="Tahoma"/>
                <a:ea typeface="Courier New"/>
              </a:rPr>
              <a:t> en que se esté aplicando el plan; y </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l) Un </a:t>
            </a:r>
            <a:r>
              <a:rPr b="1" lang="es-CL" sz="2000" spc="-1" strike="noStrike">
                <a:solidFill>
                  <a:srgbClr val="000000"/>
                </a:solidFill>
                <a:latin typeface="Tahoma"/>
                <a:ea typeface="Courier New"/>
              </a:rPr>
              <a:t>programa de verificación del cumplimiento</a:t>
            </a:r>
            <a:r>
              <a:rPr b="0" lang="es-CL" sz="2000" spc="-1" strike="noStrike">
                <a:solidFill>
                  <a:srgbClr val="000000"/>
                </a:solidFill>
                <a:latin typeface="Tahoma"/>
                <a:ea typeface="Courier New"/>
              </a:rPr>
              <a:t> de las condiciones y requisitos establecidos en el respectivo plan.</a:t>
            </a:r>
            <a:r>
              <a:rPr b="0" lang="es-CL" sz="3200" spc="-1" strike="noStrike">
                <a:solidFill>
                  <a:srgbClr val="000000"/>
                </a:solidFill>
                <a:latin typeface="Georgia"/>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instrumentos. Art. 47 le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rtículo 47: Los planes de prevención o descontaminación podrán utilizar, según corresponda, los siguientes instrumentos de regulación o de carácter económic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Normas de emisió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b.Permisos de emisión transab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c.Impuestos a las emisiones o tarifas a los usuarios, en los que se considerará el costo ambiental implícito en la producción o uso de ciertos bienes o servicios,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d.Otros instrumentos de estímulo a acciones de mejoramiento y reparación ambient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Prevención (contenid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18. Casi lo mismo que lo ant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contempla la reducción de emisiones de fuentes existen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ecanismos de compens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sitos para actividades nuev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a50021"/>
                </a:solidFill>
                <a:latin typeface="Times New Roman"/>
              </a:rPr>
              <a:t>Planes de Prevención y Descontaminació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e respecto: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claración de zonas latentes o saturad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Preven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Descontaminació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juez de letras competente, de acuerdo con lo dispuesto en los artículos 60 y siguientes,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rtículo 55</a:t>
            </a:r>
            <a:r>
              <a:rPr b="0" lang="es-CL" sz="2400" spc="-1" strike="noStrike">
                <a:solidFill>
                  <a:srgbClr val="000000"/>
                </a:solidFill>
                <a:latin typeface="Arial"/>
                <a:ea typeface="Arial"/>
              </a:rPr>
              <a:t>.‑ 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general se aplican a situaciones distintos:</a:t>
            </a:r>
            <a:endParaRPr b="0" lang="en-US" sz="32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daño ambiental se requiere acciones reparatorias.</a:t>
            </a:r>
            <a:endParaRPr b="0" lang="en-US" sz="28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los PD habitualmente se busca reducir emisiones o descargas para solucionar los altas concentraciones ambientales (agua o aire). Tema por debatirse será sue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Normativa aplicabl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Prevenció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evitar la superación 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hasta la fech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Descontamin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recuperar los niveles señalados en las normas primarias y/o secundarias de calidad ambiental de una zona saturada.</a:t>
            </a:r>
            <a:endParaRPr b="0" lang="en-US" sz="32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A la fecha: PPDA de Santiago, Caletones, Chuquicamata</a:t>
            </a:r>
            <a:r>
              <a:rPr b="0"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CONAMA.</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echa límite recepción de antecedent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tapas de los Plan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s Ciéntificos y Técnico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rmisos de emisión transables;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5-19T16:09:21Z</dcterms:modified>
  <cp:revision>46</cp:revision>
  <dc:subject/>
  <dc:title>PowerPoint Presentation</dc:title>
</cp:coreProperties>
</file>