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C83-4E33-4EA5-84B2-186C4012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AD4-8FBE-4FB3-80CD-54775653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0FB9-F9FF-477B-93AD-BFF6646F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D1BA-7612-4057-AC85-E4E25F03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F2A-1F84-4E42-8F6F-3BE20ABE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986-F77D-4408-9FE0-6FCE2B46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4E7-0EEC-4D05-AA73-101CF794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1DD-2E0D-4C02-982E-AE7011CD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B3F-ECFB-4CF3-BF5A-04637E74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346A-D61C-4A0A-9983-AA63F7D0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C5DB-B395-4C5B-BA04-134E4C95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31F-F41E-4E7B-A27D-30F9F594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639C-00F1-4B05-AC73-59842B708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ontrol de Contamina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:</a:t>
            </a:r>
            <a:br>
              <a:rPr sz="4400"/>
            </a:b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ire, Agua y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 (ai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terial Particulado respi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z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hídrido Sulfur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noxido de car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oxido de azuf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l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máximos o mínimos que no podrán ser sobrepas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críticos que determinen situaciones de emerg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plazo para su entrada en vi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control y med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rganismos fiscaliz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. Norma Secundaria de Calidad Ambiental: aquella que establece los valores de las concentraciones y períodos, máximos o mínimos permisibles de sustancias,    elementos, energía o combinación de ellos, cuya presencia o carencia en el ambiente pueda constituir un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iesgo para la protección o la conservación del medio ambiente, o la preservación de la naturalez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.S, con firma de Ministro Secretario General de la Presidencia y Ministro Compe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reto señala el ámbito territorial de su 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y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á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bito de 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med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que determinan situaciones crí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hídrido sulfuroso para proteger la agricultura ( D.S. 185 del Ministerio de Minería, año 199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 Estudio (norma de calidad según usos para diversas cuenc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UENCA DEL RIO VALDIV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UENCA DEL RIO MATAQUI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ÍO CRU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UENCA DEL RÍO BIOBÍ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ÍO IT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GO LLANQUIHUE, EN LA X REG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roblemas en el S.E.I.A. respecto de protec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agrícola y nor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se cumple norma secundaria de SO2, se discuten otros criterios de protección agrícola fundado en emis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no existen normas secundarias. Daños meramente patrimon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Superación de norma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ndo se entiende superada la norma de calidad ambient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resolución 1215 (derogada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 superación al añ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D.S. Nº185 de Minería (sólo norma secundaria de SO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Tres normas distint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oncentración media aritmética an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oncentración media aritmética di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oncentración máxima de una 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s de las nuevas normas primarias ( MP-10, SO2, Nox, COV, C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n general percentil 99 en normas que no son anuales. Tres años de mediciones, salvo excepciones. Normas anuales distinto, infracción a promedio anual, eventualmente tres años de medicion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lat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t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Latent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la medición de la concentración de contaminantes en el aire, agua o suelo se sitúa entre el 80% y el 100% del valor de la respectiva norma de calidad ambiental, 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: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a50021"/>
                </a:solidFill>
                <a:latin typeface="Tahoma"/>
              </a:rPr>
              <a:t>Normas de Calidad Ambiental y de Emis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saturada (art.43 Le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Art. 2. u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Saturad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una o más normas de calidad ambiental se encuentran sobrepas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Responsabilidad legal monitoreo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y Artículo 33: Los organismos competentes del Estado desarrollarán programas de medición y control de la calidad ambiental del aire, agua y suelo para los efectos de velar por el derecho de vivir en un medio ambiente libre de contaminación.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Normas de Emisión: “</a:t>
            </a:r>
            <a:r>
              <a:rPr b="0" i="1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las que establecen la cantidad máxima permitida para un contaminante medida en el efluente de la fuente emisora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(LBGMA Art. 2 letra q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án reguladas en el mismo reglamento de normas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cedimiento regul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formación púb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stema de rev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Tipos 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 concentración (ug/m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 masa (kilos/dí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 unidad de producto (xx kilos de emisión por tonelada producida o MW genera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de emisión con objeto de cumplir norma de calidad ambiental habitualmente dentro de PDA (masa) o utilizando criterio de calidad (arsénic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nstrumentos de regulación en ausencia de norma de calidad ambiental (ej.: DS 9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 de emisión como un límite mínimo existiendo o no norma de calidad ambiental (concentración, 1ª etapa de PDA o sin este DS 9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Ad-hoc (problemas de constitucionalidad, discusión DS 8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a50021"/>
                </a:solidFill>
                <a:latin typeface="Tahoma"/>
              </a:rPr>
              <a:t>Criterios de Diferenciación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uentes nuevas o exist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 tamaño (aplican a grandes emisores y no a peque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 tecnología (difieren tecnología según zonas sensibles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jor tecnología dispon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jor tecnología disponible a costos razona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S 93 Reglamento para la dictacion de normas de calidad ambiental y de em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Artículo 35.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“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oda norma de emisión contendrá, además de lo estipulado por el artículo 28, las siguientes materias: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a) La cantidad máxima permitida para un contaminante medida en el efluente de la fuente emiso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) Los objetivos de protección ambiental y resultados esperados con la aplicación de la norm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c) El ámbito territorial de su aplicación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d) Los tipos de fuentes reguladas; 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Courier New"/>
              </a:rPr>
              <a:t>e) Los plazos y niveles programados para el cumplimiento de la norma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vig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S. Nº4, 1992 Ministerio de Salud, regula las emisiones de  fuentes estacionarias puntuales en la R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que regula descargas a alcantarillados. D.S. Nº6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que regula la descarga de residuos industriales líquidos a cursos de agua superficiales, lagos y mar. D.S. Nº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Arsé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lumí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versas normas para fuentes m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óv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NOx PPDA 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S 80. Estero Ca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Algunas Normas de emisión en prepa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para instalaciones de incineración o co-incin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ruido que regula la actividad de la Constr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s para Centrales Tér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s para gener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visión norma de ruido (discus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rt. 32 Ley 19.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glamento para la dictación de las normas de calidad y de emisión emanado del  Ministerio Secretaría General de la Presidencia, que reglamenta la dictación de las normas de calidad o de emisión ( D.S Nº93 Min. Sec. Gral. Presidencia año 1995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de ruido (D.S. Nº146 de Min. Segpr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blema de las normas de rui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in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 algunos casos se requieren criterios diversos que las normas de emisión no cubren adecuad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grama priorizado  (marzo de cada añ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 aprueba el Consejo de Ministros. Debe ser fund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ublicidad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xpediente con todos los anteced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 (etapas art 32 le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técnico y económic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arrollo de estudios científ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ultas a organismos competentes, públicos y privad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de las observaciones formuladas y una adecuada publicidad.  Reglamento establecerá además los plazos y formalidades que se requieran para dar cumplimiento a lo dispuesto en este artículo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os criterios para revisar las normas vig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 o.Norma Primaria de Calidad Ambiental: aquélla que establece los valores de las concentraciones y períodos, máximos o mínimos permisibles de elementos,   compuestos, sustancias, derivados químicos o biológicos, energías, radiaciones,    vibraciones, ruidos o combinación de ellos, cuya presencia o carencia en el ambiente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eda constituir un riesgo para la vida o la salud de la població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ctación: mediante D.S. Emana del Ministerio Sec. General de la Presidencia y Ministerio de Sal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evio proceso reglado cuyos criterios se señalan en la ley y se detallan en el Reglamento (D.S. Nº93 Min. Segpres año 199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Aplicables en todo el territorio de la República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u cumplimiento se verif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onde existan asentamientos humanos (¿desierto, campo, campamentos mineros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 los medios cuyo uso previsto afecte directa o indirectamente la salud de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Estaciones representativa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a.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 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Estación monitora con representatividad poblacional para gas monóxido de carbono (EMRPG):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 Una estación de monitoreo que se encuentra localizada en un área habit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Se entiende como área habitada, a una porción del territorio donde vive habitual y permanentemente un conjunto de perso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Gonzalo Moyano</cp:lastModifiedBy>
  <dcterms:modified xsi:type="dcterms:W3CDTF">2007-04-25T17:47:56Z</dcterms:modified>
  <cp:revision>55</cp:revision>
  <dc:subject/>
  <dc:title>PowerPoint Presentation</dc:title>
</cp:coreProperties>
</file>