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8A888-B098-41CC-A8D6-3022191D8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0998A-2BAC-409C-B505-E38A4EE16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36C7C-8176-42F4-A072-912F4C5CC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000C1-0D59-438A-85F5-21FA6AA45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AF939-2D7C-4A64-B1F1-54258CF8C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1E197-1BE2-4AF3-AC57-C7A7F252E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F7406-BCE8-4B22-B6AA-CCF877DBE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C5C4F-F953-4877-9F45-EC032A675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B391E-E477-4436-87BF-25D1E88F9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BAB5-3E3E-49C1-97ED-CE3AB9E9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D047B-A0ED-4548-95D5-794C6E6E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58B7B-3CBF-485B-A75E-2BFF573DE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EB31-52CF-40FD-AAB0-8ED09F9EB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g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0">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70">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6">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76">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76">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76">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7"/>
                                        </p:tgtEl>
                                        <p:attrNameLst>
                                          <p:attrName>style.visibility</p:attrName>
                                        </p:attrNameLst>
                                      </p:cBhvr>
                                      <p:to>
                                        <p:strVal val="visible"/>
                                      </p:to>
                                    </p:set>
                                    <p:anim calcmode="lin" valueType="num">
                                      <p:cBhvr additive="base">
                                        <p:cTn id="85" dur="500" fill="hold"/>
                                        <p:tgtEl>
                                          <p:spTgt spid="77"/>
                                        </p:tgtEl>
                                        <p:attrNameLst>
                                          <p:attrName>ppt_x</p:attrName>
                                        </p:attrNameLst>
                                      </p:cBhvr>
                                      <p:tavLst>
                                        <p:tav tm="0">
                                          <p:val>
                                            <p:strVal val="0-#ppt_w/2"/>
                                          </p:val>
                                        </p:tav>
                                        <p:tav tm="100000">
                                          <p:val>
                                            <p:strVal val="#ppt_x"/>
                                          </p:val>
                                        </p:tav>
                                      </p:tavLst>
                                    </p:anim>
                                    <p:anim calcmode="lin" valueType="num">
                                      <p:cBhvr additive="base">
                                        <p:cTn id="8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78">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78">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0">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0">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82">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84">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84">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84">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6"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86">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8">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88">
                                            <p:txEl>
                                              <p:pRg st="1" end="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88">
                                            <p:txEl>
                                              <p:pRg st="2" end="2"/>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2"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96">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96">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96">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96">
                                            <p:txEl>
                                              <p:pRg st="5" end="5"/>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La colisión de derechos (19 Nº22):</a:t>
            </a:r>
            <a:br>
              <a:rPr sz="4000"/>
            </a:br>
            <a:r>
              <a:rPr b="0" lang="es-ES_tradnl" sz="4000" spc="-1" strike="noStrike">
                <a:solidFill>
                  <a:srgbClr val="a50021"/>
                </a:solidFill>
                <a:latin typeface="Tahoma"/>
              </a:rPr>
              <a:t>La no discriminación arbitraria por razones ambientales</a:t>
            </a:r>
            <a:endParaRPr b="0" lang="en-US" sz="4000" spc="-1" strike="noStrike">
              <a:solidFill>
                <a:srgbClr val="000000"/>
              </a:solidFill>
              <a:latin typeface="Times New Roman"/>
            </a:endParaRPr>
          </a:p>
        </p:txBody>
      </p:sp>
      <p:sp>
        <p:nvSpPr>
          <p:cNvPr id="10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8000"/>
          </a:bodyPr>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se hace con  quien no ejerce otros derechos (cuotas de captura pesquera).</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rmas de ruido diferenciadas para fuentes fijas y construcción.</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02">
                                            <p:txEl>
                                              <p:pRg st="0" end="0"/>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02">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02">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02">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Elementos para que la diferenciación sea contitucionalmente aceptable</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2138040"/>
            <a:ext cx="7772400" cy="3957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igualdad en los supuestos de he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as características específicas del luga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nto por la naturaleza del emi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s efectos que el elemento regulado es capaz de causar en ese ambiente específico.</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inalida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otección del medio ambiente controlando la emisión. </a:t>
            </a:r>
            <a:r>
              <a:rPr b="1" lang="es-ES_tradnl" sz="2000" spc="-1" strike="noStrike">
                <a:solidFill>
                  <a:srgbClr val="a50021"/>
                </a:solidFill>
                <a:latin typeface="Tahoma"/>
              </a:rPr>
              <a:t>Para controlar no es indispensable disminuir la emisión,</a:t>
            </a:r>
            <a:r>
              <a:rPr b="0" lang="es-ES_tradnl" sz="2000" spc="-1" strike="noStrike">
                <a:solidFill>
                  <a:srgbClr val="000000"/>
                </a:solidFill>
                <a:latin typeface="Tahoma"/>
              </a:rPr>
              <a:t> puede evitarse que aumente o incluso permitir su aumento hasta niveles razonables, pero define la capacidad máxima de emisión y de uso del medio ambiente en una zona específica.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Elementos para que la diferenciación sea contitucionalmente aceptabl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2203560"/>
            <a:ext cx="7772400" cy="38923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zonabilidad:</a:t>
            </a:r>
            <a:r>
              <a:rPr b="0" lang="es-ES_tradnl" sz="2400" spc="-1" strike="noStrike">
                <a:solidFill>
                  <a:srgbClr val="000000"/>
                </a:solidFill>
                <a:latin typeface="Tahoma"/>
              </a:rPr>
              <a:t> </a:t>
            </a:r>
            <a:endParaRPr b="0" lang="en-US" sz="24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s el estándar de acuerdo con el cual deber apreciarse la medida de la igualdad o la desigualdad”. En este caso el análisis de los diversos elementos de hecho que permiten a la autoridad a llegar a un juicio técnico adecuado.</a:t>
            </a:r>
            <a:endParaRPr b="0" lang="en-US" sz="2400" spc="-1" strike="noStrike">
              <a:solidFill>
                <a:srgbClr val="000000"/>
              </a:solidFill>
              <a:latin typeface="Times New Roman"/>
            </a:endParaRPr>
          </a:p>
          <a:p>
            <a:pPr marL="291600" indent="-2916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orcionalidad:</a:t>
            </a:r>
            <a:endParaRPr b="0" lang="en-US" sz="2400" spc="-1" strike="noStrike">
              <a:solidFill>
                <a:srgbClr val="000000"/>
              </a:solidFill>
              <a:latin typeface="Times New Roman"/>
            </a:endParaRPr>
          </a:p>
          <a:p>
            <a:pPr lvl="1" marL="631440" indent="-2426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herencia entre las situaciones de hecho y la solución. No es proporcional si para proteger el medio ambiente si imponen costos económicos  imposibles de soportar por la actividad y los beneficios  ambientales son marginales.</a:t>
            </a:r>
            <a:endParaRPr b="0" lang="en-US" sz="2400" spc="-1" strike="noStrike">
              <a:solidFill>
                <a:srgbClr val="000000"/>
              </a:solidFill>
              <a:latin typeface="Times New Roman"/>
            </a:endParaRPr>
          </a:p>
          <a:p>
            <a:pPr lvl="1" marL="631440" indent="-2426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su vez si el beneficio es altísimo y a bajo costo puede haber un tema.  </a:t>
            </a:r>
            <a:endParaRPr b="0" lang="en-US" sz="24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12">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112">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16">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116">
                                            <p:txEl>
                                              <p:pRg st="2" end="2"/>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116">
                                            <p:txEl>
                                              <p:pRg st="3" end="3"/>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16">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a Constitución del 80 (D.O. 26/08/2005)</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mbia los requisito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cción u omi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leg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table a persona o autoridad determinad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fectación</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48">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s actos administrativos ¿son capaces de afectar el derech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2"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 (casos Araucaria).</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2">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22">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22">
                                            <p:txEl>
                                              <p:pRg st="2" end="2"/>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2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22">
                                            <p:txEl>
                                              <p:pRg st="4" end="4"/>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4"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79000"/>
          </a:bodyPr>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cheverría Izquierdo con Servicio de Salud del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24">
                                            <p:txEl>
                                              <p:pRg st="0" end="0"/>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24">
                                            <p:txEl>
                                              <p:pRg st="2" end="2"/>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499"/>
                                          </p:stCondLst>
                                        </p:cTn>
                                        <p:tgtEl>
                                          <p:spTgt spid="124">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0">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2">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2">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7-03-23T18:19:37Z</dcterms:modified>
  <cp:revision>24</cp:revision>
  <dc:subject/>
  <dc:title>PowerPoint Presentation</dc:title>
</cp:coreProperties>
</file>