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EFBA-B44B-40DC-A01F-E4282D0C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00CA-7FB2-4FCB-B728-2BC6B555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EFD94-C5B6-4B64-84BF-929BF80F9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07645-5E12-4E70-99C0-C5731345D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5411-1470-4380-9ED4-50F10FEE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79C4-D70F-4CB4-ADD7-BE8DE3F5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7EBEA-6A65-41FF-BBE4-A177535F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D734D-CEFE-4ED2-B4FB-47AD71A8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C5FC4-56B2-423D-8C27-18EA041D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0AD8-D5CB-4868-ADC2-0F4CA8B87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875F-4657-4285-A89A-1580004B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8E3E-E991-4451-B1A4-540325769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D763-FC78-48D5-B48F-B7A768D67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Ú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ó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úl Moyano Vatel</cp:lastModifiedBy>
  <dcterms:modified xsi:type="dcterms:W3CDTF">2006-08-04T01:47:44Z</dcterms:modified>
  <cp:revision>37</cp:revision>
  <dc:subject/>
  <dc:title>PowerPoint Presentation</dc:title>
</cp:coreProperties>
</file>