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7790C-3EBE-4CA6-8EE1-508351956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00F9B-0ECF-4016-A7A5-9421F018E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02DAB-8965-4388-B726-90C44A168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AC0C2-6A91-4ACF-A440-2112427F3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D10FA-7F15-41CE-8FE7-683414A40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8860-D560-4EE3-9593-64BEBFFE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21DA-FF61-4DF1-8B23-494D58962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D831-42E9-4E30-B053-45C533E71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073E-FF55-4CCF-A72A-471E00899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5CFF7-AA63-4C46-9685-17FF33CFA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034FE-2D66-4665-9641-8E847B659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DFB0-7DAE-4461-9730-2EFF26B05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8266-4B1C-49CF-A279-8A748E58E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mbiental en Chile: Breve Historia y Principios Rectores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Ambiental</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 Florez</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t>
            </a:r>
            <a:r>
              <a:rPr b="0" lang="es-CL" sz="2800" spc="-1" strike="noStrike">
                <a:solidFill>
                  <a:srgbClr val="000000"/>
                </a:solidFill>
                <a:latin typeface="Tahoma"/>
              </a:rPr>
              <a:t>El particular que actualmente contamina o que lo haga en el futuro debe incorporar en sus costos de producción todas las inversiones necesarias para evitar la contaminación”  (Mensaje ley de Bases) internalizar las externalidad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e deben desarrollar instrumentos de políticas ambientales tendientes a internalizar estos cos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excepciones al principi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pto general del principio, es que no pueden existir subsidios o incentivos fiscales para cumplir con la normativa ambiental. </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xcepciones al principio aceptadas por la teoría: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tuaciones externalidades positivas. </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equeñas industrias (habitualmente costos de desarrollo, asimetrías de información).</a:t>
            </a:r>
            <a:endParaRPr b="0" lang="en-US" sz="2400" spc="-1" strike="noStrike">
              <a:solidFill>
                <a:srgbClr val="000000"/>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Regulación Directa</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calidad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emis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rmas de proces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hib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de Mercado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uest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arif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misos de emisión transab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pósitos retornables</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 </a:t>
            </a:r>
            <a:r>
              <a:rPr b="0" lang="es-CL" sz="4400" spc="-1" strike="noStrike">
                <a:solidFill>
                  <a:srgbClr val="800000"/>
                </a:solidFill>
                <a:latin typeface="Tahoma"/>
              </a:rPr>
              <a:t>Contamina Paga: Instrumentos de aceptabilidad soci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ducación Ambient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vestig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ontamina Paga: Instrumentos voluntari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uditorias (vinculados a mercad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Acuerdos voluntarios, compromisos voluntarios, autore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Responsabilida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Quien genera daños ambientales debe repararl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iseños especiales de sistemas de responsabilidad  en materia ambiental (en términos generales o para determinadas actividad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anifestación del principio del que Contamina Pag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articipativo</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personas tienen derecho a participar en el desarrollo de los procesos ambient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echo – Deber de Informar</a:t>
            </a: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Derecho a la Informac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Derecho – Deb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para los ciudadan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a autoridad en ciertos caso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er para los entes regulados en determinados casos: ( manejo de sustancias o desechos peligros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 la Prevenc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vitar las producción de efectos ambientales antes que su reparación.</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Normas de calidad y emisió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Evaluación de Impacto Ambiental</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 de responsabilidad. </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ís de alrededor de 15.000.000 millones de habitante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rga y angosta faja de tierra (fronteras naturales, el desierto de atacama; la Cordillera de los Andes; El Pacífico).</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limas variados: desértico en el norte, mediterráneo en zona central, humedo frío en el sur (bosques siempre verde).</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ran cantidad de terreno difícil de habitar. Genera presión sobre las mejores áre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centración urbana en la zona cent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del Gradualism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adualidad en el establecimientos de nuevos estándar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lazos adecuados para tomar medidas de control de contaminación o para la aplicación de nuevos estándares</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Ventanilla Única</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consagra expresamente en mensaje, pero es parte de la ley.</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Unidad de Gest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os diversos aspectos ambientales de los proyectos de inversión deben analizarse en una sola discusión ambien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 Ausente de ley 19.30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ncipio 15 Declaración de Rí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	</a:t>
            </a:r>
            <a:r>
              <a:rPr b="0" lang="es-CL" sz="3200" spc="-1" strike="noStrike">
                <a:solidFill>
                  <a:srgbClr val="000000"/>
                </a:solidFill>
                <a:latin typeface="Tahoma"/>
              </a:rPr>
              <a:t>“</a:t>
            </a:r>
            <a:r>
              <a:rPr b="0" lang="es-CL" sz="3200" spc="-1" strike="noStrike">
                <a:solidFill>
                  <a:srgbClr val="000000"/>
                </a:solidFill>
                <a:latin typeface="Tahoma"/>
              </a:rPr>
              <a:t>Cuando haya peligro de daño grave o irreversible, la falta de certeza científica absolut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 Precautorio</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certeza científic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iosegurida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Ondas de radiodifusión</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No se contempla como principio inspirador en ley Chilena, pero es parte de varios tratados suscritos por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De la Cuna a la Tumba</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lica en materia de residuos peligrosos.</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sponsabilidad del generador de residuos se extiende hasta entregarlos a una entidad autorizada para su 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otros países, ha generado normas muy estrictas en materia de responsabilidad por inadecuada disposició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glamento Residuos Peligrosos, establece obligaciones más detalladas que antes para generadores.</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Organizarse en grupos de cuatro persona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la luz de los principios e instrumentos discutidos en clases, cada grupo analizará uno de los problemas propuestos, y luego cada grupo presentará al resto del grupo su opinión respecto al te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2" name=""/>
          <p:cNvSpPr/>
          <p:nvPr/>
        </p:nvSpPr>
        <p:spPr>
          <a:xfrm>
            <a:off x="990720" y="1981080"/>
            <a:ext cx="7391160" cy="5158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A: </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 analizando un sudsidio a la conservación de bosque nativo, de modo que se pagarán ciertas cantidades a los dueños de terrenos que estando cubierto con bosque nativo que no los exploten.</a:t>
            </a:r>
            <a:endParaRPr b="0" lang="en-US" sz="3200" spc="-1" strike="noStrike">
              <a:solidFill>
                <a:srgbClr val="000000"/>
              </a:solidFill>
              <a:latin typeface="Times New Roman"/>
            </a:endParaRPr>
          </a:p>
          <a:p>
            <a:pPr>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 B: </a:t>
            </a:r>
            <a:endParaRPr b="0" lang="en-US" sz="3200" spc="-1" strike="noStrike">
              <a:solidFill>
                <a:srgbClr val="000000"/>
              </a:solidFill>
              <a:latin typeface="Times New Roman"/>
            </a:endParaRPr>
          </a:p>
          <a:p>
            <a:pPr lvl="1" marL="7279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están estudiando nuevas normas de emisión para aquellas empresas que emiten Arsénico al ambiente. Dado los altos costo de control, se está analizando la introducción de incentivos tributarios a quienes cumplan las normas con un año de anticipación a su vigencia. </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3200" spc="-1" strike="noStrike">
                <a:solidFill>
                  <a:srgbClr val="000000"/>
                </a:solidFill>
                <a:latin typeface="Tahoma"/>
              </a:rPr>
              <a:t>Grupos C: </a:t>
            </a:r>
            <a:endParaRPr b="0" lang="en-US" sz="3200" spc="-1" strike="noStrike">
              <a:solidFill>
                <a:srgbClr val="000000"/>
              </a:solidFill>
              <a:latin typeface="Times New Roman"/>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Se ha definido que el sector termoeléctrico tiene altos niveles de emisión de SO2. Se ha propuesto tomar medidas inmediatas exigiendo en el plazo de seis meses la reducción de las emisiones de esas instalaciones en un 50%.</a:t>
            </a:r>
            <a:endParaRPr b="0" lang="en-US" sz="3200" spc="-1" strike="noStrike">
              <a:solidFill>
                <a:srgbClr val="000000"/>
              </a:solidFill>
              <a:latin typeface="Times New Roman"/>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98" name=""/>
          <p:cNvSpPr/>
          <p:nvPr/>
        </p:nvSpPr>
        <p:spPr>
          <a:xfrm>
            <a:off x="304920" y="1828800"/>
            <a:ext cx="8305560" cy="488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D:</a:t>
            </a:r>
            <a:endParaRPr b="0" lang="en-US" sz="3200" spc="-1" strike="noStrike">
              <a:solidFill>
                <a:srgbClr val="000000"/>
              </a:solidFill>
              <a:latin typeface="Times New Roman"/>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3200" spc="-1" strike="noStrike">
                <a:solidFill>
                  <a:srgbClr val="000000"/>
                </a:solidFill>
                <a:latin typeface="Tahoma"/>
              </a:rPr>
              <a:t>Se ha está produciendo inquietud sobre la líneas de alta tensión, en cuanto a los efectos en salud que puede tener para quienes viven en sus cercanías. No existe una norma sobre el particular, pero se decide establecer una norma de emisión para esas instalacion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conomía sustentada esencialmente el uso, y explotación de recursos naturales. </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rte y algo en zona central: minería (fines siglo XIX: salitre, Siglo XX cobre).</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centro sur y parte del sur: agricultura ( hasta década de los 80, para uso consumo interno, a partir de los 80´, esencialente mercado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Zona centro sur y sur: forestal( esencialmente mercado externo) y ganadería ( mercado interno y últimamente externo).</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odo el país: pesca.</a:t>
            </a:r>
            <a:endParaRPr b="0" lang="en-US" sz="2400" spc="-1" strike="noStrike">
              <a:solidFill>
                <a:srgbClr val="000000"/>
              </a:solidFill>
              <a:latin typeface="Times New Roman"/>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800000"/>
                </a:solidFill>
                <a:latin typeface="Tahoma"/>
              </a:rPr>
              <a:t>Problema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Grupo E: </a:t>
            </a:r>
            <a:endParaRPr b="0" lang="en-US" sz="3200" spc="-1" strike="noStrike">
              <a:solidFill>
                <a:srgbClr val="000000"/>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	</a:t>
            </a:r>
            <a:r>
              <a:rPr b="0" lang="es-ES" sz="3200" spc="-1" strike="noStrike">
                <a:solidFill>
                  <a:srgbClr val="000000"/>
                </a:solidFill>
                <a:latin typeface="Tahoma"/>
              </a:rPr>
              <a:t>Estamos en un pequeño valle con pocas casas, pero donde las emisiones de las chimeneas de las casas están causando un problema de aumento de concentraciones ambientales. Señale formas de regular ese problem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Chi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a partir de los 90:</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inserción internacional de la economía.</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tento de deresarrollar una economía vinculado a los servicios (financieros, turísticos, etc.).</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olidación de un sistema jurídico de protección al Derecho de Propiedad y el Derecho a emprender (Constitución 1980).</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pesar de temprano reconocimiento de ciertos derechos en materia ambiental, es un proceso de introducción más paulatino en el ámbito de la gestión pública y privado (Constitución 198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hile desde el siglo XIX y luego en el XX existen ciertas normas que tienen incidencia ambient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digo de Civil (Código de Bello): Acciones posesorías y normas sobre daño contingente en materia de responsabilidad (poca o ninguna aplicación en materia ambiental).</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gislación “sectorial”. Infinidad de normas de relevancia ambiental entregan competencia a diversas entidades e incluso tribunales (Riles 1916), Protección Salud, Agricultura, Parque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conocimiento Constitucional (1980):</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recho a vivir en un medio ambiente libre de contamina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curso o acción de protección.</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Derecho de Propiedad.</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mitación al Derecho a desarrollar actividades económica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imeros casos relevantes ( Lago Chungará, Bahía de Chañaral, etc.)</a:t>
            </a:r>
            <a:endParaRPr b="0" lang="en-US" sz="2800" spc="-1" strike="noStrike">
              <a:solidFill>
                <a:srgbClr val="000000"/>
              </a:solidFill>
              <a:latin typeface="Times New Roman"/>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Una Breve Historia: Derecho del Medio Ambiente en Chi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ines de los 80 y Década del 90: </a:t>
            </a:r>
            <a:endParaRPr b="0" lang="en-US" sz="28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roblemas de Contaminación en la Región Metropolitana, y otros.</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flictos sociales en materias de rellenos sanitarios. </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ecesidad de inserción internacional (regulaciones mímimas de emisiones en el sector minero).</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ey 19.300 sobre Bases Generales del Medio Ambiente.</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Ley 19.300 sobre Bases  Generales del Medio Ambiente (marzo 1994)</a:t>
            </a:r>
            <a:endParaRPr b="0" lang="en-US" sz="4400" spc="-1" strike="noStrike">
              <a:solidFill>
                <a:srgbClr val="000000"/>
              </a:solidFill>
              <a:latin typeface="Times New Roman"/>
            </a:endParaRPr>
          </a:p>
        </p:txBody>
      </p:sp>
      <p:sp>
        <p:nvSpPr>
          <p:cNvPr id="56"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rresponde a un acuerdo entre el Gobierno de la Epoca y los sectores empresariales (oposición de sectores más ecologist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ey General (asume que habrán leyes específicas, en materias complementarias). </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ley en su mensaje establece los principios que la inspiran: No se encuentran en su texto, como parte del articulado.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800000"/>
                </a:solidFill>
                <a:latin typeface="Tahoma"/>
              </a:rPr>
              <a:t>Principios de Ley 19.300</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aúl Moyano Vatel</cp:lastModifiedBy>
  <dcterms:modified xsi:type="dcterms:W3CDTF">2006-08-04T01:47:44Z</dcterms:modified>
  <cp:revision>37</cp:revision>
  <dc:subject/>
  <dc:title>PowerPoint Presentation</dc:title>
</cp:coreProperties>
</file>