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4BA8-4D9B-4908-A0FB-EE681CB2D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F49F-16EC-4F27-8F35-CC836A5C1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1586-BFBB-40E0-8D92-8995C894D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58E9-8778-4FB4-91BC-D8700CC46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06AD0-A49B-4AD3-A5F4-A6AB03489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0BF95-6CE5-493C-838E-7843486B2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B9349-F5E9-4BCB-91FD-D3773CEBD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40AE3-E8AF-4B7E-B654-93F1A351C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D635A-83B4-4584-ABAD-5F93C7468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13219-2C86-494C-8189-978496DD1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64FDA-B94B-4156-B7B8-7807ACB04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BC99-EA41-4FF3-A53C-AF6036C8B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5EBD0-0B1B-4BA8-A18C-A871A4AD9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2F0FA-E772-4895-BCC4-F1FDD7C71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6057A-F304-46D6-B5D8-38488DDE5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454CD-C52B-4181-9574-4524D1247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77DD5-ED08-4150-AD8C-48A41B620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C25C-BD77-49FA-B71D-96B447C08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2BA6-389E-4957-A389-A0DC9037D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1959-16A8-41BC-815B-D5EDA904D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7545-2AA9-4434-9B69-8D0F47FEE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5A41-7AE2-4808-8B59-D88EFF414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503B-2632-4CE4-A37A-1D7625D52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A567-AFB8-46E4-BB1E-C29C1B2CC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AE5BC-CD0A-4258-9533-B02207C2590C}" type="slidenum">
              <a:rPr b="0" lang="es-E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3B507-344C-4EA0-8600-120A5C0A5370}" type="slidenum">
              <a:rPr b="0" lang="es-E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Sucursales y Filiales de Bancos Extranjero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219320" y="1371240"/>
            <a:ext cx="67053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Un banco extranjero puede instalarse en Chile formando un nuevo banco, a través de una filial o instalando una sucursal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ucursal de banco extranjero: articulo 32 de la LGB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Obtención de un certificado de autorización provisional que tendró validez de 10 mes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ertificado de existencia legal y vigencia del país de orige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ndicaciín del capital que se destinara a la sucursal que debe ser el mínimo que la lay exig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oder de la persona que getionará la instalación de la sucursa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ntecedentes que acrediten supervisión adecuada en el país de orige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-114840"/>
            <a:ext cx="8686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304920"/>
            <a:ext cx="83059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Obtención autorización definitiva: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Se debe cumplir con los requisitos de los articulos 121 a 124 de la L.S.A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Obtencion autorizacion para funcionar: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una vez verificada la radicación del capital y comprobado que se encuentra preparada para iniciar sus actividades, especialmente, si cuenta con los recursos profesionales, tecnológicos y con los procedimientos y controles para emprender adecuadamente sus funciones, la Superintendencia le otorgará la autorización para funciona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Administración de las sucursales de bancos extranjeros: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no están obligados a tener directorio en Chile, pero deben tener un agente ampliamente facultado quien tendrá las mismas responsabilidades y sanciones de un directorio o directores individualmente (art. 47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Normas aplicables a los bancos extranjeros: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son las mismas que los bancos nacionales, salvo disposición expresa. No podrán invocar preferencias derivadas de su nacionalidad, respecto de las operaciones de la sucursal en Chile (art. 34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-313560"/>
            <a:ext cx="8610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228600"/>
            <a:ext cx="830592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0000"/>
              <a:buFont typeface="Verdana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Preferencias para los acreedores chilenos y extranjeros domiciliados: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Los bienes de la  sucursal en Chile responden preferentemente por sus obligaciones en favor de chilenos o extranjeros domiciliados en Chile, además de la responsabilidad de la propia casa matriz por las obligaciones contraídas por la sucursal (art. 34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No obstante lo anterior, para los efectos de las operaciones entre una sucursal y su casa matriz en el exterior, ambas se consideran como entidades independientes (art. 34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oda contienda que surja en relación con la sucursal en Chile, será resuelta por los tribunales chilenos, en conformidad a las leyes de la República (art. 34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)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Tratamiento del capital: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el capital asignado a la sucursal debe ser efectivamente internado y convertido a moneda nacional en conformidad a alguno de los sistemas autorizados por la ley o por el Banco Central de Chil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80880" y="-161280"/>
            <a:ext cx="8305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22824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AutoNum type="alphaL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Remesa de utilidades: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corresponden a la utilidades de balances de ejercicios completos enviados a la casa matriz, hecho conforme al sistema de inversión extranjera al que se haya acogido y previo informe favorable de la Superintendencia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Filiales de bancos extranjeros: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no existe impedimento legal para que un banco extranjero posea acciones de bancos chilenos ni restrinja dicha participación a un porcentaje determinado, por lo que es perfectamente posible que uno o mas bancos extranjeros constituyen un sociedad filial o subsidiaria en Chile, siempre que su casa matriz se ajuste al articulo 29 de la LGB. La filial o subsidiaria se regirá por las normas aplicables a los bancos chileno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4560" y="-84960"/>
            <a:ext cx="83818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4560" y="304560"/>
            <a:ext cx="8305560" cy="60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Verdana"/>
              </a:rPr>
              <a:t>Representaciones de Bancos Extranjeros: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desde 1960 que la LGB permite la apertura de oficinas de representación de bancos extranjeros en Chile, conforme al articulo 33 de la  misma le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 trata de agencias de negocios de sus casas matrices, es decir ponen en contacto a potenciales clientes con el banco en el extranjero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No pueden efectuar actos del giro bancario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La Superintendencia autoriza y revoca la instalación de estas oficinas y tiene plenas facultades de supervisió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Normas Generales Aplicables a los Banco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uncionamiento: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Los bancos son instituciones de funcionamiento obligatorio dentro del horario fijado. El inicio, suspensión y término de operaciones requiere de autorización de la Superintendencia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l funcionamiento obligatorio es de lunes a viernes, en jornada única bancaria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l horario bancario es determinado por el Superintendente, mediante publicación en el diario oficial. Actualmente es de 9 a 14 hora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l banco debe funcionar durante ese tiempo y no puede abrir a otras horas (arts. 37 y 38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ero puede autorizárseles para funcionar fuera de los días y horas de atención obligatoria para prestar determinados servicio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99720"/>
            <a:ext cx="8305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560" y="380520"/>
            <a:ext cx="838188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pertura y Cierre de Sucursales en el Pais (art. 37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Los bancos pueden abrir oficinas a lo largo del país, previo registro de cada una de ellas en la Superintendencia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 la clasificación del banco es una de las dos últimas, según el articulo 59 y siguientes de la LGB, deberá obtener autorización de la Superintendencia, quien tiene un plazo de 90 días para pronunciarse y debe hacerlo por resolución fundada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La clausura o cierre de sucursales solo requiere de un aviso anticipado de 90 días hecho a la Superintendencia, aunque el banco esté en alguna de las dos ultimas categoria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ccecff"/>
                </a:solidFill>
                <a:latin typeface="Arial"/>
              </a:rPr>
              <a:t>Concentracion Bancaria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La ley 19.705 de 20 de diciembre de 2000, agregó un artículo 35 bis a la LGB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Tiene por objeto conceder facultades para prevenir una concentración del sistema bancario en pocas instituciones, independientemente de las facultades de los organismos antimonopolio para prevenir actos contrarios a la libre competenci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Opera para fusiones, adquisición de activos y pasivos de un banco por otro en su totalidad o en una parte sustancial, toma de control de dos o más bancos por una misma persona o un grupo controlador o de un aumento sustancial de ese control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Verdana"/>
              </a:rPr>
              <a:t>Las citadas operaciones requieren de una autorización previa si como resultado el banco adquirente o el grupo de bancos resultante alcancen una participación significativa en el mercado (mayor al 15% de acuerdo al criterio de la Superintendencia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880" y="-115200"/>
            <a:ext cx="8305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560" y="304920"/>
            <a:ext cx="830556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La autorización sólo puede denegarse por resolución fundada y siempre que el Consejo del Banco Central se haya pronunciado en igual sentido por la mayoría de sus miembros en ejercicio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La aprobación puede darse imponiendo a los bancos participantes exigencias mayores en cuanto a la proporción entre patrimonio efectivo y activos ponderados por riesgo, a la reserva técnica del artículo 65 de la LGB y en el margen de préstamos interbancario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La resolución denegatoria puede reclamarse a la justcia en conformidad al artículo 22 de la LGB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9T02:13:34Z</dcterms:created>
  <dc:creator>Hugo Luis Caneo Ormazabal</dc:creator>
  <dc:description/>
  <dc:language>en-US</dc:language>
  <cp:lastModifiedBy>Administrador</cp:lastModifiedBy>
  <dcterms:modified xsi:type="dcterms:W3CDTF">2007-03-15T19:41:00Z</dcterms:modified>
  <cp:revision>5</cp:revision>
  <dc:subject/>
  <dc:title>Sucursales y Filiales de Bancos Extranjeros</dc:title>
</cp:coreProperties>
</file>