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5CE0A-4622-4540-94EA-5E13F69F2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E9579-36C1-4446-A662-E6D271FF1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6C7DF-973F-483A-843C-FE51957B8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CB857-AAEC-4FFA-9467-AC229D18A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2EB4A-AAC7-4131-ACA2-C40F23019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4DC61-B0F8-4E4C-B69F-7C9AE11F9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15BED-8D00-4773-95B2-1EE4C4315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5315D-CCF0-4680-A941-267531C56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4BE28-42B7-4121-A385-277C72A4E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BDCE-880E-4027-B9EF-01F9DF2E6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6D6D7-8EB5-4F86-97F5-D6180E3CC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5B9FB-D89C-46FC-A276-07A924FF6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88CA-4C3D-4EA7-AA0B-6A5BE62313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uevo Marco de Capital</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1828800"/>
            <a:ext cx="6400800" cy="4648320"/>
          </a:xfrm>
          <a:prstGeom prst="rect">
            <a:avLst/>
          </a:prstGeom>
          <a:noFill/>
          <a:ln w="0">
            <a:noFill/>
          </a:ln>
        </p:spPr>
        <p:txBody>
          <a:bodyPr lIns="90000" rIns="90000" tIns="46800" bIns="46800" anchor="t">
            <a:noAutofit/>
          </a:bodyPr>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aborado por el Comité de Basilea de Supervisión Bancaria, el nuevo marco de capital o Basilea II, reemplazará a partir del año 2007 el acuerdo de capital de 1988</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 trata de un trabajo elaborado por los paises industrializados que conforman el Comité y que contiene recomendaciones para una supervisión bancaria más efectiva</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SBIF tiene una positiva apreciación del Nuevo Marco de Capital y está en proceso de implementar la mayoría de las recomendaciones, con los ajustes necesarios relacionados con la realidad de los bancos locale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pectivas económicas desfavorables o movimientos adversos en el sistema de precios, también pueden afectar la capacidad de pago de grupos de deudores en determinados sectores económicos, regiones o industria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ste caso, el riesgo de crédito también tiene una dimensión sectorial que puede exceder la evaluación de deudores individualmente considerados, especialmente si un banco tiene concentrada su cartera de créditos en un sector de deudores determin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e riesgo de pérdida se cubre con provisiones adicionales en nuetra legislación (en Basilea II este riesgo es cubierto por provisiones específico-generales de cart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2" name="PlaceHolder 2"/>
          <p:cNvSpPr>
            <a:spLocks noGrp="1"/>
          </p:cNvSpPr>
          <p:nvPr>
            <p:ph/>
          </p:nvPr>
        </p:nvSpPr>
        <p:spPr>
          <a:xfrm>
            <a:off x="380880" y="380520"/>
            <a:ext cx="8305920" cy="57452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bro de negociación y libro de banca: </a:t>
            </a:r>
            <a:r>
              <a:rPr b="0" lang="en-US" sz="2400" spc="-1" strike="noStrike">
                <a:solidFill>
                  <a:srgbClr val="000000"/>
                </a:solidFill>
                <a:latin typeface="Arial"/>
              </a:rPr>
              <a:t>los riesgos de pérdida de un banco pueden situarse en su balance de activos y pasivos o en cuentas de orden o fuera de balanc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n de identificar los riesgos en el balance de los bancos, los enfoques y modelos de riesgo lo descomponen en un libro de negociación (trading book) y en un libro de banca (banking book)</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libro de negociación es aquella parte del balance de un banco que consiste en posiciones en instrumentos financieros y mercancías que se mantienen para negociarlos en el corto plazo o como cobertura de riesgo de otros elementos de ese lib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1484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4"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s posiciones deben valorarse en forma frecuente y exacta y la cartera debe gestionarse activamente</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libro de banca comprende aquella parte del balance compuesta por posiciones en instrumentos, contratos u operaciones, tanto del activo como del pasivo, que no forman parte del libro de negociación. Partidas de este libro son por ejemplo posiciones que se mantiene a término, tales como préstamos e inversiones permanentes en sus activos, y depósitos y otras obligaciones en sus pasiv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pital y provisiones en la cobertura de riesgos: </a:t>
            </a:r>
            <a:r>
              <a:rPr b="0" lang="en-US" sz="2400" spc="-1" strike="noStrike">
                <a:solidFill>
                  <a:srgbClr val="000000"/>
                </a:solidFill>
                <a:latin typeface="Arial"/>
              </a:rPr>
              <a:t>el capital económico de un banco está compuesto por los recursos propios con que cuenta para cubrir eventos  de riesgo que originan pérdidas inesperadas, incluso significativas, hasta un determinado lím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37960"/>
            <a:ext cx="83055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6"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regulador persigue el mismo fin. Su principal, función consiste en resguardar el oportuno pago de las obligaciones de los banc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e recordar que la mayor parte de los fondos que intermedian los bancos son de propiedad de terceros y, de </a:t>
            </a:r>
            <a:r>
              <a:rPr b="0" lang="en-US" sz="2400" spc="-1" strike="noStrike">
                <a:solidFill>
                  <a:srgbClr val="000000"/>
                </a:solidFill>
                <a:latin typeface="Arial"/>
              </a:rPr>
              <a:t>	</a:t>
            </a:r>
            <a:r>
              <a:rPr b="0" lang="en-US" sz="2400" spc="-1" strike="noStrike">
                <a:solidFill>
                  <a:srgbClr val="000000"/>
                </a:solidFill>
                <a:latin typeface="Arial"/>
              </a:rPr>
              <a:t>que éstos originan compromisos de pagos fijos frenta a ingresos y disponibilidades que pueden variar en función de los riesgos que enfrenta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iesgo de crédito y régimen de provisiones:</a:t>
            </a:r>
            <a:r>
              <a:rPr b="0" lang="en-US" sz="2400" spc="-1" strike="noStrike">
                <a:solidFill>
                  <a:srgbClr val="000000"/>
                </a:solidFill>
                <a:latin typeface="Arial"/>
              </a:rPr>
              <a:t> el capital de un banco y, por consiguiente su índice de basilea, reflejan su situación patrimonial sólo si las pérdidas esperadas por riesgo de crédito están bien medidas y completamente aprovision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8"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lea II otorga gran importancia a los factores que determinan el riesgo de crédito y propone medirlo a partir de sus principales componentes: el riesgo del deudor y el riesgo de la transacció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l deudor se mide por la probalidad de incumplimiento bajo dos condiciones: 1) el banco considera que es improbable que el deudor pague sus obligaciones en forma oportuna y completa de acuerdo a lo convenido, a menos que el banco recurra a acciones como la de ejecutar una garantía, o 2) el deudor obligado al pago ha dejado de servir sus compromisos con el banco por más de 90 dias, y donde este plazo, define el concepto de cartera venc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0"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 transacción se refiere a un determinado préstamo o exposición del banco, y las condiciones en las que se estructuró, principalmente a sus mitigadores de riesgo, como una garantí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pueda decirse que en la medición del riesgo de crédito están involucrados los siguientes conceptos: probabilidad de incumplimiento del deudor, exposición al incumplimiento y pérdida dado el incumplimient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 crédito es la base para medir las pérdidas esperadas e incluso las inesperadas en modelos internos basados en funciones de probabilidad y medidas estadísticas. De ahi la importancia que los bancos conozcan cabalmente la calidad crediticia de sus client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estra regulación en materia de provisiones reconoce la importancia que éstas tienen para los bancos y en la necesidad de medirlas en forma fidedigna con el objeto de mantener todo el tiempo completamente provisionado el riesgo de crédito de la cartera de préstam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nuestra regulación, las provisiones distinguen entre deudores que son evaluados en forma individual y deudores evaluados en forma grup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cuyos créditos se evalúan en forma individual se califican en deudores con riesgo normal, o de bajo riesgo, y en deudores con riesgo superior al normal, o de alto ries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4" name="PlaceHolder 2"/>
          <p:cNvSpPr>
            <a:spLocks noGrp="1"/>
          </p:cNvSpPr>
          <p:nvPr>
            <p:ph/>
          </p:nvPr>
        </p:nvSpPr>
        <p:spPr>
          <a:xfrm>
            <a:off x="304560" y="228600"/>
            <a:ext cx="838188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de bajo riesgo no ven alterada su capacidad de pago frente a situaciones desfavorables de negocios y el banco no necesita efectuar un examen de las recuperaciones de crédito en relación con las garantías que pueden amparar sus créditos. Las pérdidas esperadas de estos prestamos dependen solo de la probabilidad de incumplimiento asignada por el banco y esta probabilidad da lugar a provisiones genera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con riesgo alto se definan como aquellos cuya capacidad de pago es insuficiente en las condiciones previsib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deudores que se encuentran o caerán en incumplimiento en vista de un deterioro en su capacidad de p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6"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 préstamos encierran pérdidas esperadas que pueden estimarse teniendo en cuenta las garantías que resguarden su pag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por estas pérdidas equivalen a las de tipo específico en los Acuerdos de Basilea, ya que se refieren a deudores individualizados que califican en incumplimiento y a préstamos que incluyen pérdidas identificables o prácticamente configurada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si los mitigadores de riesgo exceden el monto de la exposición a la que se refieren, la pérdida dado el incumplimiento será nula, y por lo tanto, la pérdida esperada también lo ser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otra parte hay carteras de deudores  que son evaluados en forma grupal por las características homogéneas que poseen y que permiten clasificarlos en función de sus atrib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de provisiones grupal persigue establecer pérdidas esperadas atendiendo al comportamiento de pago, a las garantías y otros factor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ye préstamos al detalle (retail credits), a micro, pequeñas y medianas empresas, y a personas con préstamos de consum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31356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4" name="PlaceHolder 2"/>
          <p:cNvSpPr>
            <a:spLocks noGrp="1"/>
          </p:cNvSpPr>
          <p:nvPr>
            <p:ph/>
          </p:nvPr>
        </p:nvSpPr>
        <p:spPr>
          <a:xfrm>
            <a:off x="380880" y="228600"/>
            <a:ext cx="8305920" cy="63244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pósito del nuevo acuerdo es contribuir a la estabilidad financiera de los bancos a través de mejoras en la medición y gestión de sus riesgos, mayor transparencia de su situación financiera y adecuados resguardos de capital</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reciente evaluación por parte del Fondo Monetario Internacional y el Banco Mundial encontró que más del 80% de los Principios de Supervisión Bancaria Efectiva enunciados por el Comité de Basilea se encontraban en cumplimiento en Chil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s factores han jugado también un papel en la clasificación del riesgo país. Standard &amp; Poor’s subió en enero de 2004 la calificación de Chile desde A- a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0"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uevo régimen de provisiones de nuestra regulación chilena incluye provisiones adicionales, de naturaleza voluntaria, por riesgo de crédit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 tipo de provisiones adicionales es conveniente constituirlas frente a perspectivas macroeconómicas adversas o circunstancias que puedan afectar a un sector, industria, o grupo de deudores o proyectos, especialmente si existen concentraciones de crédit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adicionales son similares a las especifo-generales del Acuerdo de Basilea, salvo que estas ultimas incluyen riesgo-pai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1492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todo caso, el objetivo de las provisiones adicionales al igual que las específico-generales de Basilea es resguardar los riesgos de componentes de las carteras de préstamo de los bancos, tales como el riesgo de crédito de deudores localizados en determinados sectores de actividad económic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adicionales no responden a una evaluación individual de deudores o créditos, sino que a factores que afectan la capacidad de pago de conjuntos de deudo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ancos pueden anticipar en parte sus efectos, tales como los que se desprenden del deterioro en la rentabilidad y el sobreendeudamiento en ciertos sectores económicos, o del sobreprecio y riesgo de deflación de precios de determinados activ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4" name="PlaceHolder 2"/>
          <p:cNvSpPr>
            <a:spLocks noGrp="1"/>
          </p:cNvSpPr>
          <p:nvPr>
            <p:ph/>
          </p:nvPr>
        </p:nvSpPr>
        <p:spPr>
          <a:xfrm>
            <a:off x="228240" y="304920"/>
            <a:ext cx="8381880" cy="62481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estos factores tambien incorporan un componente imprevisible que puede ocasionar pérdidas inesperadas de diversa cuantía en los banc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s provisiones adicionales tiene un componente de capital, y por ello, pueden interpretarse como cuasi-capital e incorporarse al patrimonio efectivo de los bancos hasta un determinado lími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nuestra legislación (situación que mantiene Basilea II) las provisiones adicionales son consideradas como cuasi-capital (tier II) hasta por un 1,25% de los activos ponderados por riesgo de crédito en el libro de banca</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puesta de Chile, en relación a las provisiones adicionales es asimilarlas a las provisiones especifico-generales del Nuevo Marco de Capital, manteniendo separado el riesgo país que contempla la práctica vig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1520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mer Pilar: Requisitos de Capital</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efectivo al que se refiere Basilea esta compuesto por tramos o tiers I, II, y II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básico y reservas de la LGB equivalen al tier 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onos subordinados y otros componentes corresponden al  tier I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e no tiene componentes actualmente en la LGB para el tier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ilar I de Basilea II, se refiere a bancos sujetos al Índice de referencia del 8%</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argos de capital por los riesgos de crÉdito, mercado y operacional en el Pilar I dependen de los enfoques y de las definiciones que se adopten al implantar el Nuevo Marco de Capit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del enfoque estandarizado (que será el que adoptará Chile por el momento) esos requisitos pasan por definiciones en cuanto a mitigadores de riesgo que son admisibles, y a la fijación de ponderadores de riesgo a determinados activos que la SBIF pueda determin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61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0" name="PlaceHolder 2"/>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égimen de provisiones basado en pérdidas esperadas que la SBIF introdujo a comienzos de 2004 tiene por delante un periodo de consolidación de varios añ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laboración y validación de modelos internos avanzados en cuanto a riesgo de crédito demanda datos confiables acerca de los deudores y sus comportamientos de pago en distintos segmentos del mercado del crédito por al menos 5 años incluyendo los efectos de un choque en el entorno económico y financiero como el de fines de los ’90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itigadores del riesgo de crédito juegan un importante papel en la estimación de provisiones, ya que permiten identificar la parte cubierta y la parte expuesta de los préstamos de los bancos en la eventualidad de incumplimiento de pago de sus deu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itigador de riesgo de crédito puede usarse una sola vez, ya sea para reducir requisitos de provisiones, o bien, de capit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hile, la práctica vigente en la industria bancaria es aplicar los mitigadores del riesgo de crédito al determinar provisiones y se desea mantener esta práctica al implantar el nuevo acuerdo de capital de Basilea II, porque se estima que ante choques en el entorno económico y financiero el capital de los bancos estará enteramente disponible para enfrentar pérdidas inesper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4"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pital por riesgo de crédito en el enfoque estandarizado: </a:t>
            </a:r>
            <a:r>
              <a:rPr b="0" lang="en-US" sz="2400" spc="-1" strike="noStrike">
                <a:solidFill>
                  <a:srgbClr val="000000"/>
                </a:solidFill>
                <a:latin typeface="Arial"/>
              </a:rPr>
              <a:t>en este enfoque se aplican ponderadores de riesgos externos y preestablecidos a los activos de los bancos basados en calificaciones externas, “rating”, por parte de empresas clasificadoras acreditadas</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o incluye principalmente préstamos o créditos, bonos y otros valores emitidos por soberanos, bancos y empresas corporativas y, que forman parte del libro de banca</a:t>
            </a:r>
            <a:endParaRPr b="0" lang="en-US" sz="2400" spc="-1" strike="noStrike">
              <a:solidFill>
                <a:srgbClr val="000000"/>
              </a:solidFill>
              <a:latin typeface="Arial"/>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estandarizado también contempla ponderadores de riesgo de crédito fijados por el Comite de Basilea para préstamos cuyos deudores no cuentan con clasificación externa de ries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6"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mbio en la ponderación de los riesgos al considerar la medición externa en el caso de empresas clasificadas de acuerdo a este criterio o que deseen estarlo en el futuro es que resultará en una alternativa más sensible a los riesgos de crédito para determinar el capital mínim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Basilea I el ponderador de riesgo para todas las empresas es 100%, en el enfoque estandarizado se sitúa en 20% para empresas calificadas sobre AA- y en 150% para empresas calificadas por debajo de BB-</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pital por riesgo de mercado:</a:t>
            </a:r>
            <a:r>
              <a:rPr b="0" lang="en-US" sz="2400" spc="-1" strike="noStrike">
                <a:solidFill>
                  <a:srgbClr val="000000"/>
                </a:solidFill>
                <a:latin typeface="Arial"/>
              </a:rPr>
              <a:t> al igual que en el riesgo de crédito, en el de mercado se distinguen dos enfoques de medición: el estandarizado y el de modelos internos de valor en riesgo de los propios ban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Enfoque estandarizado:</a:t>
            </a:r>
            <a:r>
              <a:rPr b="0" lang="en-US" sz="2400" spc="-1" strike="noStrike">
                <a:solidFill>
                  <a:srgbClr val="000000"/>
                </a:solidFill>
                <a:latin typeface="Arial"/>
              </a:rPr>
              <a:t> considera los riesgos de tasa de interés y de tipos de cambio, y los riesgos en posiciones en acciones y mercancías (estos últimos no se contemplan en la LGB, porque a los bancos en Chile no se les permite adquirir acciones ni mercancía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exposiciones de los bancos a las tasas de interés y a los tipos de cambio determinan el requisito de capital adecuado o suficiente (existe una fórmula que representa esta medición: Cm=(0,08*APRC + RM +R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y dos riesgos vinculados a la tasa de interés en el libro de negociación que se han iden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mplantación de Basilea II en la industria bancaria chilena constituirá un antecedente favorable en evaluaciones de la solvencia del sistema bancario que efectúen las empresas clasificadoras de riesgo, los mercados de capital, inversionistas institucionales internacionales y extranjeros, y entidades financieras multilateral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imer Acuerdo de Capital tuvo una estructura más simple. Consistió en un pilar de requisitos de capital mínimo, sobre la base de activos ponderados por riesgo de crédito, con ponderadores mayores para activos más riesgoso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enmienda de 1996 sobre riesgo de mercado lo complementó con enfoques de medición y un cargo de capital referido a este ries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0"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específico, o de contraparte de crédito, y el riesgo general de merc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imero considera movimientos adversos en el precio de instrumentos financieros debido a factores relacionados con el emisor individual de esos activ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general de mercado se refiere a riesgos de pérdida asociados a cambios adversos en las tasas de interés básicas de merc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su parte, el riesgo cambiario cubre tanto los libros de negociación y de banca, y se asocia con riesgos de pérdida vinculados a movimientos adversos en los tipos de camb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Modelos internos de valor en riesgo:</a:t>
            </a:r>
            <a:r>
              <a:rPr b="0" lang="en-US" sz="2400" spc="-1" strike="noStrike">
                <a:solidFill>
                  <a:srgbClr val="000000"/>
                </a:solidFill>
                <a:latin typeface="Arial"/>
              </a:rPr>
              <a:t> juegan un importante papel en los bancos en los cuales las transacciones en el libro de negociación aportan en forma considerable a su capacidad de generación de excedente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dopción de modelos de valor en riesgo por parte de un banco está sujeta a la autorización de la SBIF que tendrá en cuenta los estándares cualitativos que establece la evaluación de gestión de sus riesgos financieros y de tesorería, y de estándares cuantitativos incluyendo pruebas de validación retrospectiva</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CCH y la SBIF han elaborado una norma conjunta sobre riesgo de mercado que sigue en términos generales la Enmienda de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4" name="PlaceHolder 2"/>
          <p:cNvSpPr>
            <a:spLocks noGrp="1"/>
          </p:cNvSpPr>
          <p:nvPr>
            <p:ph/>
          </p:nvPr>
        </p:nvSpPr>
        <p:spPr>
          <a:xfrm>
            <a:off x="304560" y="228600"/>
            <a:ext cx="8381880" cy="64771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apital por riesgo operacional en el enfoque estandarizado alternativo:</a:t>
            </a:r>
            <a:r>
              <a:rPr b="0" lang="en-US" sz="2800" spc="-1" strike="noStrike">
                <a:solidFill>
                  <a:srgbClr val="000000"/>
                </a:solidFill>
                <a:latin typeface="Arial"/>
              </a:rPr>
              <a:t> se distinguen 8 líneas de negocios y el aporte que cada una hace al margen bruto de un banc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aportes de las líneas de negocios de banca comercial y de banca al por menor representan habitualmente más del 90% del margen bruto de los bancos que operan en el país. Otras líneas de negocio son finanzas corporativas, negociación y ventas, pagos y cancelación de deudas, servicios de agencia, administración de activos y corretaje de valores al por men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6"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EGUNDO PILAR: ANÁLISIS DEL PROCESO DE SUPERVISIÓN</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objetivo del Pilar II consiste en establecer requisitos adicionales de capital para cubrir el riesgo de perdidas inesperadas que no han sido consideradas en el Pilar 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uevo Marco de Capital asigna gran responsabilidad a los directores y alta administración de los bancos en la implantación de procesos internos de evaluación de sus dotaciones y metas de capital, en línea con los perfiles de riesgo de sus líneas de negocios y sus sistemas internos de gestión y contro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apel del supervisor también se dirige a la gestión de los riesgos y a la suficiencia de capital de los ban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ho rol incluye el análisis y evaluación de los enfoques y modelos que usan los bancos, y las medidas que pueden adoptar para corregir deficiencias que ponen en riesgo su estabilidad financiera, ya sea aminorando sus riesgos, mejorando su gestión o incrementando sus capita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ay cuatro principios de supervisión dirigida a los riesgos de la banc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cipio 1:</a:t>
            </a:r>
            <a:r>
              <a:rPr b="0" lang="en-US" sz="2400" spc="-1" strike="noStrike">
                <a:solidFill>
                  <a:srgbClr val="000000"/>
                </a:solidFill>
                <a:latin typeface="Arial"/>
              </a:rPr>
              <a:t> los bancos deberán contar con un proceso para evaluar la suficiencia de su capital total en función de sus perfiles de riesgo y con una estrategia para el mantenimiento de sus niveles de capi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0"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incipio 2:</a:t>
            </a:r>
            <a:r>
              <a:rPr b="0" lang="en-US" sz="2400" spc="-1" strike="noStrike">
                <a:solidFill>
                  <a:srgbClr val="000000"/>
                </a:solidFill>
                <a:latin typeface="Arial"/>
              </a:rPr>
              <a:t> las autoridades supervisoras deberán examinar y evaluar las estrategias y evaluaciones internas de la suficiencia de capital de los bancos, asi como la capacidad de éstos para vigilar y garantizar el cumplimiento de sus coeficientes de capital regulador. Las autoridades supervisoras deberán intervenir cuando no estén satisfechas con el resultado de este proces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incipio 3:</a:t>
            </a:r>
            <a:r>
              <a:rPr b="0" lang="en-US" sz="2400" spc="-1" strike="noStrike">
                <a:solidFill>
                  <a:srgbClr val="000000"/>
                </a:solidFill>
                <a:latin typeface="Arial"/>
              </a:rPr>
              <a:t> los supervisores deberán esperar que los bancos operen por encima de los coeficientes mínimos de capital regulador y deberán ser capaces de exigir que mantengan capital por encima de ese mínim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io 4:</a:t>
            </a:r>
            <a:r>
              <a:rPr b="0" lang="en-US" sz="2400" spc="-1" strike="noStrike">
                <a:solidFill>
                  <a:srgbClr val="000000"/>
                </a:solidFill>
                <a:latin typeface="Arial"/>
              </a:rPr>
              <a:t> los supervisores tratarán de intervenir con prontitud a fin de evitar que el capital descienda por debajo de los niveles minimos requeridos para cubrir las características de riesgo de un banco dado. Además, deberán exigir la inmediata adopción de medidas correctoras si el capital no se mantiene en el nivel requerido o no se recupera ese ni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8" name="PlaceHolder 2"/>
          <p:cNvSpPr>
            <a:spLocks noGrp="1"/>
          </p:cNvSpPr>
          <p:nvPr>
            <p:ph/>
          </p:nvPr>
        </p:nvSpPr>
        <p:spPr>
          <a:xfrm>
            <a:off x="304560" y="0"/>
            <a:ext cx="8305560" cy="64771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bien Basilea I contribuyó a la recuperación de los niveles de capital en la banca, su estructura simple denotaba escasa sensibilidad en la medición de los riesgos de crédito y por tanto en la diferenciación de ponderadores para diversos tipos de crédit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onderador uniforme de riesgo de 100% para la mayor parte de la cartera de préstamos denota insuficiente diferenciació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 anterior no está en línea con innovaciones financieras e instrumentos financieros complejos que han ganado importancia en años recientes, tales como notas estructuradas y productos derivad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mismo, posibilitó el arbitraje de capital, como por ejemplo en securitizaciones donde se mantiene en los activos de los bancos, títulos con ponderadores de riesgo que no guardan relación con sus riesgos de pér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74680"/>
            <a:ext cx="8305920" cy="9446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ilares del Nuevo Acuerdo de Capital</a:t>
            </a:r>
            <a:endParaRPr b="0" lang="en-US" sz="3200" spc="-1" strike="noStrike">
              <a:solidFill>
                <a:srgbClr val="000000"/>
              </a:solidFill>
              <a:latin typeface="Arial"/>
            </a:endParaRPr>
          </a:p>
        </p:txBody>
      </p:sp>
      <p:sp>
        <p:nvSpPr>
          <p:cNvPr id="50"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609480" indent="-60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tres pilares complementarios, integrados entre si y que se refuerzan mutuamente con miras a medir, gestionar y supervisar los riesgos que asumen los bancos y para establecer adecuados resguardos de capital</a:t>
            </a:r>
            <a:endParaRPr b="0" lang="en-US" sz="2000" spc="-1" strike="noStrike">
              <a:solidFill>
                <a:srgbClr val="000000"/>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 Requisitos de capital mínimo: este pilar es una extensión y actualización de Basilea I. Da gran relevancia al riesgo de crédito e incluye por primera vez el riesgo operacional</a:t>
            </a: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I: Análisis del proceso de supervisión: se refiere a la supervisión de la suficiencia de capital y persigue que el capital regulador de los bancos esté en línea con sus capitales económicos</a:t>
            </a: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II: Disciplina de mercado: se relaciona con la transparencia de los riesgos y de la situación financiera de los bancos de manera que inversionistas y depositantes ejerzan su labor de monitoreo más efec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2" name="PlaceHolder 2"/>
          <p:cNvSpPr>
            <a:spLocks noGrp="1"/>
          </p:cNvSpPr>
          <p:nvPr>
            <p:ph/>
          </p:nvPr>
        </p:nvSpPr>
        <p:spPr>
          <a:xfrm>
            <a:off x="380880" y="228240"/>
            <a:ext cx="8305920" cy="6248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Basilea II, los bancos tendrán la opción de aplicar diversos enfoques de riesgo.</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nfoque estandarizado recurre a parámetros externos a los bancos, similares a los ponderadores de riesgo de crédito de activos de Basilea I y se estima adecuado para bancos de tamaño medio o pequeño y cuyas actividades se centran en sus respectivos mercados domésticos</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nfoque basado en evaluaciones internas entrega a los bancos la elaboración de modelos internos de riesgo y se considera apropiado para bancos de mayor tamaño, internacionalmente activos y que ofrecen servicios financieros innovadores y productos de banca de inv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492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4"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Comité de Basilea señala que corresponde a las entidades supervisoras nacionales tomar decisiones acerca de la oportunidad, secuencia y enfoques para implantar el Nuevo Acuerdo de Capital, teniendo en cuenta el contexto del sistema bancario doméstico y las prioridades nacionales en materia de supervisió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BIF decidió llevar adelante la transición de los bancos hacia Basilea II usando por el momento el actual marco legal y a las facultades regulatorias de la SBIF para hacer ajustes, así como el sistema vigente de supervisión bancaria, basada en la medición de la solvencia y gestión de los riesgos en los banco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sta primera etapa se adoptará el enfoque estandarizado de medición de los riesgos de crédito, de mercado y operacional</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plicación de enfoques internos y modelos avanzados de riesgos se dejarán para una etapa futur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6"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bertura de riesgos, capital e indice de Basile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ipología de los riesgos: </a:t>
            </a:r>
            <a:r>
              <a:rPr b="0" lang="en-US" sz="2400" spc="-1" strike="noStrike">
                <a:solidFill>
                  <a:srgbClr val="000000"/>
                </a:solidFill>
                <a:latin typeface="Arial"/>
              </a:rPr>
              <a:t>Los riesgos de pérdida que asumen los bancos al intermediar fondos y prestar servicios financieros se pueden clasificar en los que toman en forma deliberada y en aquellos que asumen en forma involuntari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iesgos que se toman deliberadamente se caracterizan porque pueden medirse y por tanto gestionars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iesgos de pérdida involuntarios se originan principalmente en eventos esporádicos e incier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8" name="PlaceHolder 2"/>
          <p:cNvSpPr>
            <a:spLocks noGrp="1"/>
          </p:cNvSpPr>
          <p:nvPr>
            <p:ph/>
          </p:nvPr>
        </p:nvSpPr>
        <p:spPr>
          <a:xfrm>
            <a:off x="304560" y="228600"/>
            <a:ext cx="838188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enen principalmente del entorno económico y financiero que pueden ocasionar importantes pérdidas inesperadas en un amplio grupo de bancos, ante bruscas caídas en la actividad económica que impactan negativamente el valor de sus carteras de préstamos, y/o movimientos adversos en la tasa de interés y en los tipos de cambio que reducen el valor de sus carteras de inversiones o aumentan el valor de sus pasivos exigibles (riesgos sistémic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as en los sistemas, personas, procesos constituyen riesgo operacional que igualmente pueden ocasionar pérdidas inesperadas, pero los eventos que las ocasionan se limitan generalmente al banco en el que esas fallas tienen lug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1:31:55Z</dcterms:created>
  <dc:creator>Hugo Luis Caneo Ormazabal</dc:creator>
  <dc:description/>
  <dc:language>en-US</dc:language>
  <cp:lastModifiedBy>Administrador</cp:lastModifiedBy>
  <dcterms:modified xsi:type="dcterms:W3CDTF">2006-10-02T21:40:00Z</dcterms:modified>
  <cp:revision>9</cp:revision>
  <dc:subject/>
  <dc:title> Nuevo Marco de Capital</dc:title>
</cp:coreProperties>
</file>