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B858BC-8EDF-413C-A267-5785C6A36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7D75FD-4B3C-4359-9265-28E84A738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449B39-344B-4BD8-91F5-ABB18ABB41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BA2049-8F24-4DE5-A1E6-4DD1162B1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47147-1753-424A-9435-AD57C2BD5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09AF8-5452-45F0-8C37-4E5881121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DC5F3-776F-44A6-BBFA-36B5BE836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15914-3CA9-4CFF-9D85-E0B023BD9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9D78A-71D9-49EC-9FE4-C6B4DE63E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CA14F-1E15-4A1F-8B49-2638B1FAC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767F2-DE80-41CD-974F-EAD1BAD71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0B26A0-AABD-44CA-A596-1ABEFC29A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F124-47A6-43CE-821A-ECD82112F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AE5A2-F6E0-4A35-8A55-AE2BD8052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9FC70-B78A-4929-BF83-A4A5A5703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FC270-0761-4299-A882-40D7F0150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01BE7-6C02-47D0-9528-A06434978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B1B2C-0629-41C7-94C7-9D514E77A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B7D4CC-E9DF-4F00-88C0-5723B590C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DFB68C-9CC2-47EB-BEAA-B5A7F49E9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C99962-D97B-4795-BACE-0EAE52286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179F7-6515-4BAC-A6FD-8E093A455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9FB55-1A28-4521-8246-2723C819B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5001A1-C9B0-477B-B014-8A38C8279D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7B0D-7629-48AD-B004-FEF275CC7B07}"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7430-3E2B-4689-B47B-F78BE1C09BF5}"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0"/>
            <a:ext cx="777240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ucursales e Inversiones en Bancos y otras Sociedades en el Exterior (Título X de la LGB)</a:t>
            </a:r>
            <a:endParaRPr b="0" lang="en-US" sz="3200" spc="-1" strike="noStrike">
              <a:solidFill>
                <a:srgbClr val="ffffcc"/>
              </a:solidFill>
              <a:latin typeface="Tahoma"/>
            </a:endParaRPr>
          </a:p>
        </p:txBody>
      </p:sp>
      <p:sp>
        <p:nvSpPr>
          <p:cNvPr id="127" name="PlaceHolder 2"/>
          <p:cNvSpPr>
            <a:spLocks noGrp="1"/>
          </p:cNvSpPr>
          <p:nvPr>
            <p:ph type="subTitle"/>
          </p:nvPr>
        </p:nvSpPr>
        <p:spPr>
          <a:xfrm>
            <a:off x="685440" y="1980720"/>
            <a:ext cx="8001000" cy="434340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ad para abrir oficinas e invertir en sociedades:</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formidad con lo dispuesto en el artículo 76 de la LGB, los bancos podrán abrir sucursales y oficinas de representación en el extranjero, efectuar inversiones en acciones de bancos establecidos en el extranjero o de empresas constituidas en el exterior que tengan alguno de los giros autorizados en los artículos 70 y 74 de la LGB (esto es, el giro de las filiales y sociedades de apoyo al gir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5"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fontScale="96000"/>
          </a:bodyPr>
          <a:p>
            <a:pPr marL="585000" indent="-5850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versiones en sociedades del exterior que pueden mantener los bancos:</a:t>
            </a:r>
            <a:endParaRPr b="0" lang="en-US" sz="2400" spc="-1" strike="noStrike">
              <a:solidFill>
                <a:srgbClr val="ffffff"/>
              </a:solidFill>
              <a:latin typeface="Tahoma"/>
            </a:endParaRPr>
          </a:p>
          <a:p>
            <a:pPr marL="5850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gn="just">
              <a:lnSpc>
                <a:spcPct val="80000"/>
              </a:lnSpc>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rsiones en sociedades filiales</a:t>
            </a:r>
            <a:endParaRPr b="0" lang="en-US" sz="2400" spc="-1" strike="noStrike">
              <a:solidFill>
                <a:srgbClr val="ffffff"/>
              </a:solidFill>
              <a:latin typeface="Tahoma"/>
            </a:endParaRPr>
          </a:p>
          <a:p>
            <a:pPr marL="585000" indent="-585000" algn="just">
              <a:lnSpc>
                <a:spcPct val="80000"/>
              </a:lnSpc>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icipación minoritaria en bancos u otras sociedades</a:t>
            </a:r>
            <a:endParaRPr b="0" lang="en-US" sz="2400" spc="-1" strike="noStrike">
              <a:solidFill>
                <a:srgbClr val="ffffff"/>
              </a:solidFill>
              <a:latin typeface="Tahoma"/>
            </a:endParaRPr>
          </a:p>
          <a:p>
            <a:pPr marL="5850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Límites de inversiones</a:t>
            </a:r>
            <a:r>
              <a:rPr b="0" lang="en-US" sz="2400" spc="-1" strike="noStrike">
                <a:solidFill>
                  <a:srgbClr val="ffffff"/>
                </a:solidFill>
                <a:latin typeface="Tahoma"/>
              </a:rPr>
              <a:t> </a:t>
            </a: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imite global:</a:t>
            </a:r>
            <a:r>
              <a:rPr b="0" lang="en-US" sz="2400" spc="-1" strike="noStrike">
                <a:solidFill>
                  <a:srgbClr val="ffffff"/>
                </a:solidFill>
                <a:latin typeface="Tahoma"/>
              </a:rPr>
              <a:t> las inversiones señaladas con las letras a) y b) recien mencionadas se encuentran comprendidas dentro del límite general de inversiones del inciso segundo del artículo 69 de la LGB (una vez el capital pagado y reservas)</a:t>
            </a: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ímite de inversiones en el mismo país:</a:t>
            </a:r>
            <a:r>
              <a:rPr b="0" lang="en-US" sz="2400" spc="-1" strike="noStrike">
                <a:solidFill>
                  <a:srgbClr val="ffffff"/>
                </a:solidFill>
                <a:latin typeface="Tahoma"/>
              </a:rPr>
              <a:t> según el N° 1 del artículo 80 de la LGB, los bancos constituidos en Chile solo podrán invertir hasta un 40% de su patrimonio efectivo sin consolidar, en bancos u otras sociedades establecidas en un mismo paí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23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7"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e porcentaje incluirá también a las sucursales que mantuvieran en el mismo país</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a aplicación de este límite se tomarán los saldos de los activos del banco que correspondan a sucursales e inversiones  en sociedades en un mismo país</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ras exigencias legales:</a:t>
            </a: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errar oficinas de representacion en el extranjero no se requiere de autorizacion previa de la SBIF, pero si de un aviso anticipado de 90 dias a lo menos</a:t>
            </a: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el caso de sucursales, la SBIF puede exigir un plan de cierre para cautelar los intereses de los cl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9" name="PlaceHolder 2"/>
          <p:cNvSpPr>
            <a:spLocks noGrp="1"/>
          </p:cNvSpPr>
          <p:nvPr>
            <p:ph/>
          </p:nvPr>
        </p:nvSpPr>
        <p:spPr>
          <a:xfrm>
            <a:off x="304560" y="304920"/>
            <a:ext cx="8381880" cy="6400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sucursales y filiales del extranjero que consoliden con el banco en Chile, además de cumplir con las disposiciones del país anfitrión, deben sujetar sus operaciones de crédito a las instrucciones del banco matriz para cumplir con los límites de crédito que disponen los Nos 1, 2 y 4 del artículo 84 de la LGB</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sucursales y filiales que no consoliden deben considerar instrucciones del banco matriz en relación a sus operaciones con partes relacionadas al banco y  los otorgados a personas residentes o domiciliadas en Chile</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suma de los depósitos, préstamos y otras acreencias que los bancos chilenos mantengan, directamente o a través de terceros, en sociedades del giro bancario de las que sean accionistas, incluidas sus filiales, no podrán exceder del 25% del patrimonio efectivo de la entidad extranjera</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1" name="PlaceHolder 2"/>
          <p:cNvSpPr>
            <a:spLocks noGrp="1"/>
          </p:cNvSpPr>
          <p:nvPr>
            <p:ph/>
          </p:nvPr>
        </p:nvSpPr>
        <p:spPr>
          <a:xfrm>
            <a:off x="304560" y="380520"/>
            <a:ext cx="8381880" cy="632484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disposición del N° 2 del artículo 80 de la LGB alcanza a todos los depósitos a la vista o a plazo y los créditos que otorgue la institución financiera chilena, sus sucursales en el exterior y sus filiales, como asimismo los efectuados por cualquier persona a través de la cual la institucion financiera o una sucursal o filial provea de fondos a la entidad extranjera a que se refiere este límite</a:t>
            </a:r>
            <a:endParaRPr b="0" lang="en-US" sz="2400" spc="-1" strike="noStrike">
              <a:solidFill>
                <a:srgbClr val="ffffff"/>
              </a:solidFill>
              <a:latin typeface="Tahoma"/>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instituciones financieras chilenas podrán avalar, afianzar o, en cualquier forma, caucionar obligaciones de bancos u otras sociedades en las que participen en el extranjero, con sujeción al límite del 25% del patrimonio efectivo de la entidad extranjera</a:t>
            </a:r>
            <a:endParaRPr b="0" lang="en-US" sz="2400" spc="-1" strike="noStrike">
              <a:solidFill>
                <a:srgbClr val="ffffff"/>
              </a:solidFill>
              <a:latin typeface="Tahoma"/>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chilenos deben proporcionar a su supervisor chileno la información sobre las entidades extranjeras en las que participen, sin perjuicio de la obligación que imponen los articulos 9 y 10 de la Ley 18.04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3" name="PlaceHolder 2"/>
          <p:cNvSpPr>
            <a:spLocks noGrp="1"/>
          </p:cNvSpPr>
          <p:nvPr>
            <p:ph/>
          </p:nvPr>
        </p:nvSpPr>
        <p:spPr>
          <a:xfrm>
            <a:off x="151920" y="228240"/>
            <a:ext cx="8534520" cy="66294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chilenos tendrán la obligacion de obtener los resguardos necesarios para que los créditos o garantías en que las entidades no sujetas a su control en las que participen en el extranjero concedan a deudores relacionados directamente o a través de terceras personas, a la propiedad o gestión del banco chileno participante, se sujeten a los límites que para tal efecto establece la LGB y para que los créditos otorgados a domiciliados o residentes en Chile se sujeten a los límites contemplados en el artículo 84 N° 1 y a las normas del artículo 85 de la LGB</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Operaciones entre partes relacionadas:</a:t>
            </a:r>
            <a:r>
              <a:rPr b="0" lang="en-US" sz="2400" spc="-1" strike="noStrike">
                <a:solidFill>
                  <a:srgbClr val="ffffff"/>
                </a:solidFill>
                <a:latin typeface="Tahoma"/>
              </a:rPr>
              <a:t> siguiendo el mismo principio de las filiales establecidas en Chile, los actos, contratos, negocios y operaciones entre un banco  y sus sucursales y sociedades filiales, de estas últimas entre si, y de ellas con personas relacionadas al banc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5"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berán observar condiciones de equidad, equivalentes a las que prevalecen en el mercado y deben quedar debidamente identificadas en las entidades participantes, para permitir la obtención de información por la autoridad en caso necesario</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endidas las disposiciones que rigen para las fililes bancarias chilenas, las instituciones financieras deben tomar los resguardos necesarios para que sus sucursales o filiales en el exterior no adquieran bajo ningún concepto acciones o titulos representativos de acciones de su matriz</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7"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Fiscalización de las sucursales y filiales en el exterior:</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bre la base de los dispuesto en los artículos 81 y 82 de la LGB, la SBIF ejerce la fiscalización de las sucursales que los bancos establezcan en el exterior, como asimismo de las sociedades en que inviertan en el extranjero, siempre que, de acuerdo con el artículo 86 de la Ley 18.046, éstas tengan el carácter de filial del banco chilen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forma de ejercer la fiscalización sobre las filiales en el exterior, es a través de convenios suscritos con el organismo de supervisión del país en que se establezc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9"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os convenios persiguen beneficios recíprocos entre los organismos supervisores para el intercambio de información relevante para efectuar una adecuada supervisión</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Sucursales en el exterio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Facultad para abrir sucursales en el exterior:</a:t>
            </a:r>
            <a:r>
              <a:rPr b="0" lang="en-US" sz="2400" spc="-1" strike="noStrike">
                <a:solidFill>
                  <a:srgbClr val="ffffff"/>
                </a:solidFill>
                <a:latin typeface="Tahoma"/>
              </a:rPr>
              <a:t> el artículo 81 de la LGB faculta a los bancos chilenos para abrir sucursales en el exterior, sujetas a las normas de operación que la propia ley establece y a la fiscalización de la SBIF</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caso que los bancos consoliden con sus sucursales en el exterior, se considerará como capital asignado para los efectos d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tículo 81 de la LGB así como para las exigencias de capital de la matriz y para los límites de crédito, el valor de la inversión efectuada en ellas que la casa matriz tenga registrado en su activo de acuerdo con normas contables que consideran los aportes efectivos de capital</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Límites de la LGB que rigen a una sucursal y que no se aplican en forma consolidada con la matri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de cumplir con las normas del país anfitrión, las sucursales en el exterior deben sujetar sus operaciones a ciertos límites establecidos en relación con su capital asignado, en concordancia con lo previsto en el N° 2 del artículo 81 de la LGB:</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936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3"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fontScale="97000"/>
          </a:bodyPr>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capital asignado de una sucursal no puede ser inferior al 3% de su activo total</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ma de las obligaciones por avales o fianzas en moneda chilena de una sucursal, no podrá exceder de una vez su capital asignado</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bienes recibidos en pago por una sucursal no podrán superar el 20% de su capital asignado</a:t>
            </a:r>
            <a:endParaRPr b="0" lang="en-US" sz="2800" spc="-1" strike="noStrike">
              <a:solidFill>
                <a:srgbClr val="ffffff"/>
              </a:solidFill>
              <a:latin typeface="Tahoma"/>
            </a:endParaRPr>
          </a:p>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estados financieros anuales de las sucursales en el exterior deben ser presentados a la SBIF dentro de los 10 días siguientes hábiles a su emisión y estos estados deben ser auditados por la misma empresa de auditores del banco matr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2240"/>
            <a:ext cx="80010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29"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597240" indent="-5972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brir sucursales y oficinas de representación en el extranjero, será necesaria la autorización previa de la SBIF y para efectuar las otras inversiones antes señaladas, se requerirá además, la autorización del BCCH</a:t>
            </a:r>
            <a:endParaRPr b="0" lang="en-US" sz="2400" spc="-1" strike="noStrike">
              <a:solidFill>
                <a:srgbClr val="ffffff"/>
              </a:solidFill>
              <a:latin typeface="Tahoma"/>
            </a:endParaRPr>
          </a:p>
          <a:p>
            <a:pPr marL="597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quisitos para solicitar la autorización:</a:t>
            </a:r>
            <a:endParaRPr b="0" lang="en-US" sz="2400" spc="-1" strike="noStrike">
              <a:solidFill>
                <a:srgbClr val="ffffff"/>
              </a:solidFill>
              <a:latin typeface="Tahoma"/>
            </a:endParaRPr>
          </a:p>
          <a:p>
            <a:pPr marL="597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plir con las proporciones del artículo 66 de la LGB</a:t>
            </a: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r calificados por la SBIF, en categoría I o II de gestión y solvencia. Si un banco está en categoría III, la autorización podrá ser otorgada si las deficiencias en su gestión no lo inhabilita a juicio de la SBIF para mantener oficinas o sucursales en el exterior</a:t>
            </a:r>
            <a:endParaRPr b="0" lang="en-US" sz="2400" spc="-1" strike="noStrike">
              <a:solidFill>
                <a:srgbClr val="ffffff"/>
              </a:solidFill>
              <a:latin typeface="Tahoma"/>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uanto a los márgenes de crédito a una misma persona, a personas relacionadas o a directores o trabajadores (artículo 84 Nos 1, 2 y 4), sólo se aplican en los que otorguen a personas con domicilio o residencia en Chile (hay que considerar lo dispuesto en el articulo 85 para estos cómputos según corresponda) y, además, con la importante excepción de su casa matriz, para la cual no rigen los márgenes de la ley chilena</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sucursal y su casa matriz se entienden entidades independientes</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LGB expresa que, por ser las sucursales independientes de la casa matriz, no operan respecto de ellas las preferencias de pago o garantía del Estado aplicables a los bancos chilen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7" name="PlaceHolder 2"/>
          <p:cNvSpPr>
            <a:spLocks noGrp="1"/>
          </p:cNvSpPr>
          <p:nvPr>
            <p:ph/>
          </p:nvPr>
        </p:nvSpPr>
        <p:spPr>
          <a:xfrm>
            <a:off x="533520" y="304920"/>
            <a:ext cx="8153280" cy="5821200"/>
          </a:xfrm>
          <a:prstGeom prst="rect">
            <a:avLst/>
          </a:prstGeom>
          <a:noFill/>
          <a:ln w="0">
            <a:noFill/>
          </a:ln>
        </p:spPr>
        <p:txBody>
          <a:bodyPr lIns="90000" rIns="90000" tIns="46800" bIns="46800" anchor="t">
            <a:normAutofit fontScale="97000"/>
          </a:bodyPr>
          <a:p>
            <a:pPr marL="591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Filiales en el exterior:</a:t>
            </a:r>
            <a:endParaRPr b="0" lang="en-US" sz="2800" spc="-1" strike="noStrike">
              <a:solidFill>
                <a:srgbClr val="ffffff"/>
              </a:solidFill>
              <a:latin typeface="Tahoma"/>
            </a:endParaRPr>
          </a:p>
          <a:p>
            <a:pPr marL="591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Negocios de las filiales:</a:t>
            </a:r>
            <a:endParaRPr b="0" lang="en-US" sz="2800" spc="-1" strike="noStrike">
              <a:solidFill>
                <a:srgbClr val="ffffff"/>
              </a:solidFill>
              <a:latin typeface="Tahoma"/>
            </a:endParaRPr>
          </a:p>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que desarrollan el giro principal de la matriz: los bancos pueden tener participación en bancos del exterior, entendiendo por tales las empresas que desarrollan las actividades genéricamente descritas en el artículo 40 de la LGB</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que desarrollan los giros permitidos a las filiales en Chile: los bancos pueden tener participación en sociedades fililaes en el exterior que tengan alguno de los giros que autoriza el artículo 70 para las filiales en Chi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filiales que se constituyen en el exterior, deben tener como giro exclusivo la actividad que permite la ley chilena a las filiales en el país y, por lo tanto, no podrán tener participación en otras sociedades ni efectuar negocios ajenos a su giro</a:t>
            </a:r>
            <a:endParaRPr b="0" lang="en-US" sz="2800" spc="-1" strike="noStrike">
              <a:solidFill>
                <a:srgbClr val="ffffff"/>
              </a:solidFill>
              <a:latin typeface="Tahoma"/>
            </a:endParaRPr>
          </a:p>
          <a:p>
            <a:pPr marL="3222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imilitud de las operaciones permitidas por la legislacion extranjera con respecto a las permitidas en Chile a sociedades que se rigen por disposiciones legales especiales, será objeto, en cada caso, de una calificación de la SBIF</a:t>
            </a:r>
            <a:endParaRPr b="0" lang="en-US" sz="2800" spc="-1" strike="noStrike">
              <a:solidFill>
                <a:srgbClr val="ffffff"/>
              </a:solidFill>
              <a:latin typeface="Tahoma"/>
            </a:endParaRPr>
          </a:p>
          <a:p>
            <a:pPr marL="3222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más de cumplir con las normas del país anfitrión, las filiales en el exterior deben sujetar sus operaciones a lo establecido por su matr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1"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ción sobre los estados financieros de estas filiales debe ser puesta en conocimiento de la SBIF, a través del banco matriz</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imismo, los estados financieros de las filiales en el exterior deben ser auditados por una empresa de auditores externos que representen la misma empresa internacional  la que pertenezca a la empresa que realiza la auditoría de la matriz en Chile</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Inversiones minoritarias en bancos y otras sociedades en el exterio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pueden mantener inversiones minoritarias en aquellas sociedades que la ley les permite constituir como filil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3"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609480" indent="-60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adquisición de acciones o derechos minoritarios en una sociedad en el exterior requiere cumplir ciertas condiciones básicas:</a:t>
            </a:r>
            <a:endParaRPr b="0" lang="en-US" sz="2400" spc="-1" strike="noStrike">
              <a:solidFill>
                <a:srgbClr val="ffffff"/>
              </a:solidFill>
              <a:latin typeface="Tahoma"/>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a adquisición tenga el carácter de una inversión permanente en un banco, o bien en una sociedad con giro exclusivo, sujetos a la supervisión de un organismo fiscalizados en el respectivo país</a:t>
            </a: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os demás socios o accionistas que posean un 10% o más de participación en el capital de la sociedad cumplan las condiciones de solvencia e integridad del artículo 36</a:t>
            </a: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se obtenga la autorización previa de la SBIF y del BCCH, cumpliendo con los demás requisitos que exige la l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5"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efectos contables y sin perjuicio de la demás información que se requiera para mantenerse enterados de la actividad de las sociedades en que participan minoritariamente, los bancos deben obtener, a lo menos trimestralmente, estados de situación de dichas socieda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1"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compañar un estudio de factibiildad económico-financiero que considere las condiciones económicas del país donde se realizará la inversión, el funcionamiento y las características del mercado financiero en que se instalará la entidad, la actividad proyectada y las condiciones en que se desenvolverá de acuerdo a diversos escenarios de contingencia</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Que el país en el que se efectuara la inversión o se abrirá la oficina, ofrezca condiciones de fiscalización que permitan apreciar el riesgo de sus operacione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Que, si en la empresa establecida en el exterior, participan socios o accionistas con un porcentaje igual o superior al 10% del capital de ella, cumplan con los requisitos de integridad y solvencia del artículo 3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3"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mitación ante la SBIF: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Procedimiento normal:</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acuerdo con el artículo 78 de la LGB, la SBIF disponde de un plazo de 90 días para aceptar o rechazar la solicitud, a contar de la fecha de su presentación</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ley establece un plazo de 45 días para que la SBIF pida antecedentes adicional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rechazar la solicitud, la SBIF debe comunicar reservadamente al banco la causal de su pronunciamient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5"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cedimiento especial:</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instituciones financieras podrán acogerse a un procedimiento de trámite especial para solicitar autorización para abrir sucursales o invertir en el exterior</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e caso el plazo para requerir antecedentes adicionales sera de 22 días y el pronunciamiento definitivo de la SBIF será dado dentro de 45 día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ser rechazada la solicitud, tal decisión debe ser comunicada mediante una resolución fundada, la que será susceptible del recurso de reclamación de acuerdo con lo dispuesto en el artículo 22 de la LG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7" name="PlaceHolder 2"/>
          <p:cNvSpPr>
            <a:spLocks noGrp="1"/>
          </p:cNvSpPr>
          <p:nvPr>
            <p:ph/>
          </p:nvPr>
        </p:nvSpPr>
        <p:spPr>
          <a:xfrm>
            <a:off x="151920" y="304920"/>
            <a:ext cx="8534520" cy="6324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sólo podrán acogerse a este procedimiento especial cuando, además de cumplir con los mismos requisitos para presentar una solicitud en el procedimiento normal, reúnan en forma copulativa los siguientes: </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der en un 25% el porcentaje mínimo de patrimonio efectivo, esto es, que éste no sea inferior al 10% de los activos ponderados por riesgo</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r calificados en categoría I por la SBIF, según la clasificación de gestión y solvencia</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a inversión corresponda a la apertura de una sucursal o adquisición de acciones o derechos que representen más del 50% del capital de una empresa extranjera, o si la participación es del 50% o menos, los otros socios sean residentes de Chile. Podrán ser 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9844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9" name="PlaceHolder 2"/>
          <p:cNvSpPr>
            <a:spLocks noGrp="1"/>
          </p:cNvSpPr>
          <p:nvPr>
            <p:ph/>
          </p:nvPr>
        </p:nvSpPr>
        <p:spPr>
          <a:xfrm>
            <a:off x="304560" y="-360"/>
            <a:ext cx="8381880" cy="6126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identes si pasan el examen de solvencia e integridad que se hará en consulta a la autoridad del país de orige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el país en que se efectuará la inversión o instalará la sucursal tenga condiciones de riesgo calificadas en primera categoría por una empresa calificadora internacional, o bien, que exista un convenio de colaboración recíproca suscrito entre la SBIF y el supervisor del respectivo paí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rtificación: el artículo 79 de la LGB establece que si la SBIF no dicta una resolución denegatoria dentro del plazo de 90 o 45 días según corresponda, el banco solicitante podrá requerir un certificado que acredite ese hecho y que hará las veces de autoriz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1"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do que la autorizacion para efectuar una inversión en una sociedad en el exterior se otorgará considerando la participación que tendrá la institución finajciera en la propiedad o gestión de dicha sociedad, todos los actos posteriores de la sociedad inversora que disminuyan su porcentaje de participación o de su influencia en ella en su calidad de socio o accionista, requerirán también de la autorización previa de la SBIF</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otra parte, debido a que el giro de estas sociedades debe ajustarse a las funciones propias de un banco y de una sociedad que desarrolla alguna de las actividades propias de una filial bancaria 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0008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 una sociedad de apoyo al giro, las modificaciones a los estatutos, a las actividades o a las inversiones permanentes que mantengan  las sociedades filiales u otras sociedades, deberán contar con la autorización previa de la SBIF</a:t>
            </a:r>
            <a:endParaRPr b="0" lang="en-US" sz="2800" spc="-1" strike="noStrike">
              <a:solidFill>
                <a:srgbClr val="ffffff"/>
              </a:solidFill>
              <a:latin typeface="Tahoma"/>
            </a:endParaRPr>
          </a:p>
          <a:p>
            <a:pPr marL="32580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32580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último, los cambios en la participación de terceros en el capital de sociedades fiscalizadas por la SBIF, deben ser previamente calificadas por la SBIF en relación con el cumplimiento de las exigencias del artículo 36 de la LGB, esto es, aquellos casos en que un socio o accionista pasa a tener una participación igual o superior al 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0:57:34Z</dcterms:created>
  <dc:creator>Hugo Luis Caneo Ormazabal</dc:creator>
  <dc:description/>
  <dc:language>en-US</dc:language>
  <cp:lastModifiedBy>Administrador</cp:lastModifiedBy>
  <dcterms:modified xsi:type="dcterms:W3CDTF">2006-09-26T17:48:09Z</dcterms:modified>
  <cp:revision>9</cp:revision>
  <dc:subject/>
  <dc:title>Sucursales e Inversiones en Bancos y otras Sociedades en el Exterior (Titulo X de la LGB)</dc:title>
</cp:coreProperties>
</file>