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F14FD-9E93-4C9D-93C5-3CCEF237C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88425-05BD-43C2-98FD-6526802C8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43F65-D1DA-4D52-A215-D6D493230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3D82E-E42F-4DF7-BE69-AE25AF557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FB231-5637-43E7-BFD9-375879717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69C76-D79E-47AE-A69A-7887E1960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B0264-2B83-4FD2-BF7C-218F244A6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1CC36-322B-4417-8781-CC8BBF926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2C061-5CBC-4586-A8C6-E2C734D07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059AE-664C-4596-BD42-87D27CF9C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F45F0-DDBD-4A48-A375-64BBB9658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90E1F-3722-460D-B3F7-A423C9F7B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3AC6A-944A-42B3-B36C-7928AB45C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3CBD4-DDD8-46EB-A92A-AAFC5ED95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886F7-A5DB-41FB-9047-AB364D0C9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E2C85-07D1-483D-8A6D-56D14DF1B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50E17-DDDD-4C0B-A0B0-66064677A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19B0A-188D-4606-9ECA-8FAAF3EB7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AF5DA-EF6D-45EE-B4B9-F54FFAD70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7DF8E-A41B-45C5-AF74-50A3AF7FD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E7329-BF49-42BC-BD3E-187BB3740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6B2B-9701-4916-825D-575F7A352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5EE7-B353-4772-B9BB-7860C5505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09CF-B323-495B-B7C2-BFA3ECE98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12E8-9477-435C-802D-79242C4E223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65B6-EB4F-4ADE-9434-E76E78E7383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360"/>
            <a:ext cx="7924680" cy="152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2" name="PlaceHolder 2"/>
          <p:cNvSpPr>
            <a:spLocks noGrp="1"/>
          </p:cNvSpPr>
          <p:nvPr>
            <p:ph type="subTitle"/>
          </p:nvPr>
        </p:nvSpPr>
        <p:spPr>
          <a:xfrm>
            <a:off x="456840" y="-360"/>
            <a:ext cx="8001000" cy="6629400"/>
          </a:xfrm>
          <a:prstGeom prst="rect">
            <a:avLst/>
          </a:prstGeom>
          <a:noFill/>
          <a:ln w="0">
            <a:noFill/>
          </a:ln>
        </p:spPr>
        <p:txBody>
          <a:bodyPr lIns="90000" rIns="90000" tIns="46800" bIns="46800" anchor="t">
            <a:no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3200" spc="-1" strike="noStrike">
                <a:solidFill>
                  <a:srgbClr val="ffffff"/>
                </a:solidFill>
                <a:latin typeface="Arial"/>
              </a:rPr>
              <a:t>Sociedades en el país</a:t>
            </a:r>
            <a:endParaRPr b="0" lang="en-US" sz="32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1" lang="en-US" sz="2400" spc="-1" strike="noStrike">
                <a:solidFill>
                  <a:srgbClr val="ffffff"/>
                </a:solidFill>
                <a:latin typeface="Arial"/>
              </a:rPr>
              <a:t>Filiales bancarias que complementan su giro: (artículos 70 a 73 y art. 23 bis del D.L. 3.500)</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sociedades desarrollan actividades que quedan bajo la supervisión, tanto de la SVS como de la SAFP y de la SBIF. Las inversiones que un banco realice en este tipo de sociedades, quedan comprendidas dentro del límite general de inversiones del inciso segundo del artículo 69 de la LGB, que es una vez su capital pagado y reservas</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filiales bancarias bajo supervision de la SVS tienen los siguientes objetivo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mediación de valores, según normas de la Ley 18.045, esto es, agentes de valores o corredores de bolsa y también, corredores de bolsa de productos regidos por la Ley 19.220</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Constitución de las sociedades filiales:</a:t>
            </a:r>
            <a:endParaRPr b="0" lang="en-US" sz="2400" spc="-1" strike="noStrike">
              <a:solidFill>
                <a:srgbClr val="ffffff"/>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mplir con las proporciones del artículo 66 de la LGB</a:t>
            </a: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r calificado en categoria I o II de gestión y solvencia según el artículo 59 de la LGB. Los calificados en categoría III sólo podrán hacerlo si sus deficiencias de gestión no son insalvables de acuerdo al criterio de la SBIF</a:t>
            </a: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ompañar un estudio de factibilidad económico-financier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BIF tiene un plazo de 90 días para pronunciarse, contado desde la presentación de la solicitud. Si pide antecedentes adicionales se extiende a 120 días</a:t>
            </a:r>
            <a:endParaRPr b="0" lang="en-US" sz="2400" spc="-1" strike="noStrike">
              <a:solidFill>
                <a:srgbClr val="ffffff"/>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rechazo de la solicitud debe hacerse por resolución fundada en que no se han cumplido los requisitos establecidos por la ley</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artículo 73 confiere significado de aprobación tácita a la solicitud para constituir una filial, en caso de silencio de la SBIF a dicha petició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el banco debe estar calificado en primera categoría, de modo que transcurridos 60 días desde la solicitud, esta se entiende aprobada si la SBIF no la rechaza dentro de ese plaz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olicitante pedirá un certificado al respecto que hará la veces de autoriz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ualquier caso, la SBIF debe dar su aprobación a los estatutos de la sociedad filial</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lquier modificación de los estatutos require también aprobación de la SBIF</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todo caso, cuando se trate de una filial no fiscalizada por la SBIF, solo se rquiere que los estatutos y sus modificaciones sean puestos en conocimiento de la SBIF, a menos que las modificaciones consistan en un aumento o disminución de capital de la sociedad filial que signifique alterar la participación del banco en dicha sociedad, caso en el cual debe obtener la autorización previa de la SB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reccion, adiministracion y funionamiento de las sociedades filiales:</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irectore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hay inconveniente en que un director de una filial bancaria lo sea también del banco matriz, de otra filial fiscalizada por la SBIF o de una sociedad de apoyo al giro bancari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general el cargo de director de cualquiera de las entidades es incompatible con el de empleado de ellas, salvo que se trate de un empleado del banco matriz que ejerza el cargo de director de un filial fiscalizada por la SBIF o de una sociedad de apoyo al gi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rente y Personal:</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atriz con sus filiales, o estas entre sí, podrán compartir gerente y personal, siempre que se trate de filiales fiscalizadas por la SBIF</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sociedades sujetas a la fiscalización de la SVS y de la SAFP, deberán tener gerente y personal independiente del banco matriz y de las filiales fiscalizadas por la SBIF</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ocales y Equipamiento:</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atriz, sus sociedades filiales sujetas a la fiscalizacion de la SBIF y las sociedades de apoyo al giro en que participe la matriz, podrán compartir y utilizar los mismos locales y equipami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una sociedad filial fiscalizada por otra superintendnecia se le permite hacer lo mismo de acuerdo con las normas que la rigen, no existe inconveniente en que las entidades fiscalizadas por la SBIF compartan con ella locales y equipamient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tante, cuando se trate de utilizar el mismo local, deberá mantenerse una clara separación material respecto de las dependencias en que opera cada entidad, de manera que no tengan responsabilidad por las operaciones que no sean las propias, ni el público pueda confundirse y entender que la asu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moción de productos o servicios de una entidad distinta:</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ociedad fililal podrá promover sus servicios a través del banco matriz, o de otras filiales o sociedades de apoyo al giro fiscalizadas por la SBIF, o viceversa, pudiendo canalizarse a traves de cualquiera de las entidades la documentación que se genera entre las demás sociedades y sus respectivos client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aso que una sociedad filial fiscalizada por la SVS o por la SAFP estuviere facultada para actuar de igual modo, no existe impedimento para que las entidades fiscalizadas por esta Superintendencia actúen de la misma forma con ellas, siempre 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evaluación y la decisión final de la operación asi como la determinación de sus características y condiciones, se realice siempre en la sociedad que la contrata, no pudiendo ser delegadas tales funcion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anterior, debe dejar a salvo la información del banco matriz sujeta a reserva o secreto bancario, por lo que esta información no se puede compartir con las filiales, a menos que el propio cliente lo haya autoriza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1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6" name="PlaceHolder 2"/>
          <p:cNvSpPr>
            <a:spLocks noGrp="1"/>
          </p:cNvSpPr>
          <p:nvPr>
            <p:ph/>
          </p:nvPr>
        </p:nvSpPr>
        <p:spPr>
          <a:xfrm>
            <a:off x="304560" y="457200"/>
            <a:ext cx="8305560" cy="6019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ociedades de apoyo al giro (artículo 74)</a:t>
            </a:r>
            <a:endParaRPr b="0" lang="en-US" sz="3200" spc="-1" strike="noStrike">
              <a:solidFill>
                <a:srgbClr val="ffffff"/>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sociedades pueden constituirse para:</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tar servicios destinados a facilitar el cumplimienrto de los fines de las entidades financiera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ectuar por su intermedio operaciones de giro bancario, excepto la de captar dinero. En este caso, pueden operar con terceros, sean o no clientes de sus socios o accionista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SBIF otorgará mediante un autorización general, los giros que podrán desarrollar este tipo de socied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609480" indent="-6094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acuerdo a sus funciones, las sociedades de apoyo al giro pueden dividirse entre aquéllas que tienen relación o se encuentran vinculadas al sistema de pagos y aquéllas cuyo giro no se relaciona con dicho sistema</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Servicios vinculados al sistema de pagos:</a:t>
            </a: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ferencia electrónica de fondos</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ción de terminales de caja y puntos de venta</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ción en sociedades de depósitos de valores creada de conformidad con la Ley 18.876</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ios de interacción electrónica que realicen operaciones comerciales y financieras entre empresas</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448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r>
              <a:rPr b="0" lang="en-US" sz="2800" spc="-1" strike="noStrike">
                <a:solidFill>
                  <a:srgbClr val="ffffff"/>
                </a:solidFill>
                <a:latin typeface="Arial"/>
              </a:rPr>
              <a:t>	</a:t>
            </a:r>
            <a:r>
              <a:rPr b="0" lang="en-US" sz="2800" spc="-1" strike="noStrike">
                <a:solidFill>
                  <a:srgbClr val="ffffff"/>
                </a:solidFill>
                <a:latin typeface="Arial"/>
              </a:rPr>
              <a:t>Administradoras de fondos mutuos, de fondos de inversión o de fondos de capital extranjero</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a:solidFill>
                  <a:srgbClr val="ffffff"/>
                </a:solidFill>
                <a:latin typeface="Arial"/>
              </a:rPr>
              <a:t>	</a:t>
            </a:r>
            <a:r>
              <a:rPr b="0" lang="en-US" sz="2800" spc="-1" strike="noStrike">
                <a:solidFill>
                  <a:srgbClr val="ffffff"/>
                </a:solidFill>
                <a:latin typeface="Arial"/>
              </a:rPr>
              <a:t>Securitización de titulos (Título XVIII Ley 18.045)</a:t>
            </a:r>
            <a:endParaRPr b="0" lang="en-US" sz="2800" spc="-1" strike="noStrike">
              <a:solidFill>
                <a:srgbClr val="ffffff"/>
              </a:solidFill>
              <a:latin typeface="Arial"/>
            </a:endParaRPr>
          </a:p>
          <a:p>
            <a:pPr marL="609480" indent="-609480" algn="just">
              <a:lnSpc>
                <a:spcPct val="80000"/>
              </a:lnSpc>
              <a:spcBef>
                <a:spcPts val="700"/>
              </a:spcBef>
              <a:buClr>
                <a:srgbClr val="99ff99"/>
              </a:buClr>
              <a:buSzPct val="8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dores de seguros regidos por el D.F.L. No 251</a:t>
            </a:r>
            <a:endParaRPr b="0" lang="en-US" sz="2800" spc="-1" strike="noStrike">
              <a:solidFill>
                <a:srgbClr val="ffffff"/>
              </a:solidFill>
              <a:latin typeface="Arial"/>
            </a:endParaRPr>
          </a:p>
          <a:p>
            <a:pPr marL="609480" indent="-609480" algn="just">
              <a:lnSpc>
                <a:spcPct val="80000"/>
              </a:lnSpc>
              <a:spcBef>
                <a:spcPts val="700"/>
              </a:spcBef>
              <a:buClr>
                <a:srgbClr val="99ff99"/>
              </a:buClr>
              <a:buSzPct val="8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dades administradoras generales de fondos, (Título XXVII Ley 18.045) </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bien la fiscalización y dictación de normas respecto de estas empresas la ejerce la SVS, la SBIF puede regular las condiciones en que estas filiales bancarias desarrollaran su actividad</a:t>
            </a:r>
            <a:endParaRPr b="0" lang="en-US" sz="2800" spc="-1" strike="noStrike">
              <a:solidFill>
                <a:srgbClr val="ffffff"/>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dministración de tarjetas de crédito de acuerdo con las normas del BCCH y de la SBIF</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Emisión y operación de tarjetas de pago con provisión de fondos</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Proveer medios de acceso a los servicios de tranporte de personas, efectuar la recaudación, administración y custodia de los recursos provenientes de la comercialización y recarga de los medios que se provean para ese fin, distintos de los demás indicados en el Capit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II. J.3 del CNF del BCCH, atender la distribución, entre los proveedores de los servicios de transporte, de los fondos recaudados y la prestación de servicios destinados a facilitar el cumplimiento de esos fine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8. Otros servicios vinculados al sistema de pago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Otros servicio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ferencia electrónica de información</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udación de pagos de servicios, impuestos, contribuciones, cuotas de créditos, cuotas de patentes u otros derechos, imposiciones previsionales, matrículas, cuotas de establecimietos educacionales, etc</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Pagos previsionales y de salud, de dividendos a accionistas, a proveedores de remuneraciones y beneficios al personal de empresas, 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Recopilacion y preevaluación de antecedentes de potenciales clientes de una institución financier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titución y participación en sociedades de apoyo al gir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constituir una sociedad de apoyo al giro, que podrán ser sociedades anónimas o de responsabilidad limitada, los bancos requieren la autozación expresa de la SBIF, la que deberá aprobar los estatutos de dicha sociedad, al igual que cada modificación a los mism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sociedades de apoyo al giro podrán ser constituidas con la participación de una o más instituciones financiera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ualquier caso, excepcionalmente podra autorizarse la participación como socios a entidades que no sean bancos ni filiales de los mismos, si se demuestra a este organismo que ello resultara ventajoso para las instituciones financieras que participa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da vez que se desee incorporar un nuevo socio o accionista, la sociedad debera solicitar autorización a la SBIF</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enajenación total o parcial de la participación del banco también requiere de autorización previa de la SB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bien la letra b) del artículo 70 de la LGB permite la constitución de sociedades filiales cuyo giro consista en la custodia o transporte de valores, o en la cobranza de créditos, ello no es óbice para constituir sociedades de apoyo al giro con esos objetos sociales, al amparo del articulo 74 de la LGB</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imismo, la opción de constituir una filial operadora de tarjetas de crédito no resulta incompatible con la posibilidad de que los bancos constituyan una sociedad de apoyo al giro que realice esa actividad</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ireccion, administracion y funcionamiento:</a:t>
            </a:r>
            <a:r>
              <a:rPr b="0" lang="en-US" sz="2400" spc="-1" strike="noStrike">
                <a:solidFill>
                  <a:srgbClr val="ffffff"/>
                </a:solidFill>
                <a:latin typeface="Arial"/>
              </a:rPr>
              <a:t> las sociedades de apoyo al giro deben cumplir con las mismas normas que en esta materia se aplican a las relaciones con los bancos socios o accionistas, las filiales de éstos y las demás sociedades de apoyo al giro en que sus dueños participe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 embargo no podrén ser directores de una sociedad de apoyo al giro cuyas funciones consistan en la administración y operación de cámaras de compensación de alto valor, los gerentes o empleados de un banco que sea accionista o socia de aquell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tricciones en las inversiones:</a:t>
            </a:r>
            <a:r>
              <a:rPr b="0" lang="en-US" sz="2400" spc="-1" strike="noStrike">
                <a:solidFill>
                  <a:srgbClr val="ffffff"/>
                </a:solidFill>
                <a:latin typeface="Arial"/>
              </a:rPr>
              <a:t> por tratarse de sociedades de giro exclusivo, las empresas de apoyo de bancos no podrán tener ent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s activos acciones o derechos en otras sociedades, salvo que ello sea imprescindible para el desarrollo de su gir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la sociedad deberá contar con la autorización previa de la SBIF y justificar las razones de esta inversió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versiones minoritarias en sociedad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inciso segundo del artículo 72 de la LGB, permite a los bancos tener participación minoritaria en una socieadad que tenga alguno de los objetos indicados en el artículo 70, esto es, aquellos permitidos para las filiales bancaria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11520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4" name="PlaceHolder 2"/>
          <p:cNvSpPr>
            <a:spLocks noGrp="1"/>
          </p:cNvSpPr>
          <p:nvPr>
            <p:ph/>
          </p:nvPr>
        </p:nvSpPr>
        <p:spPr>
          <a:xfrm>
            <a:off x="228240" y="228600"/>
            <a:ext cx="8458200" cy="6400800"/>
          </a:xfrm>
          <a:prstGeom prst="rect">
            <a:avLst/>
          </a:prstGeom>
          <a:noFill/>
          <a:ln w="0">
            <a:noFill/>
          </a:ln>
        </p:spPr>
        <p:txBody>
          <a:bodyPr lIns="90000" rIns="90000" tIns="46800" bIns="46800" anchor="t">
            <a:normAutofit/>
          </a:bodyPr>
          <a:p>
            <a:pPr marL="609480" indent="-6094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articipación minoritaria en una sociedad de este tipo requiere que se cumplan las siguientes condiciones básicas:</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 se trate de una sociedad fiscalizada por la SBIF o por la SVS</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articipación debe tener el carécter de inversión permanente, permitiendo al banco elegir directamente al menos un miembro del directorio o de la administración</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 los demás socios o accionistas que posean un 10% o más de participación en el capital de la sociedad, cumplan las condiciones del artículo 36 de la LGB (en MK2 cambiara la referencia del articulo 36 al artículo 28 donde quedarán radicados lo requisitos de gestión y solven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6" name="PlaceHolder 2"/>
          <p:cNvSpPr>
            <a:spLocks noGrp="1"/>
          </p:cNvSpPr>
          <p:nvPr>
            <p:ph/>
          </p:nvPr>
        </p:nvSpPr>
        <p:spPr>
          <a:xfrm>
            <a:off x="457200" y="304920"/>
            <a:ext cx="8229600" cy="6400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Que el banco obtenga la autorización previa de la SBIF donde deberá explicar los propósitos que el banco persigue con una inversión en una sociedad que no controlará</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Operaciones entre partes relacionadas:</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diciones que deben cumplir las operaciones:</a:t>
            </a:r>
            <a:r>
              <a:rPr b="0" lang="en-US" sz="2400" spc="-1" strike="noStrike">
                <a:solidFill>
                  <a:srgbClr val="ffffff"/>
                </a:solidFill>
                <a:latin typeface="Arial"/>
              </a:rPr>
              <a:t> los actos, contratos, negocios y operaciones entre un banco y sus sociedaes filiales y de apoyo al giro y de éstas entre si y con personas relacionadas al banco, deben observar condiciones de equidad, equivalentes a las que habitualmente prevalecen en el mercado </a:t>
            </a: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operaciones deben quedar claramente identificadas en las empresas participantes, a fin de permitir la obtencion de cualqui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8" name="PlaceHolder 2"/>
          <p:cNvSpPr>
            <a:spLocks noGrp="1"/>
          </p:cNvSpPr>
          <p:nvPr>
            <p:ph/>
          </p:nvPr>
        </p:nvSpPr>
        <p:spPr>
          <a:xfrm>
            <a:off x="457200" y="304920"/>
            <a:ext cx="8153280" cy="574488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ción que la autoridad pueda requerir acerca de operaciones entre ellas y, cuando corresponda, las consolidación de estados financieros de la matriz</a:t>
            </a:r>
            <a:endParaRPr b="0" lang="en-US" sz="24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hibición de adquirir acciones de la matriz o coligante:</a:t>
            </a:r>
            <a:r>
              <a:rPr b="0" lang="en-US" sz="2400" spc="-1" strike="noStrike">
                <a:solidFill>
                  <a:srgbClr val="ffffff"/>
                </a:solidFill>
                <a:latin typeface="Arial"/>
              </a:rPr>
              <a:t> las filiales bancarias, coligadas y las sociedades de apoyo al giro no podrán adquirir acciones de los bancos que sean accionistas o socios de ella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prohibición alcanza también a la recepción en pago o como garantía por el cumplimiento de una obligación de un tercero a favor de la filial, sociedad de apoyo al giro o colig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152280"/>
            <a:ext cx="8305920" cy="5973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filiales bancarias bajo supervision de la SBIF comprenden las siguientes:</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sing financiero para bienes muebles e inmuebles, incluyendo leasing habitacional (Ley 19.281)</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toring</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esoría financiera, que comprende las siguientes actividades: búsqueda de fuentes alternativas de financiamiento; reestructuración de pasivos; negociación para adquirir; vender o fusionar empresas; emisión y colocación de bonos; colocación de fondos en el mercado; evaluación de nuevos negocios; conocimientos de materias bancarias. Esta actividad también puede ser desarrollada directamente por los bancos, conforme al articulo 69 N° 26</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dia, transporte de valores o cobranza de créditos, todo lo cual tambien los bancos pueden realizar directamente sin necesidad de crear una socied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Créditos otorgados a las sociedades en que participe un banco o sus filiales:</a:t>
            </a:r>
            <a:r>
              <a:rPr b="0" lang="en-US" sz="2400" spc="-1" strike="noStrike">
                <a:solidFill>
                  <a:srgbClr val="ffffff"/>
                </a:solidFill>
                <a:latin typeface="Arial"/>
              </a:rPr>
              <a:t> las sociedades constituidas en el país o en el exterior en que la institución financiera o sus filiales tengan participación y cuyas operaciones no se consolidan para efecto de los límites de crédito del artículo 84 de la LGB, conformarán un sólo grupo de personas vincul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r>
              <a:rPr b="0" lang="en-US" sz="2400" spc="-1" strike="noStrike">
                <a:solidFill>
                  <a:srgbClr val="ffffff"/>
                </a:solidFill>
                <a:latin typeface="Arial"/>
              </a:rPr>
              <a:t>	</a:t>
            </a:r>
            <a:r>
              <a:rPr b="0" lang="en-US" sz="2400" spc="-1" strike="noStrike">
                <a:solidFill>
                  <a:srgbClr val="ffffff"/>
                </a:solidFill>
                <a:latin typeface="Arial"/>
              </a:rPr>
              <a:t>Operadoras de tarjetas de credito (Capitulo III.J.1 del CNF del BCCH y normas SBIF)</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tación de servicios financieros que complementen el giro bancario, de acuerdo a la determinación que la SBIF haga por resolución general</a:t>
            </a: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ún el inciso segundo del artículo 70:</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edades inmobiliarias según la Ley 19.281 (soc. De leasing inmobiliario, que a diferencia de las mencionadas en la letra a) podrán construir o adquirir viviendas para futuros arrendamien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Administradoras de fondos de vivienda </a:t>
            </a:r>
            <a:endParaRPr b="0" lang="en-US" sz="2400" spc="-1" strike="noStrike">
              <a:solidFill>
                <a:srgbClr val="ffffff"/>
              </a:solidFill>
              <a:latin typeface="Arial"/>
            </a:endParaRPr>
          </a:p>
          <a:p>
            <a:pPr marL="660240" indent="-660240" algn="just">
              <a:lnSpc>
                <a:spcPct val="90000"/>
              </a:lnSpc>
              <a:spcBef>
                <a:spcPts val="601"/>
              </a:spcBef>
              <a:buClr>
                <a:srgbClr val="99ff99"/>
              </a:buClr>
              <a:buSzPct val="8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edades administradoras de carteras de recursos previsionales, según artículo 23 bis del D.L. 3.500</a:t>
            </a: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t>
            </a:r>
            <a:r>
              <a:rPr b="0" lang="en-US" sz="2400" spc="-1" strike="noStrike">
                <a:solidFill>
                  <a:srgbClr val="ffffff"/>
                </a:solidFill>
                <a:latin typeface="Arial"/>
              </a:rPr>
              <a:t>	</a:t>
            </a:r>
            <a:r>
              <a:rPr b="0" lang="en-US" sz="2400" spc="-1" strike="noStrike">
                <a:solidFill>
                  <a:srgbClr val="ffffff"/>
                </a:solidFill>
                <a:latin typeface="Arial"/>
              </a:rPr>
              <a:t>Servicios financieros, según el giro específico determinado por la SBIF mediante resolución general</a:t>
            </a: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da sociedad filial tendrá como objeto exclusivo el giro que le corresponda de acuerdo a la actividad para la cual se crea, salvo el caso de los intermediadores de valores, que podrán complementar su giro con la asesoría financiera</a:t>
            </a: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sociedades filiales podrán constituirse como sociedades anónimas abiertas o cerradas, o bien como sociedades de responsabilidad limitada, salvo aquellas que por ley deban constituirse como S.A. como por ejemplo las de leasing inmobiliario o las regidas por el D.L. 3.500</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azón social deberá indicar claramente el giro de la empresa y no contener expresiones que puedan inducir a error en cuanto a su obje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Ley 18.046 define como sociedad filial de una sociedad anónima aquella en la que ésta controla directamente o a través de otra persona natural o jurídica, más del 50% del capital con derecho 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to, o simplemente del capital si no es sociedad por acciones, o bien, si puede elegir o designar o hacer elegir o designar a la mayoría de sus directores o administrador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filiales bancarias, constituidas al amparo del artículo 70 de la LGB deben cumplir esas condiciones, pudiendo constituirse una sociedad con ese objeto o bien adquirir tal control en una empresa que esté en funcionamient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todo caso, los socios que participen directa o indirectamente en el capital con un porcentaje igual o superior al 10%, deben cumplir con los requisitos que exige el artículo 36 de la LG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04560" y="380520"/>
            <a:ext cx="8381880" cy="57452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Inversiones de las filiales en otras sociedad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artículo 71 de la LGB prohibe a las filiales bancarias adquirir acciones o tomar participación en otras sociedades, a menos que la SBIF estime que la inversión es imprescindible para el desarrollo del giro y siempre que no exceda el 5% del capital pagado de la sociedad en que invierte</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excepción se ha aplicado a corredores de bolsa o agentes de valores cuando toman posición en acciones, a los corredores para que adquieran una acción de bolsa de valores o a alguna de estas sociedades para que tome participación en otra filial de su banco, siempre que el porcentaje de participación en el capital o en las utilidades no supere el 1%</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04560" y="304920"/>
            <a:ext cx="8381880" cy="6248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Facultad de los bancos para ejercer estos giros directamente:</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BIF tiene la facultad de autorizar que los bancos desarrollen directamente alguno de los giros de sus filiales, siempre que se trate de aquellos que están bajo su supervisión por el objeto que desarrollan (artículo 71 inciso segund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ndo esta autorización se otorga a un banco, debe concederse para todos los demás, por lo que se hace por una autorización gene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4:01:50Z</dcterms:created>
  <dc:creator>Hugo Luis Caneo Ormazabal</dc:creator>
  <dc:description/>
  <dc:language>en-US</dc:language>
  <cp:lastModifiedBy>Administrador</cp:lastModifiedBy>
  <dcterms:modified xsi:type="dcterms:W3CDTF">2007-05-23T17:52:48Z</dcterms:modified>
  <cp:revision>10</cp:revision>
  <dc:subject/>
  <dc:title>  Sociedades en el Pais</dc:title>
</cp:coreProperties>
</file>