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F2629-BD0A-4304-B322-6074519E8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256D1-71A7-4A8D-9ED3-823A0F498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24970-8874-4AE9-A52C-B5AC8DD40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CBBA7-E056-4B0B-9FF6-80C905B4B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DF44E-51EB-4865-8ABF-4FC314958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71246-C0B7-46D6-8C97-3320F9196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F0577-4ED9-4C57-BF7A-A007236C8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E175D-4D06-4E9A-A7AD-9A359AEFF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8D49A-F2D7-4305-8FE5-62BF645D0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7BC05-ACB0-41F2-B3A6-A3A5F0093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C8DE1-19D7-4BBC-9AB2-BDE569268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D7B18-1763-4E03-A586-863AF07D4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E5DA4-B708-4472-BE9A-E795F6183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1859B-664C-44C7-908F-2EBFF067D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CE319-113C-4125-8CEE-3F8A0FCAC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F2058-5079-408F-857F-D4AEBD1CB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9D78D-D21D-424F-AAC6-229A7E8F8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A1649-C97F-467C-A587-8EF29474C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90C40-E057-43E1-AC91-0209FFA1D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A22DE-F24B-4B4C-B067-D5A6A639D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F43DA-DA8B-4E86-AB14-DEC3A28CD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39281-D78D-4150-889E-04F067D39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6165-77A4-4BF8-96B4-A4DFAE059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EAB96-C19D-477F-8C2D-64B594FE6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7D39-6847-4C5E-AF9A-93006A0768E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8F59-E665-4C05-83CC-66115371226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tros controles para las operaciones bancarias</a:t>
            </a:r>
            <a:endParaRPr b="0" lang="en-US" sz="3600" spc="-1" strike="noStrike">
              <a:solidFill>
                <a:srgbClr val="ccecff"/>
              </a:solidFill>
              <a:latin typeface="Arial"/>
            </a:endParaRPr>
          </a:p>
        </p:txBody>
      </p:sp>
      <p:sp>
        <p:nvSpPr>
          <p:cNvPr id="212" name="PlaceHolder 2"/>
          <p:cNvSpPr>
            <a:spLocks noGrp="1"/>
          </p:cNvSpPr>
          <p:nvPr>
            <p:ph type="subTitle"/>
          </p:nvPr>
        </p:nvSpPr>
        <p:spPr>
          <a:xfrm>
            <a:off x="1066320" y="1447920"/>
            <a:ext cx="6705720" cy="5029200"/>
          </a:xfrm>
          <a:prstGeom prst="rect">
            <a:avLst/>
          </a:prstGeom>
          <a:noFill/>
          <a:ln w="0">
            <a:noFill/>
          </a:ln>
        </p:spPr>
        <p:txBody>
          <a:bodyPr lIns="90000" rIns="90000" tIns="46800" bIns="46800" anchor="t">
            <a:noAutofit/>
          </a:bodyPr>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aje: (artículos 63 y 64)</a:t>
            </a:r>
            <a:r>
              <a:rPr b="0" lang="en-US" sz="2000" spc="-1" strike="noStrike">
                <a:solidFill>
                  <a:srgbClr val="ffffff"/>
                </a:solidFill>
                <a:latin typeface="Arial"/>
              </a:rPr>
              <a:t> estos artículos se refieren a la obligación de los bancos de mantener fondos en caja o en depósitos a la vista en el Banco Central de Chile, quien determina el porcentaje que deben mantener como encaje.</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encaje que establecerá el BCCH no puede exceder en promedio de un 40% tratándose de depósitos a la vista y de un 20% si son depósitos a plazo</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mente es de 9% y 3,6%, respectivamente (ver Capítulo III.A.1. del CNF)</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encaje es calculado por periodos mensuales y se calcula sobre la base de los saldos promedios que registren en un periodo mensual los depósitos, captaciones y otras obligaciones que se consideran para el efecto</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inciso segundo del artículo 63 de la LGB, señala que, para los efectos de encaje se considerarán depósitos u obligaciones a la vista aquellos cuyo pago pueda ser legalmente requerido dentro de un plazo inferior a 30 días y los que sólo pueden serlo en un plazo de 30 días o más, se considerarán a plazo. En el proyecto que modifica la LGB (MK2), actualmente en tramitación en el Congreso, este inciso se degogaría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objetivo es dejar como depósitos vista aquéllos que realmente tienen ese carácter y pueden ser exigidos de inmediato y como depósitos a plazo aquellos que tiene un día o más de plazo</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1382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rven para constituir el encaje: 1) los billetes y monedas de curso legal del país, disponibles en caja o depositados a la vista en el BCCH; 2) billetes y monedas extranjeras de general aceptación y los depósitos de estas divisas en el BCCH (la SBIF publica las equivalencias de monedas); 3) títulos o valores emitidos por el BCCH</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aso de deficit en el promedio de encaje que deben mantener los bancos en el periodo correspondiente, la sanción consiste en multa igual al doble del interes corriente para operaciones no reajustables en moneda nacional de menos de 90 días o en moneda extranjera, según corresponda, vigente para el mes en que se cometa la infracción y calculada proporcionalmente a la duración del periodo de encaj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falta de encaje se produce por el cierre bancario y este no supera los 15 días, el Superintendente puede condonar la multa o rebajarla</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rva Técnica (artículo 65):</a:t>
            </a:r>
            <a:r>
              <a:rPr b="0" lang="en-US" sz="2000" spc="-1" strike="noStrike">
                <a:solidFill>
                  <a:srgbClr val="ffffff"/>
                </a:solidFill>
                <a:latin typeface="Arial"/>
              </a:rPr>
              <a:t> este artículo obliga a los bancos a mantener un reserva por sus depósitos a la vista que excedan de 2 ½ veces su capital pagado y reserva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rtículo 63 la ley le otorga el carácter de vista a los depósitos de menos de 30 días, en este artículo, además tienen ese carácter los depósitos a plazo para cuyo vencimiento falten menos de 10 días. Por el contrario, el mismo artículo 65 niega el carácter de depósitos a la vista para estos efectos a los préstamos interbancario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ficción que otorga el carácter de a la vista a depósitos que por su condición natural no la tienen, corresponde al tratamiento  diferente que la LGB ha dado a los depósitos a la vista y a plazo que recibirán o no la protección estatal en caso de liquidación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228240" y="304920"/>
            <a:ext cx="8458200" cy="624816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65 contempla una especie de sobreencaje y una reserva técnica que alcanza el 100% de los depósitos en cuenta corriente, demás depósitos y captaciones a la vista y otras obligaciones a la vista de su giro financiero, pero sólo en cuanto la suma de todos ellos sobrepase dos y media veces el capital pagado y reservas del banco</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banco no tiene en un momento dado depósitos y obligaciones a la vista por el 250% de su capital pagado y reservas, hace el encaje normal por esos depósitos y no debe constituir reserva técnica</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eserva técnica del artículo 65 debe cumplirse de la misma forma que el encaje (caja o depósito en el BCCH) y también manteniendo documentos emitidos por el BCCH o la Tesorería General de la República a plazos no superiores a 90 días (en MK2 se modifica el plazo de los doctos en que los bancos podrán mantener reserva técnica, permitiendolo en aquéllos a más de 90 días)</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o si, esta obligación es independiente de la de encaje que afecta a los mismos depósitos, de manera que cuando éstos quedan sujetos a esta obligación no hacen encaje y, por otro lado, las sumas que sirven para cumplirla no pueden a la vez utilizarse para constituir encaj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obligaciones por las cuales el banco deba constituir reserva técnica se deducirán de las obligaciones a la vista netas afectas a encaje y, en caso que dichas obligaciones fueran inferiores al monto deducible, el remanente podrá ser rebajado de las obligaciones a plazo afectas a encaj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e modo, los bancos deberán determinar diariamente, al cierre de sus operaciones, en primer lugar su posición de rerserva técnica y después su posición de encaj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encaje se lleva por promedio; en cambio, la reserva técnica debe por cumplirse día por dí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eficit debe avisarse a la SBIF al día hábil siguiente de producido y ocasiona una mult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persiste por mas de 15 días, provoca la obligación del directorio de tener que hacer proposiciones de convenio a los acreedores, lo que muestra que es una presunción precisa de insolv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0:07:07Z</dcterms:created>
  <dc:creator>Hugo Luis Caneo Ormazabal</dc:creator>
  <dc:description/>
  <dc:language>en-US</dc:language>
  <cp:lastModifiedBy>Administrador</cp:lastModifiedBy>
  <dcterms:modified xsi:type="dcterms:W3CDTF">2006-09-20T16:50:52Z</dcterms:modified>
  <cp:revision>5</cp:revision>
  <dc:subject/>
  <dc:title>Otros controles para las operaciones bancarias</dc:title>
</cp:coreProperties>
</file>