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67E930-CA7E-4C5F-AA9B-673A0B378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3D6786-151B-48BD-9B3E-95829AFBC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EF2E43-E2A5-47D0-B824-D188E60642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E2BFAE-E3A1-4F2D-A29C-2E348E470C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76E34-E59F-41F2-88EF-FBA702D9C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7EF70-1D1A-4862-A3F5-0F06D6744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D5844-167E-4192-BBB9-3513FE3D7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2C38B-BD43-4C5C-A425-56FAE3D4A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53324-82C8-4A78-927C-66B3D0538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F651E-1128-4043-94D1-8363B6E26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21216-4E8C-40F6-A416-0FA981604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D27D47-0E11-4239-9CA4-EB23BC4862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B7D27-3202-47BE-ACDD-44FDFBE1B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C6408-B87C-4849-B58C-953A470B3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2067E-B5CF-47E2-818D-744880762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B94FA-9CEE-4072-978B-EF9645A65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7AA3A-19FA-4A5A-8236-74C500576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65D647-EAC2-4B25-A146-BE85FA337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C5BB3D-5A34-49D7-A9BB-BA4824BE5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6DE885-8C5F-43D3-BCCE-6479910AF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102621-EED3-4DB3-BD60-9602BF03B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FEE4A8-3929-4141-8FFB-423B59D42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6A6637-95A8-4C13-AE59-4EB35FEDB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D2AF67-8FBC-4D98-BD49-5D926780DB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5F42-566E-4DF1-B385-CFF1573723B9}"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C80B-4102-47F0-BB27-B69D2D488E12}"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edidas para regularizar la situación de los bancos (Título XV de la LGB):</a:t>
            </a:r>
            <a:endParaRPr b="0" lang="en-US" sz="3600" spc="-1" strike="noStrike">
              <a:solidFill>
                <a:srgbClr val="ffffcc"/>
              </a:solidFill>
              <a:latin typeface="Tahoma"/>
            </a:endParaRPr>
          </a:p>
        </p:txBody>
      </p:sp>
      <p:sp>
        <p:nvSpPr>
          <p:cNvPr id="127" name="PlaceHolder 2"/>
          <p:cNvSpPr>
            <a:spLocks noGrp="1"/>
          </p:cNvSpPr>
          <p:nvPr>
            <p:ph type="subTitle"/>
          </p:nvPr>
        </p:nvSpPr>
        <p:spPr>
          <a:xfrm>
            <a:off x="762120" y="1828440"/>
            <a:ext cx="7772400" cy="4724280"/>
          </a:xfrm>
          <a:prstGeom prst="rect">
            <a:avLst/>
          </a:prstGeom>
          <a:noFill/>
          <a:ln w="0">
            <a:noFill/>
          </a:ln>
        </p:spPr>
        <p:txBody>
          <a:bodyPr lIns="90000" rIns="90000" tIns="46800" bIns="46800" anchor="t">
            <a:noAutofit/>
          </a:bodyPr>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medidas que establece la LGB no se aplican necesariamente en un orden secuencial, sino que cada una presenta particularidades determinadas, se basa en presunciones diferentes y produce efectos también distintos</a:t>
            </a:r>
            <a:endParaRPr b="0" lang="en-US" sz="2800" spc="-1" strike="noStrike">
              <a:solidFill>
                <a:srgbClr val="ffffff"/>
              </a:solidFill>
              <a:latin typeface="Tahoma"/>
            </a:endParaRPr>
          </a:p>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y medidas que son obligatorias de aplicar y otras facultativas dependiendo de la gravedad de los problemas que presenta el banco (inestabilidad financiera, iliquidez o insolvencia)</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5"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4. Capitalización de un banco por el sistema financiero (párrafo cuarto):</a:t>
            </a:r>
            <a:r>
              <a:rPr b="0" lang="en-US" sz="2400" spc="-1" strike="noStrike">
                <a:solidFill>
                  <a:srgbClr val="ffffff"/>
                </a:solidFill>
                <a:latin typeface="Tahoma"/>
              </a:rPr>
              <a:t> se trata de rescatar un banco en problemas de estabilidad financiera o insolvencia por el propio sistema financiero</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síntesis, se trata que se otorgue un préstamo al banco en problemas, que queda pospuesto a los demás acreedores, incluso los valista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e préstamo es considerado capital para los efectos de márgenes y este préstamo se pagará sólo una vez que el banco esté debidamente capitalizado, y si no, debe ser utilizado en la capitaliz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7" name="PlaceHolder 2"/>
          <p:cNvSpPr>
            <a:spLocks noGrp="1"/>
          </p:cNvSpPr>
          <p:nvPr>
            <p:ph/>
          </p:nvPr>
        </p:nvSpPr>
        <p:spPr>
          <a:xfrm>
            <a:off x="228600" y="304920"/>
            <a:ext cx="8763120" cy="6400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1" lang="es-MX" sz="2400" spc="-1" strike="noStrike">
                <a:solidFill>
                  <a:srgbClr val="ffffff"/>
                </a:solidFill>
                <a:latin typeface="Tahoma"/>
              </a:rPr>
              <a:t>Otra forma de proceder:</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 posible combinar la medida que consiste en designar administrador provisional a un banco, ya sea con la de llamar a convenio, si así lo ha hecho el Directorio, o bien con la liquidación forzosa (esta última ha sido usada en varias ocasiones y se verá en más detall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somete al banco a administrador provisional, siempre que haya fundamento y se obtenga el acuerdo favorable del BCCH</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n seguida se llama a los accionistas principales y a la administración y se les concede un plazo para que fusionen el banco con otro o lo enajen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9"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 no se cumplen, se declara la liquidación forzosa del banco, también con acuerdo favorable del BCCH y, el liquidador designado, que puede ser el mismo administrador provisional, vende el activo calificado del banco a otro que se hace cargo del pasivo equivalent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os activos y pasivos no enajenados quedan en el banco en liquidación y pueden también cederse a otro banco o ser liquidados conforme a las normas generales de la ley de sociedades anónimas</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cc"/>
                </a:solidFill>
                <a:latin typeface="Tahoma"/>
              </a:rPr>
              <a:t>Reclamación contra las medidas de la Superintendencia de reposición de capital o convenio</a:t>
            </a:r>
            <a:endParaRPr b="0" lang="en-US" sz="2500" spc="-1" strike="noStrike">
              <a:solidFill>
                <a:srgbClr val="ffffcc"/>
              </a:solidFill>
              <a:latin typeface="Tahoma"/>
            </a:endParaRPr>
          </a:p>
        </p:txBody>
      </p:sp>
      <p:sp>
        <p:nvSpPr>
          <p:cNvPr id="151" name="PlaceHolder 2"/>
          <p:cNvSpPr>
            <a:spLocks noGrp="1"/>
          </p:cNvSpPr>
          <p:nvPr>
            <p:ph/>
          </p:nvPr>
        </p:nvSpPr>
        <p:spPr>
          <a:xfrm>
            <a:off x="380880" y="1600200"/>
            <a:ext cx="8305920" cy="5029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y una reclamación administrativa que es propiamente una reconsideración, para los casos de inestabilidad financiera o falta de solvencia que ocasionan la reposición de capital o las proposiciones de convenio (articulo 129)</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cha reconsideración se refiere a la calificación general de los activos del banco que haya practicado la SBIF</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be presentarse en el plazo de 5 días hábiles desde que se haya comunicado la clasificación y la SBIF debe pronunciarse dentro de 15 días desde que se le hayan acompañado todos los antecedente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3"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fontScale="99000"/>
          </a:bodyPr>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o especial del recurso es que la SBIF no puede rechazarlo total o parcialmente sin aprobación del Consejo del BCCH</a:t>
            </a:r>
            <a:endParaRPr b="0" lang="en-US" sz="2400" spc="-1" strike="noStrike">
              <a:solidFill>
                <a:srgbClr val="ffff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entiende que toda otra resolución de la SBIF es susceptible del recurso de reconsideración ante la autoridad que la dictó y que corresponde a ella sola resolverlo</a:t>
            </a:r>
            <a:endParaRPr b="0" lang="en-US" sz="2400" spc="-1" strike="noStrike">
              <a:solidFill>
                <a:srgbClr val="ffff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3200" spc="-1" strike="noStrike">
                <a:solidFill>
                  <a:srgbClr val="ffffff"/>
                </a:solidFill>
                <a:latin typeface="Tahoma"/>
              </a:rPr>
              <a:t>Banco del Estado de Chile</a:t>
            </a:r>
            <a:endParaRPr b="0" lang="en-US" sz="3200" spc="-1" strike="noStrike">
              <a:solidFill>
                <a:srgbClr val="ffffff"/>
              </a:solidFill>
              <a:latin typeface="Tahoma"/>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 creado en el año 1953 por la fusión de la Caja Nacional de Ahorros, la Caja de Crédito Hipotecario, la Caja de Crédito Agrario  y el Instituto de Crédito Industri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5"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 Ley Orgánica (D.L. N° 2.079, de 1978) hace prácticamente aplicables las mismas normas del resto de los banco comerciale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Banco del Estado es una institución autónoma del Estado, de duración indefinida. Está fiscalizada exclusivamente por la SBIF</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n lo no previsto por su ley se rige por la legislación aplicable a las empresas bancarias y demás disposiciones del sector privado y no les son aplicables las normas generales o especiales relativas al sector público, salvo que lo dispongan de modo expres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7"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 capital autorizado puede ser aumentado por Decreto Supremo, previo informe favorable de la SBIF y su balance es al 31 de diciembre, igual que el resto de los banco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Presidente de la República puede destinar, previo informe de la SBIF y del Consejo Directivo del Banco, el todo o parte de las utilidades netas a beneficio fiscal, mediante decreto supremo dictado dentro de los 30 días siguientes a la publicación del balanc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s utilidades que no pasen al Fisco se destinarán a reservas del Ban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9"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iene un Consejo Directivo, el que lo dirige, y un Comité Ejecutivo, que lo administra</a:t>
            </a:r>
            <a:endParaRPr b="0" lang="en-US" sz="2800" spc="-1" strike="noStrike">
              <a:solidFill>
                <a:srgbClr val="ffffff"/>
              </a:solidFill>
              <a:latin typeface="Tahoma"/>
            </a:endParaRPr>
          </a:p>
          <a:p>
            <a:pPr marL="329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onsejo esta integrado por 7 miembros, seis de ellos nombrados por el Presidente de la República (entre lo cuales nombra un presidente y un vice-presidente) y otro es un representante de los trabajadores titular y uno suplente</a:t>
            </a:r>
            <a:endParaRPr b="0" lang="en-US" sz="2800" spc="-1" strike="noStrike">
              <a:solidFill>
                <a:srgbClr val="ffffff"/>
              </a:solidFill>
              <a:latin typeface="Tahoma"/>
            </a:endParaRPr>
          </a:p>
          <a:p>
            <a:pPr marL="329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onsejo funciona con la mayoría de los miembros en ejercicio y los acuerdos se adoptan con la mayoría absoluta de los asistentes, salvo que la ley exija quórum especial. En caso de empate, decide el presid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1"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s funciones del Consejo Directivo son de administración general, sin embargo entre sus funciones debe aprobar el balance y la memoria anual, lo que en los bancos comerciales y sociedades  anónimas en general corresponde a la Junta de Accionista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Comité Ejecutivo tiene plenas facultades de administración</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a formado por el presidente, el vice-presidente y el gerente general ejecutiv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aplican a los directores y miembros del Comité las mismas incompatibilidades que a los directores de ban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3"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ero no rige la incompatibilidad de cargos de la designación del Presidente de la República. Además el Presidente puede eximir a una persona de todas o algunas de estas incompatibilidade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quórum para funcionar y tomar acuerdos es el mismo que el del Consej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s operaciones, colocaciones, captaciones e inversiones que realiza el Banco del Estado son las mismas permitidas a los bancos comerciale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le aplican también las mismas obligaciones, limitaciones y prohibiciones que rigen a los bancos comerci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29"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relación a esta materia, cabe hacer presente que la LGB no contempla la quiebra de los bancos (sólo la liquidación forzosa), con un procedimiento judicial como el que se aplica al resto de las sociedades comerciales cuando han cesado en el pago de sus obligacione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emás, el sistema que establece la legislación bancaria, se funda en que hay un tratamiento diferente para los acreedores a la vista, por un lado, y los a plazo, por otro, tal como se desprende de lo dispuesto en el artículo 65 (reserva técnica)</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depositantes a la vista van a recibir su pago cuando haya proposiciones de convenio o se declare la liquidación forzos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5"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y una prohibición especial para que el banco adquiera acciones. Puede adjudicárselas en pago de deudas o recibirlas en pago, pero debe enajenarlas dentro de un plazo de un año contado desde su adquisición, plazo prorrogable por otro añ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ce excepción a esto la inversión en bancos extranjeros o entidades internacionales, que puede hacer con autorización del BCCH</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3200" spc="-1" strike="noStrike">
                <a:solidFill>
                  <a:srgbClr val="ffffff"/>
                </a:solidFill>
                <a:latin typeface="Tahoma"/>
              </a:rPr>
              <a:t>Banco Central de Chile</a:t>
            </a:r>
            <a:endParaRPr b="0" lang="en-US" sz="32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una institución autónoma (artículo 98 de la CPR) de duración indefinida</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0008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7"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 Ley Orgánica esta contenida en el artículo 1 de la Ley 18.840</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 rige por dicha ley y no se considera integrante de la Administración del Estado (está expresamente excluido de la Ley de Bases de la Administración del Estado) ni le son aplicables las normas generales o especiales que se dicten para el sector públic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 embargo, se le aplican en subsidio de su Ley Orgánica, las normas del sector privad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administración corresponde a un Consejo, compuesto de cinco miembros designados por el Presidente de la República con acuerdo del Sen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9" name="PlaceHolder 2"/>
          <p:cNvSpPr>
            <a:spLocks noGrp="1"/>
          </p:cNvSpPr>
          <p:nvPr>
            <p:ph/>
          </p:nvPr>
        </p:nvSpPr>
        <p:spPr>
          <a:xfrm>
            <a:off x="304560" y="304560"/>
            <a:ext cx="8381880" cy="6553080"/>
          </a:xfrm>
          <a:prstGeom prst="rect">
            <a:avLst/>
          </a:prstGeom>
          <a:noFill/>
          <a:ln w="0">
            <a:noFill/>
          </a:ln>
        </p:spPr>
        <p:txBody>
          <a:bodyPr lIns="90000" rIns="90000" tIns="46800" bIns="46800" anchor="t">
            <a:normAutofit fontScale="99000"/>
          </a:bodyPr>
          <a:p>
            <a:pPr marL="603360" indent="-60336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entre ellos, el Presidente de la República nombra al que desempeñará el cargo de Presidente del Banco</a:t>
            </a:r>
            <a:endParaRPr b="0" lang="en-US" sz="2400" spc="-1" strike="noStrike">
              <a:solidFill>
                <a:srgbClr val="ffffff"/>
              </a:solidFill>
              <a:latin typeface="Tahoma"/>
            </a:endParaRPr>
          </a:p>
          <a:p>
            <a:pPr marL="60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consejeros duran 10 años en sus funciones y el presidente, cinco</a:t>
            </a:r>
            <a:endParaRPr b="0" lang="en-US" sz="2400" spc="-1" strike="noStrike">
              <a:solidFill>
                <a:srgbClr val="ffffff"/>
              </a:solidFill>
              <a:latin typeface="Tahoma"/>
            </a:endParaRPr>
          </a:p>
          <a:p>
            <a:pPr marL="60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BCCH tiene atribuciones normativas de gran importancia para el funcionamiento del sistema bancario y financiero:</a:t>
            </a:r>
            <a:endParaRPr b="0" lang="en-US" sz="2400" spc="-1" strike="noStrike">
              <a:solidFill>
                <a:srgbClr val="ffffff"/>
              </a:solidFill>
              <a:latin typeface="Tahoma"/>
            </a:endParaRPr>
          </a:p>
          <a:p>
            <a:pPr marL="60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s sobre captación de fondos por los bancos y cooperativas de ahorro y crédito</a:t>
            </a:r>
            <a:endParaRPr b="0" lang="en-US" sz="2400" spc="-1" strike="noStrike">
              <a:solidFill>
                <a:srgbClr val="ffffff"/>
              </a:solidFill>
              <a:latin typeface="Tahoma"/>
            </a:endParaRPr>
          </a:p>
          <a:p>
            <a:pPr marL="603360" indent="-60336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jar las tasas de encaje</a:t>
            </a:r>
            <a:endParaRPr b="0" lang="en-US" sz="2400" spc="-1" strike="noStrike">
              <a:solidFill>
                <a:srgbClr val="ffffff"/>
              </a:solidFill>
              <a:latin typeface="Tahoma"/>
            </a:endParaRPr>
          </a:p>
          <a:p>
            <a:pPr marL="603360" indent="-60336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s y limitaciones para avales y fianzas en moneda extranje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1" name="PlaceHolder 2"/>
          <p:cNvSpPr>
            <a:spLocks noGrp="1"/>
          </p:cNvSpPr>
          <p:nvPr>
            <p:ph/>
          </p:nvPr>
        </p:nvSpPr>
        <p:spPr>
          <a:xfrm>
            <a:off x="304560" y="228600"/>
            <a:ext cx="8381880" cy="589752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 Relaciones entre operaciones activas y pasivas de las instituciones financiera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 Fijar intereses máximos para los depósitos a la vista y autorizar para pagarlos en cuentas corriente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 Dictar normas para emisión de tarjetas de crédito y sistemas similares, cuando los emisores queden bajo supervisión de la SBIF (tarjetas bancarias y no bancaria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 Reglamentar la cámara de compensación de cheques y otros valore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os acuerdos, salvo los que regulan el encaje, requieren de un informe previo de la SBIF, para lo cual el Consejo puede fijar un plazo no inferior a 3 días hábiles bancar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1"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mbio, los depositantes a plazo deberán someterse al convenio o participar en la liquidación forzosa en un pago diferido a medida que existan fondos disponibles</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depositantes a la vista recibirán su pago de inmediato (ver lo que la ley actualmente entiende por depositantes a la vista y recordar que esto cambiará), en caso de proposiciones de convenio  o liquidación forzosa, con cargo a los fondos disponibles en caja o en el BCCH, formen o no parte de la reserva técnica, y, si falta dinero, tendrá que proporcionarlo el BCCH a la mayor brevedad, quedando dicho banco subrogado en los derechos de los acreedores a la vista y con una preferencia absoluta sobre todo otro acreedor (ver artículos 123 y 13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3"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de proposiciones de convenio o liquidación forzosa, los inversionistas, tenedores de letras de crédito recibirán un tratamiento especial contemplado en la LGB (artículos 125 y 126)</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stos casos se da la posibilidad de transferir la cartera de créditos hipotecarios con letras a otra institución financiera quien asume las obligaciones que las letras de crédito representan</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que se esté haciendo una proposición de convenio, el precio mínimo a pagar para efectuar la tranferencia de esta cartera será la parte que se ofrece pagar a los acreedores a plaz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5"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el banco ha sido declarado en liquidación forzosa, el precio mínimo será el 90% del valor par de la letras. Si no hay postores podrá rebajarse aún más el preci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y también un tratamiento especial para los pequeños acreedores a plazo, mediante una garantía del Estado que se paga también en los dos eventos ya señalados: proposiciones de convenio o liquidación forzosa</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 garantía se paga solamente a las personas naturales y, asciende a un 90% de cada acreencia con un tope de 120 unidades de fomento en todo el sistema financiero en un año calendario determin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698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7"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 garantía no cubre los documentos al portador por la falta de control dada la limitación de la garantía ni las acreencias a la vista porque estas están cubiertas en un 100%</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Medidas del Título XV:</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1" lang="en-US" sz="2400" spc="-1" strike="noStrike">
                <a:solidFill>
                  <a:srgbClr val="ffffff"/>
                </a:solidFill>
                <a:latin typeface="Tahoma"/>
              </a:rPr>
              <a:t>Reposición de capital (párrafo primero, artículos 118 y 119):</a:t>
            </a:r>
            <a:r>
              <a:rPr b="0" lang="en-US" sz="2400" spc="-1" strike="noStrike">
                <a:solidFill>
                  <a:srgbClr val="ffffff"/>
                </a:solidFill>
                <a:latin typeface="Tahoma"/>
              </a:rPr>
              <a:t> esta medida se aplica a una empresa que, no obstante mantener un capital básico o patrimonio efectivo superior al mínimo legal, ha experimentado pérdidas que han reducido su proporción de activos a patrimonio a menos de lo exigido en el artículo 66 de la LG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9"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ste caso, el directorio debe convocar a junta de accionistas para que acuerden un aumento de capital que restablezca las proporciones del artículo 66</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el aumento de capital no se concreta por cualquier razón, el banco queda congelado en sus operaciones y los fondos que recoga del público debe invertirlos en documentos del BCCH</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Proposiciones de convenio (párrafo segundo):</a:t>
            </a:r>
            <a:r>
              <a:rPr b="0" lang="en-US" sz="2400" spc="-1" strike="noStrike">
                <a:solidFill>
                  <a:srgbClr val="ffffff"/>
                </a:solidFill>
                <a:latin typeface="Tahoma"/>
              </a:rPr>
              <a:t> el artículo 122 establece tres presunciones de real insolvencia de un banco, que obligan al directorio a efectuar proposiciones de convenio a sus acreedores que no son a la vista. El déficit de reserva técnica por más de 15 días es también presunción de insolvencia que conlleva esta misma medida (artículo 6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1"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proposiciones de convenio que indica la LGB tiene las mismas alternativas que señala la Ley de Quiebras para este evento (remisión parcial, capitalización, ampliación de plazos, etc), pero su tramitación es más simpl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 hace una votación en el mismo banco por un periodo de 15 días y el convenio debe aprobarse por la mayoría absoluta del total del pasivo con derecho a vot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el convenio es rechazado debe proponerse un convenio tipo que establece la propia le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3"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1" lang="en-US" sz="2400" spc="-1" strike="noStrike">
                <a:solidFill>
                  <a:srgbClr val="ffffff"/>
                </a:solidFill>
                <a:latin typeface="Tahoma"/>
              </a:rPr>
              <a:t>Liquidación forzosa (párrafos tercero y quinto):</a:t>
            </a:r>
            <a:r>
              <a:rPr b="0" lang="en-US" sz="2400" spc="-1" strike="noStrike">
                <a:solidFill>
                  <a:srgbClr val="ffffff"/>
                </a:solidFill>
                <a:latin typeface="Tahoma"/>
              </a:rPr>
              <a:t> la liquidación forzosa la declara el Superintendente de Bancos por resolución fundada y con acuerdo favorable del Consejo del BCCH y debe, además, contener la revocación de la autorización de existencia del banco</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l párrafo tercero se detallan las facultades, deberes y funciones del liquidador, que puede ser el Superintendente o un delegado</a:t>
            </a:r>
            <a:endParaRPr b="0" lang="en-US" sz="2400" spc="-1" strike="noStrike">
              <a:solidFill>
                <a:srgbClr val="ffff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párrafo quinto establece presunciones de delito cuando un banco ha lllegado a ser declarado en liquidación forzosa (concepto similar a la calificación de la quieb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3:00:36Z</dcterms:created>
  <dc:creator>Hugo Luis Caneo Ormazabal</dc:creator>
  <dc:description/>
  <dc:language>en-US</dc:language>
  <cp:lastModifiedBy>Administrador</cp:lastModifiedBy>
  <dcterms:modified xsi:type="dcterms:W3CDTF">2006-09-28T20:01:42Z</dcterms:modified>
  <cp:revision>7</cp:revision>
  <dc:subject/>
  <dc:title>Medidas para regularizar la situacion de los bancos (Titulo XV de la LGB):</dc:title>
</cp:coreProperties>
</file>