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E218C-1681-430E-AC01-C7361C49C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11B54-44BA-448A-A355-651A841FF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706EC-CDB3-4000-B8A0-AF6E42F5E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04B48-D68E-4754-A076-FE7EB77D6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B0CCB-0A19-4C3D-8D6F-1B47B7FE0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A182E-CB49-46BA-8B07-84C1F7945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4CD1E-CE96-45F8-89A6-813DC7BA1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D0DEB-355D-4FE9-8FDE-73D076452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42276-339E-4A4B-8D4B-BAF22C8A7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2684F-BF26-4346-A781-DBAA6BBA3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1E70F-F19B-48B7-9029-9C4746AA4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CC1A8-8499-4D68-B2E6-EDE6E3159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77C59-7BEC-4BCA-9F4F-0A55D0252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A5F67-9EEB-4E01-9D93-3CCF8C6CF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A991B-5975-45B2-954F-BCF59FC54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908E1-C251-4056-A448-159278104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53A5E-B9F3-4026-81C2-8A4A7B2CC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A95E5-6F9B-45D9-A473-CEEB8F42E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9D52C-9593-4CED-8FD8-E9B2E25A0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E4C7B-DAC5-4D5B-A3DF-D070BDB79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5E0FE-6FB8-4DE7-A1E7-F31F29A5D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8801E-1099-416C-8E5D-1407E9281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1905-D90B-4802-8ECA-D34E21C33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F4F53-BC8E-42EE-A903-E03D5DEE6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E5D2-39FF-415B-9F12-8D3827262D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874A-3E54-4ABA-B420-25115F2444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Limitaciones y Prohibiciones que afectan a los Bancos</a:t>
            </a:r>
            <a:endParaRPr b="0" lang="en-US" sz="3200" spc="-1" strike="noStrike">
              <a:solidFill>
                <a:srgbClr val="ccecff"/>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ciones de crédito (artículos 84 Nos 1, 2 y 4 y art. 85)</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rédito a una misma persona (art 84 N° 1):</a:t>
            </a:r>
            <a:r>
              <a:rPr b="0" lang="en-US" sz="2000" spc="-1" strike="noStrike">
                <a:solidFill>
                  <a:srgbClr val="ffffff"/>
                </a:solidFill>
                <a:latin typeface="Arial"/>
              </a:rPr>
              <a:t> la ley establece una limitación para los créditos que se concedan directa o indirectamente a una misma persona, lo que tiene directa relación con los riesgos de concentración de la cartera de creditos</a:t>
            </a:r>
            <a:endParaRPr b="0" lang="en-US" sz="2000" spc="-1" strike="noStrike">
              <a:solidFill>
                <a:srgbClr val="ffffff"/>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xiste una diferencia en la aplicación de los márgenes individuales de crédito, según si el crédito es otorgado a cualquiera persona natural o jurídica o si éste se concede a una persona vinculada al banco por propiedad o gest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118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a un socio que tiene el 50% del capital de una sociedad se le otorga un crédito por el 5% del patrimonio efectivo del banco, sin garantía, tiene copado ese límite individual y, por lo tanto, a la sociedad no se le podrá conceder ningún crédito sin garantí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o sí dispondrá de su límite de un 20% adicional con garantía y de los márgenes adicionales en moneda extranjera para expotacione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la improcedencia de otorgar un crédito acogido al 5% sin garantía se origina por el computo de las obligaciones del socio y no de las obligaciones de la sociedad, ya que a ésta no se le computan las obligaciones del prime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ocio A tiene el 30% de la sociedad B y el 20% de la sociedad 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B tiene 20% de 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primer término, a A se le suma el 30% de las obligaciones de B y el 20% de la sociedad C, esto es lo que es propio de él</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 sociedad B se le suma el 20% de la sociedad C, pero este computo en la parte que B tiene en C no afecta a 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límite de endeudamiento individual es del 5% del patrimonio efectivo del banco, vigente al momento de otorgar el crédit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límite se eleva al 25%, si lo que excede de 5% corresponde a créditos caucionados por garantías sobre bienes corporales, muebles o inmuebles de un valor igual o superior a dicho exces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3"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garantías personales (avales y fianzas), así como las constituidas sobre letras de cambio, pagarés, acciones y, en general, todas aquellas que no afecten bienes corporales, no se considerarán para los efectos de elevar el límite de crédito individual, con excepción de aquellos documentos que a continuación se indican y que reúnan las siguientes característica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endas sobre documentos representativos de créditos correspondientes al precio de mercaderías exportadas:</a:t>
            </a:r>
            <a:r>
              <a:rPr b="0" lang="en-US" sz="2000" spc="-1" strike="noStrike">
                <a:solidFill>
                  <a:srgbClr val="ffffff"/>
                </a:solidFill>
                <a:latin typeface="Arial"/>
              </a:rPr>
              <a:t> deben ser documentos que representen el precio pagadero a plazo de mercaderías que se exporten, y hayan sido emitidos o aceptados por un banco o institución financiera nacional o extranjera y, en todo caso, representen para ellos una obligación incondicional de pag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ocumentos emitidos por el Banco Central de Chile o por el Estado y sus organism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3640" y="-55440"/>
            <a:ext cx="83739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5" name="PlaceHolder 2"/>
          <p:cNvSpPr>
            <a:spLocks noGrp="1"/>
          </p:cNvSpPr>
          <p:nvPr>
            <p:ph/>
          </p:nvPr>
        </p:nvSpPr>
        <p:spPr>
          <a:xfrm>
            <a:off x="324000" y="259920"/>
            <a:ext cx="8300880" cy="582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2000" spc="-1" strike="noStrike" u="sng">
                <a:solidFill>
                  <a:srgbClr val="ffffff"/>
                </a:solidFill>
                <a:uFillTx/>
                <a:latin typeface="Arial"/>
              </a:rPr>
              <a:t>Instrumentos de oferta pública:</a:t>
            </a:r>
            <a:r>
              <a:rPr b="0" lang="en-US" sz="2000" spc="-1" strike="noStrike">
                <a:solidFill>
                  <a:srgbClr val="ffffff"/>
                </a:solidFill>
                <a:latin typeface="Arial"/>
              </a:rPr>
              <a:t> deben ser documentos emitidos en serie que, a la fecha de otorgamiento del crédito que caucionan, se encuentren clasificados en una de las dos categorías de más bajo riesgo por dos sociedades clasificadoras. Aquí sí pueden incluirse los documentos emitidos por empresas del Est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t>
            </a:r>
            <a:r>
              <a:rPr b="0" lang="en-US" sz="2000" spc="-1" strike="noStrike" u="sng">
                <a:solidFill>
                  <a:srgbClr val="ffffff"/>
                </a:solidFill>
                <a:uFillTx/>
                <a:latin typeface="Arial"/>
              </a:rPr>
              <a:t>Documentos de embarque:</a:t>
            </a:r>
            <a:r>
              <a:rPr b="0" lang="en-US" sz="2000" spc="-1" strike="noStrike">
                <a:solidFill>
                  <a:srgbClr val="ffffff"/>
                </a:solidFill>
                <a:latin typeface="Arial"/>
              </a:rPr>
              <a:t> que se trate de documentos representativos de mercaderías embarcadas hacia Chile, siempre que el banco esté autorizado para disponer libremente de la mercadería importad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0" lang="en-US" sz="2000" spc="-1" strike="noStrike" u="sng">
                <a:solidFill>
                  <a:srgbClr val="ffffff"/>
                </a:solidFill>
                <a:uFillTx/>
                <a:latin typeface="Arial"/>
              </a:rPr>
              <a:t>Cartas de crédito emitidas por bancos del exterior:</a:t>
            </a:r>
            <a:r>
              <a:rPr b="0" lang="en-US" sz="2000" spc="-1" strike="noStrike">
                <a:solidFill>
                  <a:srgbClr val="ffffff"/>
                </a:solidFill>
                <a:latin typeface="Arial"/>
              </a:rPr>
              <a:t> se trata de cartas de crédito irrevocables, pagaderas a su sóla presentación, emitidas por bancos del exterior clasificados dentro de las dos más altas categorías por una empresa calificadora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7" name="PlaceHolder 2"/>
          <p:cNvSpPr>
            <a:spLocks noGrp="1"/>
          </p:cNvSpPr>
          <p:nvPr>
            <p:ph/>
          </p:nvPr>
        </p:nvSpPr>
        <p:spPr>
          <a:xfrm>
            <a:off x="324000" y="259920"/>
            <a:ext cx="8300880" cy="58230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lgunas precisiones sobre las cauciones constituidas sobre bienes corpora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endas sobre cosechas futuras:</a:t>
            </a:r>
            <a:r>
              <a:rPr b="0" lang="en-US" sz="2000" spc="-1" strike="noStrike">
                <a:solidFill>
                  <a:srgbClr val="ffffff"/>
                </a:solidFill>
                <a:latin typeface="Arial"/>
              </a:rPr>
              <a:t> éstas podrán usarse para aumentar el margen individual de crédito, siempre que se encuentren en gestación o pendientes, esto es, que la prenda se constituya dentro del año agrícola en que se va a cosechar el fruto o producto de que se tra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ienes que garantizan el pago de títulos de crédito constituidos en prenda:</a:t>
            </a:r>
            <a:r>
              <a:rPr b="0" lang="en-US" sz="2000" spc="-1" strike="noStrike">
                <a:solidFill>
                  <a:srgbClr val="ffffff"/>
                </a:solidFill>
                <a:latin typeface="Arial"/>
              </a:rPr>
              <a:t> las cauciones sobre bienes corporales deben permitir al banco ejercer directamente las acciones para pagarse de todo o parte de su crédito con cargo a ellas en caso de incumplimiento, debiendo estar, en consecuencia, legalmente constituida, sea como garantía específica para determinados créditos o general para las obligaciones asumidas con el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el bien entregado en garantía sea un título de crédito cuyo pago se encuentre amparado por bienes corporales, no deben considerarse estos últimos como garantía indirecta para efecto de ampliar el margen de crédito, puesto que el objeto prendado es el título en que consta la obligación de un tercero con respecto al titular y los bienes corporales garantizan esa obligación, pero no el crédito que la institución financiera otorga al titula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límite del 5% también se eleva si se trata de cierto tipo de créditos a los cuales la propia ley le otorga un límite may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demás, al otorgarse un crédito, debe considerarse si el deudor se encuentra en alguna de las situaciones previstas en el artículo 85 de la LGB, para los efectos del cómputo del límite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se mencionó más arriba existen límites individuales superiores al 5% expresamente contemplados en la ley, estos casos son:</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Créditos para exportación:</a:t>
            </a:r>
            <a:r>
              <a:rPr b="0" lang="es-MX" sz="2000" spc="-1" strike="noStrike">
                <a:solidFill>
                  <a:srgbClr val="ffffff"/>
                </a:solidFill>
                <a:latin typeface="Arial"/>
              </a:rPr>
              <a:t> el límite individual del 5% se eleva al 10% si el exceso corresponde a créditos concedidos en moneda extranjera para exportaciones y al 30% cuando se otorgan con garantía</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Créditos para financiar obras públicas ejecutadas por concesión: </a:t>
            </a:r>
            <a:r>
              <a:rPr b="0" lang="es-MX" sz="2000" spc="-1" strike="noStrike">
                <a:solidFill>
                  <a:srgbClr val="ffffff"/>
                </a:solidFill>
                <a:latin typeface="Arial"/>
              </a:rPr>
              <a:t>el límite puede alcanzar el 15% del patrimonio efectivo del banco y se aplica a créditos destinados a financiar obras públicas fiscales ejecutadas a través del sistema de concesión del D.F.L. N° 164, de 1991, del Ministerio de Obras Pública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15% se alcanza siempre que el exceso sobre el 5% esté garantizado con prenda especial de concesión de obra pública (artículo 42 del mencionado D.F.L.), o bien, que sean otorgados conjuntamente por dos o más instituciones financieras, debiendo cumplir, en este caso, las siguientes condicione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3"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l proyecto deben estar bien clasificadas de acuerdo a escalas de clasificadoras de riesg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berán comprometerse a constituir en garantía de su obligación ante el banco, los ingresos mínimos que se generarán en la fase de explotación del proyecto que estén garantizados por el Estado o por un seguro privad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berán comprobar mediante un certificado del MOP o de una firma de auditores externos registrada para auditar bancos, que tienen un capital no inferior al que se exige para las empresas registradas en el MOP en la más alta categorí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Créditos a otra institución financiera regida por la LGB:</a:t>
            </a:r>
            <a:r>
              <a:rPr b="0" lang="es-ES" sz="2000" spc="-1" strike="noStrike">
                <a:solidFill>
                  <a:srgbClr val="ffffff"/>
                </a:solidFill>
                <a:latin typeface="Arial"/>
              </a:rPr>
              <a:t> estos créditos pueden alcanzar el 30% del patrimonio efectivo de la institución acreedora, sea que se otorguen con o sin garant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0560" y="-316800"/>
            <a:ext cx="830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5"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margen legal especial es aplicable sólo en el caso de que el deudor sea un banco o una sucursal de un banco extranjero establecido en Chile, pero no se aplica a los bancos establecidos en el exterior, aunque la entidad financiera tenga sucursales en el país o cuando se trate de una sucursal o filial de un banco chileno en el extranjer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límite del 30% está referido a todos los créditos, directos o indirectos , como por ejemplo, préstamos otorgados, compras con pacto de retroventa de instrumentos financieros, compras con responsabilidad de valores mobiliarios o efectos de comercio, adquisición de títulos de crédito aceptados o suscritos por el banco deudor, et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límites especiales antes mencionados son sin perjuicio de las mayores limitaciones que puedan derivarse de la aplicación de los márgenes de créditos a personas relacionadas directa o indirectamente a la propiedad o gestión del banco y a trabajadores de la empresa (arts. 84 Nos 2 y 4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7"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éditos otorgados por las sucursales y filiales de la institución financiera o que se concedan a esas entidades:</a:t>
            </a:r>
            <a:r>
              <a:rPr b="0" lang="en-US" sz="2400" spc="-1" strike="noStrike">
                <a:solidFill>
                  <a:srgbClr val="ffffff"/>
                </a:solidFill>
                <a:latin typeface="Arial"/>
              </a:rPr>
              <a:t> el límite de crédito del artículo 84 N° 1, debe cumplirse considerando las operaciones consolidadas del banco con sus filiales en el país, con excepción de las sociedades de apoyo al giro constituidas al amparo del articulo 74 de la LGB, y con sus filiales y sucursales establecidas en el exterior en paises clasificados en primera categoría de riesgo por alguna empresa clasificadora internacional</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inversiones en valores mobiliarios de renta fija están afectas a los límites de los artículos 84 y 85 de la LGB y se aplican a las personas naturales y jurídicas emisoras de los documentos representativos de la inversión de que se trate y a los cedentes o endosantes cuando los documentos sean tranferidos con responsabilid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776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3"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alabra crédito que utiliza la LGB para limitar los que se otorguen a una misma persona, debe entenderse en un sentido tanto legal como natural y constituye el derecho de un acreedor respecto de su deudor, o la contrapartida de una obligación de dinero que alguien tiene con un banc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los créditos no se refieren sólo al otorgamiento de préstamos, sino que abarcan todas las operaciones en que el banco adquiere tal derecho, como cuando un banco adquiere valores mobiliarios o efectos de comercio, cuando vende un activo fijo con saldo de precio, cuando un cliente asume un crédito de otro cli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tablecer el total de las obligaciones que una persona natural o jurídica mantiene a favor de un banco, sujeto a los márgenes de endeudamiento individual del artículo 84, se deben considerar todas sus deudas directas, indirectas y complementarias, originadas estas últimas en la aplicación del artículo 85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dan excluídos de los márgenes individuales de crédito del artículo 84, con respecto a los emisores, las inversiones en los siguientes instrument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os de la deuda interna o documentos en serie que representen obligaciones del Estado o de sus instituciones con exclusión de las empresas estatal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os u obligaciones de renta de Estados, Banco Centrales e instituciones internacionales a las que se encuentre adherido el Estado de Chil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tas de fondos mutu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274320"/>
            <a:ext cx="8291520" cy="777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umplimiento de los límites de crédito</a:t>
            </a:r>
            <a:endParaRPr b="0" lang="en-US" sz="32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trol de los márgenes disponibles para operar dentro de los límite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disposiciones del artículo 84 N° 1 de la LGB establecen una relación porcentual entre los créditos otorgados y el patrimonio efectivo del banco que los concede</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l caso del límite con garantía, la ley también exige un valor mínimo para las garantías, equivalente al de los créditos acogidos a ese mayor marge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or lo tanto, cualquier aumento de los créditos o disminuciones de las garantías o del patrimonio efectivo, inciden en dichas relaciones y requieren de un control permanente por parte del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control es tanto para establecer si dispone de los márgenes para otorgar nuevos créditos a un deudor y para verificar si es posible liberar alguna garantía sin infringir los límites permitidos por la ley</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ara efectuar este control debe verificarse el valor actualizado, tanto de los créditos de un mismo deudor, como de las garantías que los amparan y del patrimonio efectivo, en las siguientes oportunidades:</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desee otorgar un nuevo crédito, directo o indirecto, al mismo deudor, o novar uno existente, con objeto de establecer si cuenta con margen disponible;</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modifiquen las condiciones de un crédito en moneda extranjera para exportaciones acogido a mayor margen</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desee liberar una garantía, excepto que la liberación tenga por objeto la venta del bien gravado para destinar el producto al pago del crédito o se haga una dación en ago con el mismo obje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5"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Sanciones:</a:t>
            </a:r>
            <a:r>
              <a:rPr b="0" lang="es-MX" sz="2000" spc="-1" strike="noStrike">
                <a:solidFill>
                  <a:srgbClr val="ffffff"/>
                </a:solidFill>
                <a:latin typeface="Arial"/>
              </a:rPr>
              <a:t> la institución financiera que infrinja los límites individuales de crédito de que trata este Capítulo, incurrirá en una multa equivalente al 10% del monto en el cual los créditos otorgados exceden el límite permit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demás, el banco que sea multado en conformidad al artículo 84 de la LGB, deberá encuadrarse dentro del margen correspondiente en u plazo no superior a 90 días, contado desde la fecha de la notificación</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Límite de créditos otorgados a personas relacionadas, artículo 84 N° 2 de la LGB</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u="sng">
                <a:solidFill>
                  <a:srgbClr val="ffffff"/>
                </a:solidFill>
                <a:uFillTx/>
                <a:latin typeface="Arial"/>
              </a:rPr>
              <a:t>Definición de deudores relacionados:</a:t>
            </a:r>
            <a:r>
              <a:rPr b="0" lang="es-ES" sz="2000" spc="-1" strike="noStrike">
                <a:solidFill>
                  <a:srgbClr val="ffffff"/>
                </a:solidFill>
                <a:latin typeface="Arial"/>
              </a:rPr>
              <a:t> la relación de una persona determinada con un banco se produce cuan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e una participación directa, indirecta o a través de terceros, en la propiedad de la institución;</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ipa en la gestión de la entidad; 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gún normas generales, establecidas directamente en la Ley o dictadas por la SBIF, aparecen situaciones que hacen presumir esa relación mientras no se presenten antecedentes suficientes que permitan eliminar esa presunción</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relaciones afectan tanto a las personas naturales como a las personas jurídicas, sean estas sociedades de cualquier clase, incluidas las cooperativas y mutuales, como asimismo las corporaciones y fundaciones, sindicatos, asociaciones gremiale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9" name="PlaceHolder 2"/>
          <p:cNvSpPr>
            <a:spLocks noGrp="1"/>
          </p:cNvSpPr>
          <p:nvPr>
            <p:ph/>
          </p:nvPr>
        </p:nvSpPr>
        <p:spPr>
          <a:xfrm>
            <a:off x="323640" y="259920"/>
            <a:ext cx="8373960" cy="6264360"/>
          </a:xfrm>
          <a:prstGeom prst="rect">
            <a:avLst/>
          </a:prstGeom>
          <a:noFill/>
          <a:ln w="0">
            <a:noFill/>
          </a:ln>
        </p:spPr>
        <p:txBody>
          <a:bodyPr lIns="90000" rIns="90000" tIns="46800" bIns="46800" anchor="t">
            <a:normAutofit fontScale="99000"/>
          </a:bodyPr>
          <a:p>
            <a:pPr marL="603360" indent="-60336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ersonas relacionadas a una institución financiera a través de la propiedad:</a:t>
            </a:r>
            <a:r>
              <a:rPr b="0" lang="en-US" sz="2000" spc="-1" strike="noStrike">
                <a:solidFill>
                  <a:srgbClr val="ffffff"/>
                </a:solidFill>
                <a:latin typeface="Arial"/>
              </a:rPr>
              <a:t> una persona está relacionada a un banco cuando es accionista de ella o es socia o accionista de sociedades que, a su vez, poseen acciones de la institución directamente o a través de otras sociedades. </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relación, de acuerdo con la Ley, puede ser directa o a través de terceros. Puede producirse también una relación indirecta a través del cónyuge, separado o no de bienes, o de los hijos  menores</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una persona natural no se considerara relacionada por el hecho de poseer hasta el 1% de las acciones de un banco</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mente no se considerara relacionada, una persona jurídica por el solo hecho de poseer directamente, a través de terceros o en conjunto con otras sociedades con las cuales conforma una unidad de intereses económica, hasta un 1% de las acciones de la institución financiera</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1"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s acciones del banco tiene presencia bursatil, el porcentaje del 1% se eleva al 5%</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sociedad no se considerara relacionada por el solo hecho que personas naturales o jurídicas relacionadas por la vía de la propiedad a un banco tengan, por si, a través de terceros, o en conjunto, una participación igual o inferior al 5% en el capital o en las utilidades de la respectiva sociedad</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ccionistas o socios de personas jurídicas relacionadas a una institución financiera no se consideraran relacionadas cuando su participación sea irrelevante y resulte evidente que esos accionistas o socios y quienes controlan la sociedad no conforman una unidad de intereses económ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personas relacionadas con una institucion financiera a traves de la gestión:</a:t>
            </a:r>
            <a:r>
              <a:rPr b="0" lang="en-US" sz="2000" spc="-1" strike="noStrike">
                <a:solidFill>
                  <a:srgbClr val="ffffff"/>
                </a:solidFill>
                <a:latin typeface="Arial"/>
              </a:rPr>
              <a:t> están relacionadas aquellas personas que, sin tener necesariamente participación en la propiedad, ejercen algun grado de control sobre las decisiones de la entidad o de cualquiera de sus sociedades filiales, por el  cargo que ocupan en ella o en alguna de sus filiale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onsiderara que ejercen esta influencia los directores, el gerente general, el subgerente general, los gerentes y subgerentes, los agentes y las personas que son apoderados generales o se desempenan como asesores del directorio, de un comité de directores o de la gerencia, como también el fiscal, el abogado jefe y el contral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n una institución prestan servicios personas que desempeñan funciones similares a los cargos descritos, quedarán sujetas a la condición de relacionadas por gestión, aunque se les haya asignado otro nombr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000" y="-21492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5"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onsideraran también relacionadas a la entidad financiera las sociedades en que cualquiera de los recién mencionados tenga, directamente o a traves de otras sociedades, su cónyuge, separado o no de bienes, o sus hijos menores, una participación en la propiedad igual o superior a un 5%</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se considerarán relacionadas las sociedades en las que alguna de las personas naturales relacionadas con la institución financiera a través de la gestión, ocupe el cargo de director, gerente general u otro equival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e tenerse presente que las personas que se desempenan como directores o apoderados generales, asi como sus conyuges, hijos menores bajo patria potestad y las sociedades en que estas personas sean socios o accionistas, están sujetas a la prohibición de otorgarles crédito segun el artículo 84 N° 4 de la LGB, precepto que prevalece lo las reglas señaladas para los relacionados por propiedad o gestión del N° 2 del mismo artícu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Presunciones de relación:</a:t>
            </a:r>
            <a:r>
              <a:rPr b="0" lang="en-US" sz="2000" spc="-1" strike="noStrike">
                <a:solidFill>
                  <a:srgbClr val="ffffff"/>
                </a:solidFill>
                <a:latin typeface="Arial"/>
              </a:rPr>
              <a:t> la SBIF está a cargo, por mandato legal, de determinar las presunciones de relación entre personas naturales o jurídicas y un banc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o anterior, la propia LGB estableció una presunción legal que señala que constituye presunción de relación a un banco el hecho que sea deudora de el una sociedad extranjera, entre cuyos socios o accionistas figuren otras sociedades o cuyas acciones sean al porta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la SBIF ha señalado que constituyen presunciones las siguientes situaciones en las que puede encontrarse un deu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uando el deudor dea una sociedad constituida en el país o en el extranjero, cuyo patrimonio e ingresos sean insuficientes en relación al monto de los créditos concedidos o cuyos principales socios o accionistas no acrediten patrimonio suficiente o no existen antecedentes respecto de las actividades que desarroll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 regla antes indicada, las obligaciones indirectas de una persona natural o jurídica, que no tenga deuda directa con un banco, no se computan para los márgenes de crédit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si un banco está considerando otorgar un crédito directo a esa persona con deuda indirecta, deberá considerar esta deuda para establecer si es posible otorgar el crédito directo, ya que de otorgarse, quedan afectas a los límites todas sus deudas, sean estas directas o indirecta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mismo ocurre con las deudas complementarias que deben computarse por aplicación del artículo 85 de la LGB</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Cuando el deudor sea una sociedad constituida en Chile cuyos socios o accionistas, que en conjunto representen un 10% o más del capital social, sean personas jurídicas constituidas en el extranjero, de las cuales no existan antecedentes respecto de sus propietarios, la situación patrimonial de éstos y su giro efectiv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Cuando el deudor sea una sociedad que forma parte de un conjunto de sociedades con socios o accionistas comunes, que constituyen un conjunto de intereses económicos y que no muestren un giro individual efectivo o un patrimonio e ingresos suficientes para justificar los créditos concedid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Cuando el deudor sea considerado persona relacionada a otra institución financiera y esta haya concedido, en carácter recíproco, créditos a sociedades relacionadas con la institucioón acreedora o haya habilitado a una tercera institución financiera para hacer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Cuando el deudor haya recibido créditos en condiciones notoriamente más favorables que la mayoría de los deudores, sin que exista alguna situación financiera que lo justifique desde el punto de vista de los intereses de la institución. También se aplica la presunción cuando tales personas hayan obtenido condiciones notoriamente más favorables en los depósitos y captaciones o en servicios que la institución pres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uando  los créditos del deudor se encuentren caucionados con garantías otorgadas por una persona natural o jurídica relacionada con la institución acreedor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Cuando el deudor haya garantizado créditos o asumido obligaciones de una sociedad relacionada a la institución financiera respectiv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 Cuando el representante legal de la sociedad deudora sea, a la vez, representante legal de una empresa relacionada a la institución acreedora y no existan antecedentes respecto de los propietarios de la deudora, de su situación patrimonial o de su gir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3" name="PlaceHolder 2"/>
          <p:cNvSpPr>
            <a:spLocks noGrp="1"/>
          </p:cNvSpPr>
          <p:nvPr>
            <p:ph/>
          </p:nvPr>
        </p:nvSpPr>
        <p:spPr>
          <a:xfrm>
            <a:off x="539280" y="260280"/>
            <a:ext cx="8147160" cy="5865840"/>
          </a:xfrm>
          <a:prstGeom prst="rect">
            <a:avLst/>
          </a:prstGeom>
          <a:noFill/>
          <a:ln w="0">
            <a:noFill/>
          </a:ln>
        </p:spPr>
        <p:txBody>
          <a:bodyPr lIns="90000" rIns="90000" tIns="46800" bIns="46800" anchor="t">
            <a:normAutofit/>
          </a:bodyPr>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t>
            </a:r>
            <a:r>
              <a:rPr b="0" lang="en-US" sz="2000" spc="-1" strike="noStrike">
                <a:solidFill>
                  <a:srgbClr val="ffffff"/>
                </a:solidFill>
                <a:latin typeface="Arial"/>
              </a:rPr>
              <a:t>	</a:t>
            </a:r>
            <a:r>
              <a:rPr b="0" lang="en-US" sz="2000" spc="-1" strike="noStrike">
                <a:solidFill>
                  <a:srgbClr val="ffffff"/>
                </a:solidFill>
                <a:latin typeface="Arial"/>
              </a:rPr>
              <a:t>Cuando las obligaciones del deudor sean servidas con recursos de una persona natural o jurídica relacionada con la institución financiera acreedora</a:t>
            </a: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a:solidFill>
                  <a:srgbClr val="ffffff"/>
                </a:solidFill>
                <a:latin typeface="Arial"/>
              </a:rPr>
              <a:t>	</a:t>
            </a:r>
            <a:r>
              <a:rPr b="0" lang="en-US" sz="2000" spc="-1" strike="noStrike">
                <a:solidFill>
                  <a:srgbClr val="ffffff"/>
                </a:solidFill>
                <a:latin typeface="Arial"/>
              </a:rPr>
              <a:t>Cuando el deudor mantenga cuentas, que representen un porcentaje importante de su activo o pasivo, con sociedades relacionadas a la institución financiera acreedora y no tenga un giro productivo que justifique la existencia de dichas cuentas</a:t>
            </a: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a:t>
            </a:r>
            <a:r>
              <a:rPr b="0" lang="en-US" sz="2000" spc="-1" strike="noStrike">
                <a:solidFill>
                  <a:srgbClr val="ffffff"/>
                </a:solidFill>
                <a:latin typeface="Arial"/>
              </a:rPr>
              <a:t>	</a:t>
            </a:r>
            <a:r>
              <a:rPr b="0" lang="en-US" sz="2000" spc="-1" strike="noStrike">
                <a:solidFill>
                  <a:srgbClr val="ffffff"/>
                </a:solidFill>
                <a:latin typeface="Arial"/>
              </a:rPr>
              <a:t>Cuando se trate de una sociedad deudora, previamente considerada relacionada, cuya propiedad sea traspasada a terceros sin que existan antecedentes fidedignos de que se permitió la presentación de otras ofertas; cuando las condiciones de venta difieren significativamente de las que prevalecen en el mercado o cuando los adquirentes no hayan demostrado un patrimonio que guarde relación con la magnitud de la operación antes de efectuarl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ntidades relacionadas a una institución y que conforman un grupo de personas vinculadas entre si:</a:t>
            </a:r>
            <a:endParaRPr b="0" lang="en-US" sz="2800" spc="-1" strike="noStrike">
              <a:solidFill>
                <a:srgbClr val="ccecff"/>
              </a:solidFill>
              <a:latin typeface="Arial"/>
            </a:endParaRPr>
          </a:p>
        </p:txBody>
      </p:sp>
      <p:sp>
        <p:nvSpPr>
          <p:cNvPr id="275" name="PlaceHolder 2"/>
          <p:cNvSpPr>
            <a:spLocks noGrp="1"/>
          </p:cNvSpPr>
          <p:nvPr>
            <p:ph/>
          </p:nvPr>
        </p:nvSpPr>
        <p:spPr>
          <a:xfrm>
            <a:off x="395280" y="1600200"/>
            <a:ext cx="8291520" cy="499752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 que conforman un mismo grupo de personas relacionadas a un banco todas aquellas personas naturales y jurídicas entre las cuales se de una o mas de las siguientes circunstancias de vinculación entre ella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nculaciones de negocios, de capitales o de administración que permitan a una o mas personas naturales o jurídicas ejercer una influencia significativa y permanante en las decisiones de las demás;</a:t>
            </a: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unciones fundadas de que los créditos otorgados a una persona serán usados en beneficio de otra</a:t>
            </a: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unciones fundadas de que diversas personas mantienen relaciones de tal naturaleza que conforman de hecho una unidad de intereses económicos</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7"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cionalmente, cuando en una institución financiera participen como accionistas, con un porcentaje superior al 1%, corredores de bolsa u otros agentes institucionales, nacionales o extranjeros, que en el ejercicio de su giro mantengan a nombre propio por cuenta de terceros títulos accionarios, se entenderá que ellos representan a los accionistas mayoritarios de la institución financiera y serán considerados para todos los efectos como parte del grupo mayoritario de ella, a menos que demuestren que sus representados son personas independientes de los demás accionistas de la institucion financier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ciones que se originan por la participación o la adquisición de acciones o derechos en otras sociedade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ituyen empresas relacionadas a una institución financiera las sociedades filiales, de apoyo al giro y coligadas a un banco, al igual que las filiales y demás sociedades establecidas en el exterior vinculadas a un banco. La SBIF elaborará una nómina de los deudores relacionados que deben incluir cada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sociedades cuyas acciones o derechos han sido adquiridos por un banco, ya sea en pago o por adjudicación en subasta pública en conformidad con el artículo 84 N° 5 de la LGB, como asimismo aquellos emisores cuyas acciones de primera emisión se adquieren en virtud de la garantía otorgada como agente colocador de acuerdo al artículo 69 N° 25, no se incluirán, por ese solo hecho, en la nómina de deudores relaciona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se incluirán en la nómina de relacionados, los emisores de las siguientes acciones, por el solo hecho de mantenerlas o tenerlas registradas a nombre del banco: a) acciones de empresas de suministro de servicios de utilidad pública; b) acciones o derechos necesarios para incorporarse a entidades de sercivios a la banca; c) acciones que un banco mantenga registradas a su nombre por cuenta de terceros que asi lo soliciten y que cuente con el respectivo manda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s normas relacionadas al cómputo  de obligaciones de personas relacionadas a un banco dentro de un mismo grupo de vinculados, no se incluirán en dicho cómputo las deudas de personas naturales vinculadas al banco cuyo valor total respecto de un mismo deudor, incluyendo capital, intereses y reajustes, no supere el equivalente a 3.000 UF</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ímites de crédito a deudores relacionado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84 N° 2 de la LGB determina los márgenes a que están afectos los créditos que se otorguen a personas relacionadas con la propiedad o gestión de una empresa. A la vez, se refiere a condiciones bajo las cuales pueden concederse préstamos a estos deu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ndiciones en que pueden pactarse los créditos a personas relacionadas:</a:t>
            </a:r>
            <a:r>
              <a:rPr b="0" lang="en-US" sz="2000" spc="-1" strike="noStrike">
                <a:solidFill>
                  <a:srgbClr val="ffffff"/>
                </a:solidFill>
                <a:latin typeface="Arial"/>
              </a:rPr>
              <a:t> los banco no podrán otorgar créditos a personas relacionadas en términos más favorables en cuanto a plazos, tasas de interés o garantías que los concedidos a terceros en operaciones similares. Cualquier trato preferente en materia crediticia a personas relacionadas dará lugar a las sanciones correspondie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ímite de créditos a cada grupo de personas relacionadas:</a:t>
            </a:r>
            <a:r>
              <a:rPr b="0" lang="en-US" sz="2000" spc="-1" strike="noStrike">
                <a:solidFill>
                  <a:srgbClr val="ffffff"/>
                </a:solidFill>
                <a:latin typeface="Arial"/>
              </a:rPr>
              <a:t> cada grupo de personas relacionadas a un banco que están relacionadas entre si, deben considerarse como un sólo deudor para los efectos de los límites crediticios del artículo 84 N° 1 de la LGB, de manera que los créditos que se otorguen a cualquiera de ellos afectarán el margen individual del grup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ímite global de créditos a personas relacionadas: además del límite por grupo de personas vinculadas, la ley señala que el total de créditos otorgados a personas relacionadas a un banco no puede exceder el monto de su patrimoni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5" name="PlaceHolder 2"/>
          <p:cNvSpPr>
            <a:spLocks noGrp="1"/>
          </p:cNvSpPr>
          <p:nvPr>
            <p:ph/>
          </p:nvPr>
        </p:nvSpPr>
        <p:spPr>
          <a:xfrm>
            <a:off x="539640" y="333360"/>
            <a:ext cx="8158320" cy="5821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anción:</a:t>
            </a:r>
            <a:r>
              <a:rPr b="0" lang="en-US" sz="2000" spc="-1" strike="noStrike">
                <a:solidFill>
                  <a:srgbClr val="ffffff"/>
                </a:solidFill>
                <a:latin typeface="Arial"/>
              </a:rPr>
              <a:t> los bancos deben respetar en todo momento, tanto las condiciones en que pueden pactarse los créditos a personas relacionadas como el límite de créditos a cada grupo de personas relacionadas y también el límite global de créditos a personas relacionada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lquiera infracción a estas disposiciones será castigada con una multa del 20% sobre el monto del crédito concedid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ímites de crédito a trabajadores de la institución financie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el artículo 84 N° 4 de la LGB, el monto total de los créditos que un banco puede otorgar a sus trabajadores, no puede exceder de 1,5% del patrimonio efectivo de la empresa, ni puede ser superior, individualmente, al 10% de dicho lím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l cómputo de este límite se incluyen también los contratos de leasing celebrados con los trabajador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quedan sujetos a los límites de crédito, eso si, los préstamos con garantía hipotecaria que, en una sóla oportunidad respecto de una misma persona, se otorguen a los trabajadores con el objeto de que adquieran una casa habitación para su uso personal. Quedan incluidos en esta exención, las operaciones de leasing para vivienda que tengan ese fi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o lo anterior, es sin perjuicio del cumplimiento de los límites de crédito individuales del artículo 84 N° 1 y de la prohibición de otorgar crédito a los empleados que se desempeñan como apoderados generales del banco establecido en el inciso tercero del N° 4 del mismo artículo 84</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rige igualmente para los créditos que otorgue el Banco del Estado de Chile a su personal, según Resolución N° 37, de 13 de marzo de 1991, del Ministerrio de Hacien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7" name="PlaceHolder 2"/>
          <p:cNvSpPr>
            <a:spLocks noGrp="1"/>
          </p:cNvSpPr>
          <p:nvPr>
            <p:ph/>
          </p:nvPr>
        </p:nvSpPr>
        <p:spPr>
          <a:xfrm>
            <a:off x="324000" y="333360"/>
            <a:ext cx="8362800" cy="64087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artículo 84 N° 1, a diferencia del límite individual sobre personas vinculadas del artículo 84 N° 2 que veremos más adelante, es un límite que se aplica a cada persona natural o jurídica como un deudor independiente, sin perjuicio, cuando corresponda, de aplicar las reglas del artículo 85 antes indicad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No obstante lo anterior, cabe hacer presente que este límite individual del N° 1 se aplica cuando el banco otorga créditos a una persona individual dentro de un contacto de una decisión crediticia respaldada con antecedentes técnicos del cliente, que justifiquen el otorgamiento del crédito y no es aceptable la aplicación</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plicación de los límites debe considerar tanto a los empleados del banco como a los contratados por filiales y sucursales que consoliden con el banc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los márgenes a que nos referimos, debe entenderse por trabajador a toda persona que preste servicios al banco en forma continua y permanente, con una clara subordinación o sin ella, remunerada mediante honorarios o un sueldo pagadero en periodos fijos, ya sea que esté o no sujeta a horario de trabajo, se desempeñe dentro o fuera del local del banco, tenga o no otros empleadores o ejerza libremente su profesió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la aplicación del N° 4 del artículo 84 de la LGB, que limita el monto tanto individual como global de los créditos otorgados a los trabajadores de las respectivas instituciones financieras, deben considerarse todas las obligaciones directas e indirectas que mantengan los trabajadores con el banco, con excepción de los créditos para la adquisición de vivienda. Además deben computarse las obligaciones complementarias de esas mismas personas, imputadas conforme al artículo 85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1"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réditos cursados a la cónyuge de un trabajador: quedan sujetos a los límites ya señalados los créditos directos e indirectos cursados a la cónyuge de un trabajador de un banco, salvo las siguientes situaciones:</a:t>
            </a:r>
            <a:endParaRPr b="0" lang="en-US" sz="2000" spc="-1" strike="noStrike">
              <a:solidFill>
                <a:srgbClr val="ffffff"/>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 la mujer casada con un trabajador de un banco dentro del régimen de sociedad conyugal, desempeñe algún empleo o ejerza una profesión, oficio o industria separados de los de su marido. Así, de conformidad con el artículo 150 del Código Civil, la mujer es considerada como separada de bienes respecto de su empleo, profesión o industria y de lo que en ellos obtenga. La mujer debe acreditar, en todo caso, la cantidad que invoque proviene de su empleo</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 la mujer casada con un trabajador de un banco, lo est´w bajo el régimen de separación de bienes</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excepciones operan siempre que el marido no caucione o afiance dichos credi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cabe señalar que todo crédito otorgado al marido de una trabajadora de un banco, no queda afecto a los límites en comento, siempre que la mujer no caucione o afince los créditos concedidos a su mar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segundo del N° 4 del articulo 84 de la LGB, faculta a ls empresas para otorgar a sus trabajadores, sin sujeción a los límites de crédito del mismo artículo, préstamos con garantía hipotecaria con el objeto de que adquieran una casa habitación para su uso personal</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facultad podrá ejercitarse en una sóla oportunidad mientras subsista la calidad de trabajador, a no ser que se trate de un nuevo crédito hipotecario destinado a pagar anticipadamente préstamos de similar naturaleza y propósito, adeudados al mismo banco o uno disti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ersonas que adquieran la calidad de trabajadores de un banco y que mantengan deudas con él, deben ajustar previamente sus obligaciones a los limites del N° 4 del artículo 84 y, por lo tanto, no podrán asumir sus funciones mientras los créditos que adeuden excedan los límites máximos de créditos. Lo mismo deberá hacer la cónyuge del trabajador cuando los créditos que se le hubieren cursado deban computarse con los créditos otorgados al mar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Prohibición de otorgar créditos a directores, apoderados y personas relacionadas con ellos:</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tercero del artículo 84 de la LGB excluye de todo crédito a los directores de una institución financiera, o a cualquiera persona que se desempeñe en ella como apoderado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imismo, prohibe todo crédito a las siguientes personas relacionadas con los directores o apoderados por lo vínculos que se indican: cónyuge, hijos menores bajo patria potestad y sociedades en que cualquiera de ellos forme parte o tenga participación</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esta prohibición legal, se hacen las siguientes precisiones acerca de las relaciones que impiden el otorgamiento de crédito:</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directores deben entenderse tanto los directores titulares como los suplentes o provisionales. Al tratarse de bancos extranjeros que no tienen directorio en Chile, la prohibición alcanza al agente del banco</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apoderado de una institución financiera, debe entenderse, además del gerente y subgerente general, a toda persona que pueda comprometer a la institucion sin limitaciones o solamente con limitaciones particulares bajo su sola fir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9" name="PlaceHolder 2"/>
          <p:cNvSpPr>
            <a:spLocks noGrp="1"/>
          </p:cNvSpPr>
          <p:nvPr>
            <p:ph/>
          </p:nvPr>
        </p:nvSpPr>
        <p:spPr>
          <a:xfrm>
            <a:off x="395280" y="260280"/>
            <a:ext cx="8291520" cy="6408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Por cónyuge se entienden todos los que se encuentren casados, cualquiera sea el régimen de bien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Por hijos menores bajo patria potestad, se entiende aquellos que se encuentren bajo la patria potestad de su padre o madre, según corresponda, esto es, que tratándose de todo tipo de menores de edad, no se encuentren sometidos a la guarda de otra persona o, tratándose de menores adultos no hayan sido emancipado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Por sociedades deben entenderse todo tipo de sociedades, tanto de personas como de capitales. La prohibición de otorgar créditos no se aplica por extensión a otras sociedades en que no existe participación directa de un director o apoderado general o sus cónyuges o hijos menores. Para que esto ocurra se requiere que la sociedad de la que forma parte o en la que participe directamente alguna de esas personas naturales y que, a su vez, sea socia o accionista de otra, tenga giro efectivo, de actividad real y patrimonio proporcionado a su giro, de manera que no exista dudas de la posibilidad de que exista interposición de personas que pretenda evadir la prohibi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118800"/>
            <a:ext cx="8147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1"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BIF ha dispuesto que quedan excluidas de la prohibicion de otorgar creditos aquellas sociedades en que uno o mas directores o uno o mas opoderados generales, en conjunto con su conyuge o hijos menores bajo patria potestad, tienen una participacion igual o inferior e un 5% en el capital o en las utilidad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uando una persona entre a desempenarse en calidad de director o apoderado general debera pagar todos los creditos que adeudare el banco. Lo mismo deberan hacer las demas personas que tengan con ella alguna de las vinculaciones mas arriba menciona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11880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3" name="PlaceHolder 2"/>
          <p:cNvSpPr>
            <a:spLocks noGrp="1"/>
          </p:cNvSpPr>
          <p:nvPr>
            <p:ph/>
          </p:nvPr>
        </p:nvSpPr>
        <p:spPr>
          <a:xfrm>
            <a:off x="539280" y="260280"/>
            <a:ext cx="814716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s disposiciones del articulo 84 No 4, se ha permitido a los directores, apoderados generales asi como a las personas relacionadas a ellos, para ser titulares de tarjetas de credito emitidas por el propio banco en que ejerzan su cargo, siempre que en el contrato se excluya en forma expresa la utilizacion del credito que otorga el sistema, sea para financiar despues de la fecha de vencimiento del estado de cuenta o por avances en efec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es: la ingreccion a la prohibicion de otorgar creditos ya explicada conlleva una multa equivalente al valor del credito otorg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Otras limitaciones y orohibiciones (articulo 84 Nos 3, 5 y 6)</a:t>
            </a:r>
            <a:endParaRPr b="0" lang="en-US" sz="3200" spc="-1" strike="noStrike">
              <a:solidFill>
                <a:srgbClr val="ccecff"/>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cion de conceder creditos para adquirir acciones del propio banco (articulo 84 No 3): el banco no puede otorgar un credito a una persona para que esta pague al banco acciones de su propia emision. La infraccion se sanciona con multa igual al valor del credito concedi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cion de adquirir otros bienes que los expresamente autorizados. Excepciones (articulo 84 No 5): los bancos no pueden adquirir cualquier clase de bienes sino solamente aquellos que la lay les autoriza. Las unicas excepciones ocurren en los siguientes cas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reciba bienes en pago de deudas vencidas y siempre que el conjunto de bienes que haya adquirido en esta forma no supere el 20% de su patrimoni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270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7"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os bienes lo va a entregar en pago una persona relacionada al banco en los terminos del articulo 84 No 2, el banco debera obtener una autorizacion previa de la SBIF</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o caso es cuando los adquiera en remate judicial en pago de deudas vencidas previamente contraidas a su favor.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mbos casos, estas adquisiciones no quedan sujetas a marge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 el banco que reciba vienes en pago sin sujecion a lo establecido en la ley debe pagar una multa igual al valor de los bienes adquiri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as estos bienes adquiridos de conformidad con el articulo 84 No 5 deben ser enajenados por el banco dentro de un plazo determinado. Si son acciones son 6 meses, los ddemas bienes en un ano, ambos plazos prorrogables hasta en 18 meses en casis calificados y siempre que el banco castigue contablemente el valor del bi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 este límite individual si el ánimo es que el deudor, vía interposición de personas u otros arbitrios, pueda alcanzar un endeudamiento que sobrepase el margen permitido por la ley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jemplos de trasgresión sería si un banco otorga créditos a sociedades que pertenecen todas ellas a los mismos socios y que carecen de giro efectivo, no tienen actividad o presentan un patrimonio escaso frente al monto del crédito</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38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9" name="PlaceHolder 2"/>
          <p:cNvSpPr>
            <a:spLocks noGrp="1"/>
          </p:cNvSpPr>
          <p:nvPr>
            <p:ph/>
          </p:nvPr>
        </p:nvSpPr>
        <p:spPr>
          <a:xfrm>
            <a:off x="324000" y="333000"/>
            <a:ext cx="8362800" cy="57927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 por la no enajenacion oportuna: se aplica una multa igual al 10% del valor de adquisicion actualizado, por cada mes calendario que mantenga el bien despues del vencimiento del plazo para enajenar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hibicion de comprometer al banco por obligaciones de terceros en casos no autorizados o de hipotecar o dar en prenda sus bienes fisicos (articulo 84 No 6)</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prohibicion esta sancionada expresamente con la nulidad absoluta del acto, sin perjuicio de las sanciones pecuniarias genera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000" y="-118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11" name="PlaceHolder 2"/>
          <p:cNvSpPr>
            <a:spLocks noGrp="1"/>
          </p:cNvSpPr>
          <p:nvPr>
            <p:ph/>
          </p:nvPr>
        </p:nvSpPr>
        <p:spPr>
          <a:xfrm>
            <a:off x="395280" y="333360"/>
            <a:ext cx="8291520" cy="619128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ctos que se sancionan con la nulidad y con multa son los siguientes: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ometer el banco su responsabilidad por obligaciones de terceros en casos no autorizados por la ley o por las normas sobre internmediacion de documentos; 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potecar o dar en prenda sus bienes fisicos, salvo los que adquiera pagaderos a plazo y, en tal caso, solo para garantizar el saldo insoluto del preci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BIF ha indicado que no incurre en esta infraccion el banco que extiende una carta de resguardo para asegurar a otra institucion que se cumplira con determinada obligacion asumida por un cliente. Lo mismo se aplica para el caso de las cartas de garantia interfinancier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38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13" name="PlaceHolder 2"/>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mas de las sanciones de multa señaladas a lo largo del articulo 84 de la LGB, es posible recurrir siempre a las sanciones generales del articulo 19 de la misma ley si el banco no cumple con encuadrarse dentro de los limitese credito dentro del plazo de 90 dia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iene tener presente, ademas, que asi como el No 6 del articulo 84 establece como sancion la nulidad absoluta en caso de infraccion, esto muestra que los demas casos de infraccion a prohibiciones  no estan sujetas a sancion de nulidad, por aplicacion del articulo 10 del Codig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 deudas directas</a:t>
            </a:r>
            <a:r>
              <a:rPr b="0" lang="en-US" sz="2000" spc="-1" strike="noStrike">
                <a:solidFill>
                  <a:srgbClr val="ffffff"/>
                </a:solidFill>
                <a:latin typeface="Arial"/>
              </a:rPr>
              <a:t> deben entenderse todas las obligaciones que el deudor principal reconozca a favor del banco como beneficiario del crédito, en el carácter, según corresponda, de deudor en cuenta corriente; aceptante de una letra de cambio o suscriptor de un pagaré; endosante con responsabilidad de una letra de cambio o pagaré; vendedor con pacto de retrocompra; deudor por cartas de crédito para importación; deudor de créditos avalados o afianzados por el banco, etc</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 deudas indirectas </a:t>
            </a:r>
            <a:r>
              <a:rPr b="0" lang="en-US" sz="2000" spc="-1" strike="noStrike">
                <a:solidFill>
                  <a:srgbClr val="ffffff"/>
                </a:solidFill>
                <a:latin typeface="Arial"/>
              </a:rPr>
              <a:t>deben entenderse las obligaciones que afectan a las personas que, sin ser los beneficiarios del crédito, responden con su patrimonio del cumplimiento de la obligación, como los fiadores, codeudores solidarios, aceptantes, giradores y avalistas de letras de cambio o suscriptores de pagarés endosados con respons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38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3"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on deudores directos ni indirectos las personas que participan en una obligación sin contraer una responsabilidad personal en ella, pero que afectan bienes de su propiedad al cumplimiento de esa obligación o bien mantienen un compromiso de pago por documentos constituidos en garantía por tercer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 quien constituye una hipoteca para garantizar una obligación ajena, con claúsula de garantía general o sin ella; el que da bienes en prenda para garantizar obligaciones de terceros; el aceptante o cualquiera de los obligados al pago de un documento en cobranza endosado en garantía a un banco en resguardo de una obligación contraida por otra persona, etc</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se considera deudor directo o indirecto al banco del exterior que sea emisor de una carta de crédito que tenga por objeto garantizar obligaciones de terce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4212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5"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udas complementarias:</a:t>
            </a:r>
            <a:r>
              <a:rPr b="0" lang="en-US" sz="2000" spc="-1" strike="noStrike">
                <a:solidFill>
                  <a:srgbClr val="ffffff"/>
                </a:solidFill>
                <a:latin typeface="Arial"/>
              </a:rPr>
              <a:t> conforme a lo dispuesto en las letras a) y b) del articulo 85 de la LGB, además de las deudas directas e indirectas que contraiga una persona, se consideraran obligaciones suyas, para los efectos de su límite individual de crédito, las contraídas por las sociedades colectivas o en comandita en que el deudor sea socio solidario, o por las sociedades de cualquier naturaleza en que tenga mas del 50% del capital o de las utilidad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socios solidarios, los socios de una sociedad colectiva comercial y los socios gestores de una sociedad en comandita comercial</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participación en una sociedad es superior al 2% y no excede el 50% del capital o de las utilidades, las deudas de la sociedad de que se trate, se considerarán a prorrata de dicha particip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disposicion establece que para efectos de los margenes de credito debe aplicarse el total o una proporcion de las deudas de otra persona para con la misma empresa bancaria</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regla de computo procede realizarla al establecer las obligaciones de cualquier persona a favor de un banco (articulo 84 No 1) o tratandose de tranajadores del banco (articulo 84 No 4), pero no asi para determinar las obligaciones de personas relacionadas al banco por propiedad o gestion (articulo 84 No2), que tiene reglas y presunciones propias de computo</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o al socio, por una ficción, se le imputan como propias las deudas de la sociedad, tales deudas lo afectarán en la misma forma que si fueren propias. La incidencia de este hecho se ilustra en los siguientes ejemplos:</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6:18:29Z</dcterms:created>
  <dc:creator>Administrador</dc:creator>
  <dc:description/>
  <dc:language>en-US</dc:language>
  <cp:lastModifiedBy>Administrador</cp:lastModifiedBy>
  <dcterms:modified xsi:type="dcterms:W3CDTF">2007-03-05T19:48:29Z</dcterms:modified>
  <cp:revision>21</cp:revision>
  <dc:subject/>
  <dc:title>Diapositiva 1</dc:title>
</cp:coreProperties>
</file>