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EA5-0DA3-4FD7-9981-BF36E8D2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15A-747B-4EAC-B3CB-D5C980C5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0B4-0CBC-415A-9994-EDCE0EB6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175-2573-41EB-A751-0970A9D3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37C3-B314-46A2-BCB6-2454E334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1277-A1C8-4348-B664-BE2368A9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C9E4-A972-4152-A884-E96EBF3E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58B8-1241-42E8-A9CA-D24A5C15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572E-E903-4720-BF59-FE82A05C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54B0-115E-4478-8D63-267850CC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625C-591A-4B91-AE31-2AA64775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052-D3BE-4CD6-9561-7DCA099C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2437-A602-4504-96DF-0A3A3355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FF6A-9DC2-43F8-904D-E3118D1E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83C7-1E83-41C7-8E3D-CAEA9F5E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ABC7-C8C8-421D-87EC-9CE1FBFE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8D43-7F3B-4C14-902E-9C7EEE91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07A-4FD3-49C5-8911-CDA20EAE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09A-868E-4D78-9250-59E08755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9E0-20F4-424B-ADCE-F500ED63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F76-253C-483A-8F7B-C742B534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351-DE56-4742-9294-D50D4EAF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BB4-4593-40C3-A754-4F09C63C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0AA-0182-409B-89B4-6393A448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966C-BEB3-492B-9E1C-4A3826482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6164-993E-4B21-B0E0-2A7374E682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98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nversiones de los Banc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5280" y="1341000"/>
            <a:ext cx="7016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VERSIONES EN DOCUMENTOS, VALORES MOBILIARIOS O EFECTOS DE COMERCIO, DE RENTA FIJ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No sujetas a marge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(artículo 69 N°s 18 y 1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trata de inversiones en documentos que no representan mayor riesgo de pérdida para el banco, tales como bonos de la deuda interna y cualquiera otra clase de documentos representativos de obligaciones del Estado o de sus instituciones emitidos en serie. Esto incluye documentos emitidos por la tesorería de la República, otras instituciones fiscales, semifiscales o de administración autónoma; del Banco Central de Chile, pero en ningún caso de las empresas del Estado, las que reciben la misma consideración que una empresa privada para este ef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156960"/>
            <a:ext cx="82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onos u obligaciones de renta de instituciones internacionales a las que se encuentre adherido el Estado de Chile, como el banco Mundial y el B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Sujetas a marge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(artículo 69 N° 2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á están incluidas todas las otras inversiones en documentos, valores mobiliarios o efectos de comercio de renta fija, emitidos por cualquier tipo de personas naturales o jurídicas que no estén en alguna de las excepciones antes señal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as inversiones se consideran como una colocación y computan para los márgenes de crédito del artículo 84 de la LGB y se aplicarán las multas que señala este artículo para cada caso, en caso de infra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mismos límites se aplican a las operaciones de underwritting de documentos de renta fija cuya colocación y servicio sea garantizado por el ban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920" y="-55440"/>
            <a:ext cx="8302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abe hacer presente que si bien las inversiones del N° 20 quedan sujetas a márgenes de crédito, no se suman para el margen de inversión aplicable a inversiones en los bienes a que se refieren los N°s 15, 21, 22 y 23 del art. 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VERSIONES EN BIENES FÍSICOS Y A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as inversiones consisten en bienes físicos y acciones y están sujetas a un margen global que asciende al total del capital y reservas del ban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bienes cuyo valor conforma dicho margen s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ciones de sociedades que operan en el país, adquiridas en conformidad a los N°s 17 o 21 del art. 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-119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ciones de bancos o empresas constituidas en el extranjero, adquiridas conforme al art. 69 N° 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o amonedado  o en pastas, por expresa referencia del N° 18 parte f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ienes raíces necesarios para su funcionamiento y servicios anexos. El banco puede arrendar la parte que no utiliza de estos bienes raíces o los que tiene para futura expansión. La determinación de que se entiende por servicios anexos y bienes para futura expansión deberá ser juzgado por la SBIF atendido su subjetividad (art. 69 N° 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ienes corporales muebles necesarios para su servicio o la mantención de sus inversiones (art. 69 N° 2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-119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un banco exceda el margen global de una vez su capital pagado y reservas en inversiones sujetas a este límite, será sancionado con una multa del 10% del exceso de la inversión realizada por cada mes calendario que la manten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s demás infracciones en que un banco pueda incurrir respecto de las operaciones e inversiones podrán ser sancionadas con multa de conformidad con la facultad que el artículo 19 de la LGB le otorga al Superintendente de Ban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Underwritting de Accione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rresponde al N° 25 del artículo 69 y es una operación restituida a los bancos hace pocos años sujeta eso si a diversos controles para impedir que se repitan las razones que movieron al legislador de 1986 para suprimir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560" y="-293760"/>
            <a:ext cx="8373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300880" cy="60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eden actuar como agentes colocadores y garantizar la colocación de acciones de sociedades anónimas abier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caso que el banco deba adquirir las acciones cuya colocación garantizó, debe deshacerse de dichas acciones dentro de un plazo máximo de seis m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entras las acciones estén en poder del banco no tendrán derecho a voz ni voto en las juntas de accioni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garantía que puede otorgar el banco no puede superar el 35% del capital pagado del emisor y esta garantía o las acciones que deba adquirir se computan para los márgenes de crédito del artículo 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6:53:04Z</dcterms:created>
  <dc:creator>Administrador</dc:creator>
  <dc:description/>
  <dc:language>en-US</dc:language>
  <cp:lastModifiedBy>Administrador</cp:lastModifiedBy>
  <dcterms:modified xsi:type="dcterms:W3CDTF">2006-09-20T16:55:15Z</dcterms:modified>
  <cp:revision>1</cp:revision>
  <dc:subject/>
  <dc:title>Inversiones de los Bancos</dc:title>
</cp:coreProperties>
</file>