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933C-FA18-4EBE-8DE5-9FA6A2714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1D77-095C-47F5-9A93-DE1B09F2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5253-6D3C-4AA6-AA32-A3AF3ABFB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75C6-8C5A-4D13-BDB2-0B2B961BF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6E76-E69D-4070-AB1B-9FB5BC41D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15F83-D276-45F7-85AF-A2B9489B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DE40-6733-44D0-952B-B7119DA1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373E-B33B-44C2-8F1E-D2FE50B9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7DE7F-1CA2-4E1D-B0F7-1BA9D81D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D8C3-2BBD-4AD0-B74E-FE4095A9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41E0-18CE-423B-88EC-60AB73FE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C525-A0E0-4B01-B5F6-69792135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5A6B-774C-4E5B-87BE-5EBFB10D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6A74-8A3F-4327-8C72-021A8CC7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B68A-E4C1-4423-9E8C-8929DF4F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579F-003C-4F22-B305-5E325ED1C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7571-8C01-4850-B2E3-59E18AA29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03A9-85E1-475C-8290-7F83A43D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E443-9700-48C0-B7B5-9AC13089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B0C4-FBAD-43B1-A394-8D0D74BF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5594-E495-4BC8-8A85-B6B0C4A8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7421-3F8C-4AA3-93F7-37D4ADEA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8EFE-F4E3-4DD6-9813-D32CEBDE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D30B-CA84-4FC7-BD74-EE344C4D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F6DE-BFE7-4060-8DE3-6D735B6BC0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6379-24AC-4B16-A417-DFA6D8AB65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98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Inversiones de los Banco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755280" y="1341000"/>
            <a:ext cx="7016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NVERSIONES EN DOCUMENTOS, VALORES MOBILIARIOS O EFECTOS DE COMERCIO, DE RENTA FIJ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No sujetas a margen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(artículo 69 N°s 18 y 1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 trata de inversiones en documentos que no representan mayor riesgo de pérdida para el banco, tales como bonos de la deuda interna y cualquiera otra clase de documentos representativos de obligaciones del Estado o de sus instituciones emitidos en serie. Esto incluye documentos emitidos por la tesorería de la República, otras instituciones fiscales, semifiscales o de administración autónoma; del Banco Central de Chile, pero en ningún caso de las empresas del Estado, las que reciben la misma consideración que una empresa privada para este efec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-156960"/>
            <a:ext cx="82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5280" y="260280"/>
            <a:ext cx="829152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Bonos u obligaciones de renta de instituciones internacionales a las que se encuentre adherido el Estado de Chile, como el banco Mundial y el B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Sujetas a margen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(artículo 69 N° 2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cá están incluidas todas las otras inversiones en documentos, valores mobiliarios o efectos de comercio de renta fija, emitidos por cualquier tipo de personas naturales o jurídicas que no estén en alguna de las excepciones antes señala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tas inversiones se consideran como una colocación y computan para los márgenes de crédito del artículo 84 de la LGB y se aplicarán las multas que señala este artículo para cada caso, en caso de infra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mismos límites se aplican a las operaciones de underwritting de documentos de renta fija cuya colocación y servicio sea garantizado por el ban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4920" y="-55440"/>
            <a:ext cx="8302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24000" y="333000"/>
            <a:ext cx="83628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abe hacer presente que si bien las inversiones del N° 20 quedan sujetas a márgenes de crédito, no se suman para el margen de inversión aplicable a inversiones en los bienes a que se refieren los N°s 15, 21, 22 y 23 del art. 6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NVERSIONES EN BIENES FÍSICOS Y AC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tas inversiones consisten en bienes físicos y acciones y están sujetas a un margen global que asciende al total del capital y reservas del ban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bienes cuyo valor conforma dicho margen s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cciones de sociedades que operan en el país, adquiridas en conformidad a los N°s 17 o 21 del art. 6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-11988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4000" y="260280"/>
            <a:ext cx="83628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cciones de bancos o empresas constituidas en el extranjero, adquiridas conforme al art. 69 N° 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Oro amonedado  o en pastas, por expresa referencia del N° 18 parte f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Bienes raíces necesarios para su funcionamiento y servicios anexos. El banco puede arrendar la parte que no utiliza de estos bienes raíces o los que tiene para futura expansión. La determinación de que se entiende por servicios anexos y bienes para futura expansión deberá ser juzgado por la SBIF atendido su subjetividad (art. 69 N° 2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Bienes corporales muebles necesarios para su servicio o la mantención de sus inversiones (art. 69 N° 2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-11988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260280"/>
            <a:ext cx="829152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i un banco exceda el margen global de una vez su capital pagado y reservas en inversiones sujetas a este límite, será sancionado con una multa del 10% del exceso de la inversión realizada por cada mes calendario que la manteng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s demás infracciones en que un banco pueda incurrir respecto de las operaciones e inversiones podrán ser sancionadas con multa de conformidad con la facultad que el artículo 19 de la LGB le otorga al Superintendente de Ban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Underwritting de Acciones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corresponde al N° 25 del artículo 69 y es una operación restituida a los bancos hace pocos años sujeta eso si a diversos controles para impedir que se repitan las razones que movieron al legislador de 1986 para suprimir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50560" y="-293760"/>
            <a:ext cx="8373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4000" y="189000"/>
            <a:ext cx="8300880" cy="60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eden actuar como agentes colocadores y garantizar la colocación de acciones de sociedades anónimas abiert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caso que el banco deba adquirir las acciones cuya colocación garantizó, debe deshacerse de dichas acciones dentro de un plazo máximo de seis m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entras las acciones estén en poder del banco no tendrán derecho a voz ni voto en las juntas de accionis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garantía que puede otorgar el banco no puede superar el 35% del capital pagado del emisor y esta garantía o las acciones que deba adquirir se computan para los márgenes de crédito del artículo 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16:53:04Z</dcterms:created>
  <dc:creator>Administrador</dc:creator>
  <dc:description/>
  <dc:language>en-US</dc:language>
  <cp:lastModifiedBy>Administrador</cp:lastModifiedBy>
  <dcterms:modified xsi:type="dcterms:W3CDTF">2006-09-20T16:55:15Z</dcterms:modified>
  <cp:revision>1</cp:revision>
  <dc:subject/>
  <dc:title>Inversiones de los Bancos</dc:title>
</cp:coreProperties>
</file>