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869EE-D07B-40A7-A882-3C6667476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5F607-F840-47FB-B9AE-1625A0889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864CD-375B-4C2E-95C5-5EDA24F3B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813D4-9BFC-4822-AEEB-EB3DBEF50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CDB4A-9A75-45FE-AF69-3DAA0434A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9D47C-D1A6-4F20-8A6D-32F3F7E76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4758C-FE9D-423D-A30E-B1EA40C3B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60773-E6B2-465B-BEA3-A5C9087EB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1080F-5625-4EDF-B8C8-C6B506453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981C4-529A-4020-A1D1-A602EFE55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F491A-4A1C-46BF-98E3-109C1CA90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0BA5F-51B1-4A75-B607-A600DAFFC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8C52D-8723-4E6A-8536-1493393A9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5AE83-3302-46F6-A9E1-FB84608F2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757C8-AABB-4AD3-A7A4-080017B49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96ABB-489D-4342-BA81-91BCF4301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DF696-274A-4BFE-A8EB-D17E15735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6AD6C-5663-46E1-B718-2C0DF6944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6DF60-1C34-4CF7-89AD-87A95EDBB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389DE-573F-41D6-A270-0CD720E1B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7BAC8-20EC-4029-985A-7B3044B47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7280E-D2AE-496F-A6AC-18B4FB632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65D08-4F67-4556-BF57-44DEB0F6D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3D329-0326-406C-85F4-0A9A4CE6D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CEA0-4815-4B2A-B697-C524F1CF84C8}"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C1A0-B752-41C1-95A8-5A42F7FEC78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15228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locación de acciones de primera emisión por cuenta de terceros</a:t>
            </a:r>
            <a:endParaRPr b="0" lang="en-US" sz="4000" spc="-1" strike="noStrike">
              <a:solidFill>
                <a:srgbClr val="ccecff"/>
              </a:solidFill>
              <a:latin typeface="Arial"/>
            </a:endParaRPr>
          </a:p>
        </p:txBody>
      </p:sp>
      <p:sp>
        <p:nvSpPr>
          <p:cNvPr id="212" name="PlaceHolder 2"/>
          <p:cNvSpPr>
            <a:spLocks noGrp="1"/>
          </p:cNvSpPr>
          <p:nvPr>
            <p:ph type="subTitle"/>
          </p:nvPr>
        </p:nvSpPr>
        <p:spPr>
          <a:xfrm>
            <a:off x="1295280" y="1752120"/>
            <a:ext cx="6477120" cy="4953240"/>
          </a:xfrm>
          <a:prstGeom prst="rect">
            <a:avLst/>
          </a:prstGeom>
          <a:noFill/>
          <a:ln w="0">
            <a:noFill/>
          </a:ln>
        </p:spPr>
        <p:txBody>
          <a:bodyPr lIns="90000" rIns="90000" tIns="46800" bIns="46800" anchor="t">
            <a:noAutofit/>
          </a:bodyPr>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 conformidad con lo dispuesto en el artículo 69 N° 25 de la LGB, los bancos pueden actuar como agentes colocadores de acciones de primera emisión de sociedades anónimas abiertas, encargándose de su colocación sin garantizarla, o bien, comprometiendo su garantía para tal efecto</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 garantía de colocación de acciones por cuenta de terceros que otorguen los bancos, como asimismo el monto de las acciones que adquieran al hacerse esta efectiva, no puede ser superior al equivalente del 35% del capital suscrito y pagado del respectivo emis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11520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nto el importe de la garantía otorgada como el de las acciones que se adquieran, deben ser computados dentro de los límites de crédito a que se refiere el artículo 84 de la LGB</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acciones que los bancos adquieran, deberan ser enajenados dentro del plazo máximo de dos años contado desde la fecha de su adquisición. Este plazo sera de un año, si las acciones adquiridas son de aquéllas en que pueden invertir los fondos de pensiones (art. 106 del D.L. No 3.500)</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venta de las acciones debe hacerse  en el mercado secundario formal, esto es, en rueda o remate en la Bolsa de Valores, o bien a través de una licitación pública si lo autoriza la SBIF cuando el banco justifica la necesidad se efectuar una venta directa y da garantía de transparencia de la operac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banco que mantenga acciones después de vencido el plazo, incurrirá en una multa equivalente al 10% del valor de adquisición actualizado de las mismas, por cada mes calendario que las manteng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peraciones con documentos de la cartera de colocacion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N° 4 del artículo 69 de la LGB faculta a los bancos para descontar letras de cambio, pagarés y otros documentos que representen obligaciones de pag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N° 6 del mismo artículo, por su parte, permite a los bancos adquirir, ceder y transferir efectos de comercio con sujeción a las normas que acuerde el Banco Central de Chi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8" name="PlaceHolder 2"/>
          <p:cNvSpPr>
            <a:spLocks noGrp="1"/>
          </p:cNvSpPr>
          <p:nvPr>
            <p:ph/>
          </p:nvPr>
        </p:nvSpPr>
        <p:spPr>
          <a:xfrm>
            <a:off x="380880" y="380520"/>
            <a:ext cx="8305920" cy="582156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orme a las normas generales de intermediación, se entiende que se efectúa una operación con el público cuando se realiza con una operación diferente de un banco  o sociedad financiera establecida en el paá</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02:46:04Z</dcterms:created>
  <dc:creator>Hugo Luis Caneo Ormazabal</dc:creator>
  <dc:description/>
  <dc:language>en-US</dc:language>
  <cp:lastModifiedBy>Administrador</cp:lastModifiedBy>
  <dcterms:modified xsi:type="dcterms:W3CDTF">2006-09-20T17:23:21Z</dcterms:modified>
  <cp:revision>3</cp:revision>
  <dc:subject/>
  <dc:title>Colocacion de acciones de primera emision por cuenta de terceros</dc:title>
</cp:coreProperties>
</file>