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E64-EAB4-45A6-A4BB-579DF89E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10D-738B-4289-BF86-E4DE0911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A1D-7C17-4C8C-8063-C955C1C0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43E-EBBD-42FC-B1BC-DD7E58D2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8008-A2E6-4329-A749-1703CDF2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FC32-AC9B-4573-9134-B3C4F6B7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2D85-AEA8-4B21-8C2B-0A6BF7BE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DFE0-CFC4-480A-9F8F-175C9D69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FBC4-D58B-4A41-AE3E-5B0FC49A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9929-0A25-44ED-9C42-EB0BC594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9835-8D27-41EC-8012-588E6F42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6DD-BE70-4610-AF8F-8357A866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8DD5-C3FD-4793-8465-5734D4D5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18C7-100B-452F-AF7A-CC9775F3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C601-8527-4BDA-AFB8-26199923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3FB8-7837-43C5-889E-797BA936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3236-D21E-4F5F-9100-5257CEEF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EFD-72B0-4FA3-B490-71273C4F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96B-FA33-4406-A07B-CC5A2D24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ACC8-2FA2-433F-994D-CD08F762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3D3-E0B3-4FE0-8EBD-97A0A480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A4B8-8661-40EF-AD68-F6F15CD0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B16-E0BA-4F40-B567-FE4277BD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64A6-6F74-46F2-8E14-6936E749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E254-BE3F-4287-8662-05F445257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A110-FB6A-471D-9F9D-54892E925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98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nversiones de los Banc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55280" y="1341000"/>
            <a:ext cx="7016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VERSIONES EN DOCUMENTOS, VALORES MOBILIARIOS O EFECTOS DE COMERCIO, DE RENTA FIJ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No sujetas a marge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(artículo 69 N°s 18 y 1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trata de inversiones en documentos que no representan mayor riesgo de pérdida para el banco, tales como bonos de la deuda interna y cualquiera otra clase de documentos representativos de obligaciones del Estado o de sus instituciones emitidos en serie. Esto incluye documentos emitidos por la tesorería de la República, otras instituciones fiscales, semifiscales o de administración autónoma; del Banco Central de Chile, pero en ningún caso de las empresas del Estado, las que reciben la misma consideración que una empresa privada para este ef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-156960"/>
            <a:ext cx="82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Bonos u obligaciones de renta de instituciones internacionales a las que se encuentre adherido el Estado de Chile, como el banco Mundial y el B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Sujetas a marge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(artículo 69 N° 2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á están incluidas todas las otras inversiones en documentos, valores mobiliarios o efectos de comercio de renta fija, emitidos por cualquier tipo de personas naturales o jurídicas que no estén en alguna de las excepciones antes señal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as inversiones se consideran como una colocación y computan para los márgenes de crédito del artículo 84 de la LGB y se aplicarán las multas que señala este artículo para cada caso, en caso de infra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mismos límites se aplican a las operaciones de underwritting de documentos de renta fija cuya colocación y servicio sea garantizado por el ban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920" y="-55440"/>
            <a:ext cx="8302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abe hacer presente que si bien las inversiones del N° 20 quedan sujetas a márgenes de crédito, no se suman para el margen de inversión aplicable a inversiones en los bienes a que se refieren los N°s 15, 21, 22 y 23 del art. 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VERSIONES EN BIENES FÍSICOS Y AC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as inversiones consisten en bienes físicos y acciones y están sujetas a un margen global que asciende al total del capital y reservas del ban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bienes cuyo valor conforma dicho margen s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ciones de sociedades que operan en el país, adquiridas en conformidad a los N°s 17 o 21 del art. 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-119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ciones de bancos o empresas constituidas en el extranjero, adquiridas conforme al art. 69 N° 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o amonedado  o en pastas, por expresa referencia del N° 18 parte f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Bienes raíces necesarios para su funcionamiento y servicios anexos. El banco puede arrendar la parte que no utiliza de estos bienes raíces o los que tiene para futura expansión. La determinación de que se entiende por servicios anexos y bienes para futura expansión deberá ser juzgado por la SBIF atendido su subjetividad (art. 69 N° 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Bienes corporales muebles necesarios para su servicio o la mantención de sus inversiones (art. 69 N° 2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-119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un banco exceda el margen global de una vez su capital pagado y reservas en inversiones sujetas a este límite, será sancionado con una multa del 10% del exceso de la inversión realizada por cada mes calendario que la manten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s demás infracciones en que un banco pueda incurrir respecto de las operaciones e inversiones podrán ser sancionadas con multa de conformidad con la facultad que el artículo 19 de la LGB le otorga al Superintendente de Ban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Underwritting de Accione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rresponde al N° 25 del artículo 69 y es una operación restituida a los bancos hace pocos años sujeta eso si a diversos controles para impedir que se repitan las razones que movieron al legislador de 1986 para suprimir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560" y="-293760"/>
            <a:ext cx="8373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8300880" cy="60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eden actuar como agentes colocadores y garantizar la colocación de acciones de sociedades anónimas abier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caso que el banco deba adquirir las acciones cuya colocación garantizó, debe deshacerse de dichas acciones dentro de un plazo máximo de seis m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entras las acciones estén en poder del banco no tendrán derecho a voz ni voto en las juntas de accioni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garantía que puede otorgar el banco no puede superar el 35% del capital pagado del emisor y esta garantía o las acciones que deba adquirir se computan para los márgenes de crédito del artículo 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6:53:04Z</dcterms:created>
  <dc:creator>Administrador</dc:creator>
  <dc:description/>
  <dc:language>en-US</dc:language>
  <cp:lastModifiedBy>Administrador</cp:lastModifiedBy>
  <dcterms:modified xsi:type="dcterms:W3CDTF">2006-09-20T16:55:15Z</dcterms:modified>
  <cp:revision>1</cp:revision>
  <dc:subject/>
  <dc:title>Inversiones de los Bancos</dc:title>
</cp:coreProperties>
</file>