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E8DB9-3C0E-4C56-BED3-33CE0F1E7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E1D65-A649-4DB5-97F1-792E41FC4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02B5A-2464-4CEC-9198-0F61BC386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84110-52D2-4F58-8F10-E8E45A371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FC128-9BCD-448F-97F9-F80BCE38E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6FBBB-58D0-49ED-BC56-85D6564C3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429D6-D079-4DA9-B4B8-D7BE116CD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90A9A-5F35-4C2D-ADE2-074D9DEDC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D6ED2-3060-496B-93C4-3D0660C15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05BCA-E053-407D-AB0D-D458088FF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AA2D-52C9-40A4-ACAF-B8DC3F89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D16E3-9249-4974-88DF-C73C76E84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653D7-3DFC-45D8-9831-846A3970E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2E146-AE91-47FD-A291-A60D9745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D1017-3B36-4AA6-BCE2-09062A04F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93DF8-D3F9-43EA-B64E-E3AAF44DC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C31C7-97FE-4ED5-AD3F-B0B36B7AA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4745E-932A-4723-9C3F-AC3D3E651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6284-FD99-47CF-8A50-B6E9C74CE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7376A-4337-45A2-95A9-9075EEF45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C2C52-EFC1-4DB7-A0B9-E4A6DE956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B463-72AC-43D3-8D39-BEC9458C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8B11-1185-4576-8019-789E5FE4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A8949-538C-42D9-A2CD-635828FF2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2193-CAA3-43AA-B2DF-525BB270A38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43A8-932E-4FE1-A967-9EF2D5E2F4E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240"/>
            <a:ext cx="769644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ciones con Letras de Credito</a:t>
            </a:r>
            <a:endParaRPr b="0" lang="en-US" sz="4000" spc="-1" strike="noStrike">
              <a:solidFill>
                <a:srgbClr val="ccecff"/>
              </a:solidFill>
              <a:latin typeface="Arial"/>
            </a:endParaRPr>
          </a:p>
        </p:txBody>
      </p:sp>
      <p:sp>
        <p:nvSpPr>
          <p:cNvPr id="212" name="PlaceHolder 2"/>
          <p:cNvSpPr>
            <a:spLocks noGrp="1"/>
          </p:cNvSpPr>
          <p:nvPr>
            <p:ph type="subTitle"/>
          </p:nvPr>
        </p:nvSpPr>
        <p:spPr>
          <a:xfrm>
            <a:off x="1218960" y="1599840"/>
            <a:ext cx="6476760" cy="4800600"/>
          </a:xfrm>
          <a:prstGeom prst="rect">
            <a:avLst/>
          </a:prstGeom>
          <a:noFill/>
          <a:ln w="0">
            <a:noFill/>
          </a:ln>
        </p:spPr>
        <p:txBody>
          <a:bodyPr lIns="90000" rIns="90000" tIns="46800" bIns="46800" anchor="t">
            <a:noAutofit/>
          </a:bodyPr>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 operación bancaria está mencionada en el N° 5 del artículo 69 de la LGB y su regulación particular está tratada en el Titulo XIII de la LGB (arts. 91 a 111), las normas específicas de los Capítulos II.A.1.1, II.A.1.2 y las instrucciones del Capítulo 9-1 de la RAN</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banco emite letras de crédito en series homogéneas con igual amortización e interés y las entrega en préstamo a sus clientes para que éstos ocupen su producido en la compra, construcción de un bien raiz u otros fines determinado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cliente da en pago las letras a su contraparte o las vende para hacer din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0" name="" descr=""/>
          <p:cNvPicPr/>
          <p:nvPr/>
        </p:nvPicPr>
        <p:blipFill>
          <a:blip r:embed="rId1"/>
          <a:stretch/>
        </p:blipFill>
        <p:spPr>
          <a:xfrm>
            <a:off x="457200" y="1600200"/>
            <a:ext cx="4038480" cy="2185920"/>
          </a:xfrm>
          <a:prstGeom prst="rect">
            <a:avLst/>
          </a:prstGeom>
          <a:ln w="0">
            <a:noFill/>
          </a:ln>
        </p:spPr>
      </p:pic>
      <p:pic>
        <p:nvPicPr>
          <p:cNvPr id="231" name="" descr=""/>
          <p:cNvPicPr/>
          <p:nvPr/>
        </p:nvPicPr>
        <p:blipFill>
          <a:blip r:embed="rId2"/>
          <a:stretch/>
        </p:blipFill>
        <p:spPr>
          <a:xfrm>
            <a:off x="4648320" y="1600200"/>
            <a:ext cx="4038480" cy="2185920"/>
          </a:xfrm>
          <a:prstGeom prst="rect">
            <a:avLst/>
          </a:prstGeom>
          <a:ln w="0">
            <a:noFill/>
          </a:ln>
        </p:spPr>
      </p:pic>
      <p:pic>
        <p:nvPicPr>
          <p:cNvPr id="232" name="" descr=""/>
          <p:cNvPicPr/>
          <p:nvPr/>
        </p:nvPicPr>
        <p:blipFill>
          <a:blip r:embed="rId3"/>
          <a:stretch/>
        </p:blipFill>
        <p:spPr>
          <a:xfrm>
            <a:off x="457200" y="3938760"/>
            <a:ext cx="4038480" cy="2187360"/>
          </a:xfrm>
          <a:prstGeom prst="rect">
            <a:avLst/>
          </a:prstGeom>
          <a:ln w="0">
            <a:noFill/>
          </a:ln>
        </p:spPr>
      </p:pic>
      <p:pic>
        <p:nvPicPr>
          <p:cNvPr id="233" name="" descr=""/>
          <p:cNvPicPr/>
          <p:nvPr/>
        </p:nvPicPr>
        <p:blipFill>
          <a:blip r:embed="rId4"/>
          <a:stretch/>
        </p:blipFill>
        <p:spPr>
          <a:xfrm>
            <a:off x="4648320" y="3938760"/>
            <a:ext cx="4038480" cy="2187360"/>
          </a:xfrm>
          <a:prstGeom prst="rect">
            <a:avLst/>
          </a:prstGeom>
          <a:ln w="0">
            <a:noFill/>
          </a:ln>
        </p:spPr>
      </p:pic>
      <p:sp>
        <p:nvSpPr>
          <p:cNvPr id="234" name="PlaceHolder 2"/>
          <p:cNvSpPr>
            <a:spLocks noGrp="1"/>
          </p:cNvSpPr>
          <p:nvPr>
            <p:ph/>
          </p:nvPr>
        </p:nvSpPr>
        <p:spPr>
          <a:xfrm>
            <a:off x="456840" y="-360"/>
            <a:ext cx="8458200" cy="66294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de una amortización extraordinaria total de la deuda, el deudor debe pagar los dividendos del periodo de amortización en que se efectúe el pago anticipado, más el capital insoluto que resulte una vez deducida la amortización incluida en dichos dividen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se trate de amortizaciones anticipadas parciales, el pago se aplicará proporcionalmente a los dividendos restantes, de modo que el importe de estos se rebajará sin alterar el plazo pactado de ella. En este caso, el monto pagado por el deudor se aplicará al capital insoluto a la fecha del pago y, sobre la base del saldo resultante y del plazo remanente, se recalcularán los dividendos que deben pagarse a partir del mes sigui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conformidad con el inciso segundo del artículo 100 de la LGB, el deudor que amortice en forma extraordinaria, total o parcialmente el saldo de su deuda, debe pagar a la entidad emisora, adicionalmente, una suma equivalente al interes y comisión de su préstamo, calculado sobre el monto que se amoritce extraordinariam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ste cobro adicional de intereses y comisiones, es un derecho que la ley confiene a las entidades emisoras y, por tanto es perfectamente renunciab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los bancos podrán recibir, a petición del deudor, el pago de dividendos, por un periodo máximo de seis meses, sin que se considere amortización extraordinaria del respectivo préstam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amortización extraordinaria se realiza como consecuencia de la aplicación del seguro de desgravaman, no procede cobrar a la sucesión del deudor fallecido, la comisión de prepago que le permite la LGB a los bancos cobrar en este tipo de crédi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mortización Extraordinaria de Letras de Crédito:</a:t>
            </a:r>
            <a:r>
              <a:rPr b="0" lang="en-US" sz="2000" spc="-1" strike="noStrike">
                <a:solidFill>
                  <a:srgbClr val="ffffff"/>
                </a:solidFill>
                <a:latin typeface="Arial"/>
              </a:rPr>
              <a:t> los bancos podrán realizar amortizacián extraordinaria de letras de crédito, únicamente por alguno de los motivos que se señalan en los numerales siguiente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un deudor pague en dinero el total  o parte de su deuda, hasta por el importe de dicho pag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deudor pague el total o parte de su deuda mediante letras de crédit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la garantía hipotecaria que caucione un préstamo de esta naturaleza, no se encontrate inscrita en el Conservador de Bienes raices dentro de un plazo de 180 días corridos contados desde la fecha de la escritura de mutu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banco ejecute la garantia hipotecaria, deberá, asimismo, efectuar una amortización extraordinaria de letras de crédito, por el importe obtenido en el remate del inmueble. Lo mismo sucederá cuando castigue el total o parte de un crédito hipotec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uando un préstamo con letras de crédito está en mora, el banco tiene la facultad de efectuar amortización extraordinaria, siempre que la garantía que caucione dicho préstamo tenga un valor inferior en más de un 60% respecto del valor de tasación o al precio de compraventa del inmueble, previamente actualizados, que se tuvieron en consideración para otorgar los respectivos préstam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ctualización del valor de la garantía se hará sobre la base de la variación de la UF y el valor actual del respectivo inmueble deberá corresponder al obtenido de una tasación con una antigüedad no superior a tres meses y basada en el valor de mercado, realizada por profesionales independientes e idóne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 por préstamo en mora, para este efecto, aquellos que registren 10 o más dividendos impagos a una morosidad de un año  o más, en caso de dividendos con una periodicidad de pago mayor a la mens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amoritzaciones extraordinarias por este concepto podrán realizarlas los bancos en el periodo que corresponda según las características de las letras de crédito de que se trate, esto es, en forma trimestral, semestral, etc</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formación al deudor hipotecario:</a:t>
            </a:r>
            <a:r>
              <a:rPr b="0" lang="en-US" sz="2000" spc="-1" strike="noStrike">
                <a:solidFill>
                  <a:srgbClr val="ffffff"/>
                </a:solidFill>
                <a:latin typeface="Arial"/>
              </a:rPr>
              <a:t> los bancos deberán informar en forma ANTICIPADA, acerca de los gastos globales aproximados de la operacion, considerando los sifuientes item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o de impuesto de timbres y estampilla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echos de inscripción en el CBR</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stos notariales necesarios para el perfeccionamiento del contrato de mutu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 seguro de incendi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ación del inmueble hipotec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 seguro desgravam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304560" y="152280"/>
            <a:ext cx="8381880" cy="6400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rima seguro de cesantóa involuntaria, en caso que el deudor de crédito para vivienda decida contratar este seguro; y,</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Estudio de titulos y redacción de escritura</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se deberá informar al deudor del plazo de la operación, la tasa de interés que devengará y la comisión que el banco cobrará. Si la tasa de interés contratatada es variable, deberá hacerse notar particularmente la variabilidad de los dividen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mente, deberá explicarse de manera general el sistema de financiamiento a través de la emisión de letras de crédito, con especial mención de las opciones que existen para vender las respectivas letras de crédito en el mercado o para que las adquiera la propia institución emiso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erá informarse del plazo estimado para la venta de las letras de crédito, en caso que esta venta se entregue al banco emisor;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las diferencias que puedan producirse en dicha venta en relación con su valor par y la política de la institución en cuanto a garantizar el precio de compra de tales instrumentos.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deberá hacerse presente que en la correspondiente escritura de mutuo debera precisarse la parte contratante que se hará cargo de las diferencias de precio en la venta de las letra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Información que debe incluir la liquidación:</a:t>
            </a:r>
            <a:r>
              <a:rPr b="0" lang="en-US" sz="2000" spc="-1" strike="noStrike">
                <a:solidFill>
                  <a:srgbClr val="ffffff"/>
                </a:solidFill>
                <a:latin typeface="Arial"/>
              </a:rPr>
              <a:t> los bancos deben entregar al beneficiario de préstamos en letras de crédito, ya sea que se hubieren otorgado para la adquisición, construcción o ampliación de viviendas o para fines generales o que se destinen al pago anticipado de otro préstamo de igual naturaleza, una liquidación en que conste cada uno de los gastos incurridos en la operación antes mencionados y otros datos tales com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1240"/>
            <a:ext cx="80773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alendario de servicios de la deuda contraída, señalando el valor del dividendo a pagar en cada fecha de pago, cuando la tasa de interés sea fija, o bien, sólo el monto de la amortización y de la comisión y la fórmula para calcular los intereses, cuando se trate de créditos con tasa de interés flota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ecio al cual se vendieron las letras de crédito asociadas al mutuo, el valor par de las letras de crédito en la fecha de venta y la diferencia entre ambos valores. Esta información debe expresarse en números y en porcentajes del valor par.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debe acompañarse el respectivo comprobante de la compravent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cado en que se efectuó la venta de las letras de crédito, esto es, si se vendieron en una bolsa de valores o fuera de ella, o si fueron adquiridas parcial o totalmente por el banco emisor o por una persona relacionada a ell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debe entregarse información sobre el precio de mercado y los porcentajes de descuento implícitos observados en la venta de letras de crédito de la misma serie, mismo año de emisión y del mismo emisor que las del respectivo crédito o esta misma información respecto de instrumentos con características similares de otras series del mismo emis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be hacer presente que si bien las normas del Banco Central de Chile, no permiten otorgar garantía de liquidez anticipada, facultan a las instituciones financieras para pactar con el deudor un precio de adquisición por el total o parte de las letras de crédito que se emitan, dejándose expresa constancia de dicho pacto en el mismo contrato de mutu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hemos dicho que es posible prepagar los creditos hipotecarios con letras y para tal efecto una alternativa es hacerlo con otros préstamo que se contrata para ese f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e nuevo préstamo, también puede ser uno  con letras de crédito y en el pueden incluirse, si se quiere, todos los gastos que demande su otorga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uevo préstamo puede estar garantizado con la misma garantía del crédito que se prepag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al caso, sera suficiente la tasación de los respectivos inmuebles, efectuada al otorgar el crédito original, a menos que el banco acreedor considere necesario practicar una nueva tasac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os préstamos con letras de crédito el valor del préstamo no puede exceder del 60% o 75% del valor de la garantía, según correspond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liente se obliga a pagar el préstamo en un número de años, por medio de dividendos anticipados que comprenden, amortizacion, interés y comisió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su parte, el banco paga con este dinero en forma vencida a los tenedores de las letras de crédito y puede hacerlo como amortización directa (amortizando parcialmente en cada pago) o indirecta (amortizando el capital total al final)</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as operaciones hay tres partes que cumplen sus obligaciones independientemente: el deudor paga sus dividendos al banco; el banco paga a los tenedores de las letras de crédito, y el banco gana solamente la comisión que el deudor le abona, pues el pago del capital y del interés, es igual en ambos sentid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91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pueden adquirir letras de crédito de propia emisión para efectuar amortizaciones extraordinarias, caso en el cual se anulan al momento de recibirse, concretando la amortizacion prevista, y podran adquirir letras de su propia emisión cuando asi lo convenga con el tenedor de las mismas letras hasta el límite permitido por las normas del Banco Central de Chi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jecución forzada de estos préstamos está sujeto al procedimiento especial contemplado en los artículos 103 al 111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utuos Hipotecarios Endosables</a:t>
            </a:r>
            <a:endParaRPr b="0" lang="en-US" sz="32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están facultados para otorgar préstamos endosables con garantía hipotecaria (art. 69 No 7 de la LGB y las normas de la SBIF)</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contratos de mutuo se extienden en escritura pública que llevará la claúsula a la orden, de la cual se otorgará una sola copia autorizada endosable que queda en manos del banco acree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utuo y la hipoteca que lo garantiza deberán constar en el mismo document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préstamos podrán otorgarse para el financiamiento de viviendas o para fines gener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préstamos no podrán otorgarse a plazos inferiores a 1 año ni superiores a 30 añ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garantía hipotecaria debe contar con un seguro de incendio por el valor de tasación del inmueble, el que se mantendrá hasta la extinción del importe total de la deud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utuario deberá mantener vigente un seguro de desgravamen por un monto equivalente al saldo insoluto de la deud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o establecido en el articulo 5° de la Lery No 19.439, los bancos podrán seguir un procedimiento simplificado de escrituración  de los mutuos mediante escrituras con claúsulas generales inscritas en el respectivo registro de hipotecas y gravámenes  del CB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313560"/>
            <a:ext cx="83055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monto de los mutuos hipotecarios endosables que otorguen los bancos, no podrán exceder, en cada caso, el 80% del valor de tasación del inmueble ofrecido en garantí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mutuo está destinado a financiar la compraventa de un bien raíz, el préstamo no deberá exceder del precio de la compraventa o del 80% de ese precio, si este último fuese inferior al valor de tasación</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os créditos también es posible constituir la garantía en segundo grado siempre que la de primer grado no sea general y que sumada al crédito amparado por la segunda hipoteca no exceda del 65% u 80% del valor de tasación del inmueble ni del precio de venta del bien raíz</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sembolso del importe del préstamo se efectuará una vez inscrita la hipoteca respectiva, en el correspondiente registro del Conservador de Bienes Ra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reembolso de estos préstamos se hará por medio de dividendos mensuales vencidos. No podrán pactarse dividendos crecientes o decrecientes, ni plazos de gracia superiores a tres meses a contar de la fecha de otorgamiento del crédi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prepagos totales o parciales de los créditos concedidos con los mutuos hipotecarios endosables quedan sujetos a las disposiciones del artículo 10° de la Ley 18.010 (ver Capítulo 7-1 de la RA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caso de amortizaciones totales o parciales deberá establecerse la forma en que se aplicarán esos pagos en las cuotas de capital adeudado. Los contratos podrán contemplar también los montos mínimos para la amortización extraordinaria de estos préstam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i la amortización se realiza como consecuencia de la aplicación del seguro de desgravamen, no procede cobrar a la sucesión del deudor fallecido la comisión de prepago de la Ley 18.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 mutuos endosables serán transferibles mediante endoso escrito a continuación, al margen o al dorso de la copia autorizada endosable de la escritura pública respectiv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cesión del crédito implica el traspaso de las garantías, derechos y privilegios del acree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ndoso es siempre sin responsabilidad para el cedente, salvo en lo relativo a la existencia del crédito, y deberá contener el nombre completo o razón social de la institución endosataria, su domicilio, la fecha en que se haya extendido y la firma del ced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fines de información, el endoso deberá anotarse al margen de la inscripción hipotecaria de la propiedad entregada en garantía, en el correspondiente CB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venta de estos créditos se hará siempre por documentos completos, no pudiendo, por lo tanto, cederse participaciones sobre los mismos. Tampoco podrán venderse con pacto de retrocompra ni modificar sus condiciones, como ocurriría con la sustitución de garantías hipotecarias u otras modificaciones que alteren la naturaleza de la obligación principal</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odrán ser cesionarios de estos crédito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banco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sociedades securitizadoras (Ley 18.045) y los fondos de inversión de créditos securitizados a que se refiere la Ley 18.815, debiendo además cumplirse con las normas del Capítulo III.B.4 del Compendio de Normas Financieras del Banco Central de Chile</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añías de seguros del segundo grupo (art. 8° del D.F.L. N° 251) o las sociedades administradoras de estos mutuos hipotecarios endosable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ociedades anónimas inmobiliarias a que se refiere el artículo 98, letras j) del D.L. 3.5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alvo que el crédito sea cedido a alguna de las entidades antes mencionadas, la cobranza del mutuo quedará en manos de la institución cedente, la que además de percibir los importes que correspondan estará facultada para alzar el gravamen, cuando proce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caso de extravío, pérdida o deterioro de los mutuos hipotecarios endosables, se aplicarán las normas del párrafo 9° del Título I de la Ley 18.092, de conformidad con lo previsto en el artículo 1° de la Ley 18.552</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rocedimiento para ejecutar forzadamente los contratos de mutuos hipotecarios endosables celebrados a contar del 31 de enero de 1996, de acuerdo a la Ley 19.439, quedará sujeto a las disposiciones especiales de los artículos 103 a 111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conformidad con lo dispuesto en el artículo 21 bis del D.F.L. N° 251, las compañías de seguros del segundo grupo, podrán otorgar, por intermedio de un agente administrador este tipo de créditos, o adquirirl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conformidad con el mismo artículo 21 bis y en virtud de las normas contenidas en el artículo 69 N° 7 de la LGB, las instituciones financieras están facultadas para actuar como agentes administradores de compañías de seguro del segundo grupo, en el otorgamiento, adquisición y administración de mutuos hipotecarios endosab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bancos que actúan como agentes administradores deben contratar una póliza de seguro que cubra el cabal cumplimiento de las obligaciones inherentes a dicha función y los eventuales perjuicios que puedan causar al deudor del mutuo y son responsables de la eficacia de los contratos y garantí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onjunto de operaciones con letras de crédito y de préstamos hipotecarios de un banco constituyen un patrimonio que puede apartarse, lo que es importante cuando un banco es liquid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onto de las letras de crédito en circulación emitidas por una institución financiera deben mantener un equilibrio permanente con el saldo de préstamos en letras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emisiones de letras de crédito por un banco debe ser acordada por su directorio tras lo cual debe presentarse un prospecto de la emisión y sus condiciones generales a la SBI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obligaciones en letras deben garantizarse con hipoteca. Actualmente, no es necesario que la hipoteca se encuentre inscrita para que se ponga la letra de crédito en circulación; basta con que esté autorizada la escritura en que se otorga la hipotec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ontratos de compraventa y mutuo hipotecario, correspondientes a préstamos para la vivienda, deben contener claúsulas obligatorias dispuestas por la SBIF</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conforme al articulo 5° de la Ley No 19.439, pueden seguir un procedimiento simplificado de escrituración de los mutuos, mediante escrituras públicas de claúsulas generales inscritas en el Registro de Hipotecas y Gravámenes del respectivo Conservador de Bienes Raic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escrituras deben contener claúsulas comunes a todos los mutuos y constituirán un contrato de adhe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1484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04560" y="380520"/>
            <a:ext cx="8381880" cy="57452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Condiciones Generales de los Préstam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normas del Banco Central de Chile establecen que los préstamos que efectúan los bancos bajo esta modalidad, no podrán exceder del 75% del valor de tasación del inmueble ofrecido en garantí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aso de compraventa de bienes raices, dichos préstamos tampoco podrán exceder del mencionado importe o del 75% del precio de venta del respectivo inmueble si este último precio fuere inferior al valor de tasació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réstamos en moneda extranjera o aquellas en moneda chilena indexadas en moneda extranjera, tiene un limite del 60%</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deben considerarse los márgenes individuales de crédito del artículo 84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préstamos para adquirir o construir viviendas cuyo valor de tasación sea igual o inferior al equivalente a 3.000 UF, el dividendo que se pacte no podrá exceder, al momento del otorgamiento del crédito, al 25% de los ingresos del prestatari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tos efectos, además de los ingresos del prestatario debe considerarse, los de un tercero, cuando se constituya en fiador  y codeudor solidario del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hipoteca a favor del banco, en este tipo de operaciones, debe ser de primer g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o existe la posibilidad de que lo sea de segundo grado, siempre que la obligación caucionada por la primera hipoteca sumada al crédito amparado en la segunda hipoteca, no exceda del 60% o 75% del valor de tasación del inmueble o de su precio de ven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tasación de la garantía la efectúa un perito designado por el banco y en este procedimiento es importante que se consideren y ponderen correctamente los factores que inciden en el valor que se le asigne al bien (riesgo de crédito si la garantia no cubre el total de la oblig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mencionó antes, en este tipo de créditos los bancos ganan la comisión pactada y que aparece en las letras emitidas claramente identificadas para no confundirla con la amortización e intereses de las letras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omisión puede consistir en un monto  fijo o  en una proporción del capital insoluto del préstamo y ella sumada a la tasa de interés de las letras de crédito, no podrá  exceder a la tasa de interés máxima convencional vigente al momento de la conven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 del Capítulo II.A.1 del Compendio de Normas Financieras del Banco Central, dispone que el reembolso de los préstamos otorgados mediante estos instrumentos se hará por medio de dividendos anticipados que comprenderan el interés, la amortización y la comis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n por dividendos anticipados aquellos cuyo pago deba hacerse al comienzo de cada uno de los intervalos de pago acord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tervalo debe ser mensual, debiendo pagarse los dividendos dentro de los diez primeros díaz del respectivo perio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préstamos para la vivienda, la suma de tres dividendos mensuales debe corresponder al valor del cupon trimestral de las letras de crédito emitid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ma de los dividendos del mutuo, cualquiera sea la periodicidad en que deban ser pagados, debe ser coincidente, en lo que a cuota de capital e intereses se refiere, con la respectiva cuota de amortización de capital e intereses de las correspondientes letras de credito emiti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mortización Extraordinaria:</a:t>
            </a:r>
            <a:r>
              <a:rPr b="0" lang="en-US" sz="2000" spc="-1" strike="noStrike">
                <a:solidFill>
                  <a:srgbClr val="ffffff"/>
                </a:solidFill>
                <a:latin typeface="Arial"/>
              </a:rPr>
              <a:t> el artículo 100 de la LGB faculta a los deudores de préstamos en letras de crédito para reembolsar anticipadamente todo  o parte del capital no amortizado de su deuda, ya sea en dinero o en letras de crédito de la misma serie, año y emis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pago se realice con letras de crédito, éstas deben ser recibidas por el valor nominal del respectivo título, descontadas las amortizaciones parciales antes efectuadas, en el caso de que se trate de letras con amortización directa, o a su valor par cuando lo sean con amoritzación indirec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1T03:36:58Z</dcterms:created>
  <dc:creator>Hugo Luis Caneo Ormazabal</dc:creator>
  <dc:description/>
  <dc:language>en-US</dc:language>
  <cp:lastModifiedBy>Administrador</cp:lastModifiedBy>
  <dcterms:modified xsi:type="dcterms:W3CDTF">2006-09-05T19:25:57Z</dcterms:modified>
  <cp:revision>15</cp:revision>
  <dc:subject/>
  <dc:title>Operaciones con Letras de Credito</dc:title>
</cp:coreProperties>
</file>