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F367-DDAD-47C9-AA2C-F263F124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C6DF-C1EF-47BA-8BBE-CEDB9B22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38F1-7B68-456E-BD0F-41613B9E7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67AD-D1A7-4A9B-B947-883A5D912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FBAE-0789-42B5-A808-7E2EAFE8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5AC4-0891-4940-BF04-0519E871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8215-DC56-40F2-84ED-E66F3FC5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7B4A-369F-4440-ABEF-EEDCB171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6A91-E736-40F0-A6B8-C659ECD3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8E16-63F1-427A-947D-10113CCF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75AF-2E69-471D-84D9-C381A9E3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DD1A-BF04-4BBA-A316-248DCEBC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C766-3421-44BC-BA09-84AC24DA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9B6B-ED10-4E7E-8674-55AB29AC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D9EF-489A-4119-A184-FB67B259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38E9-8B4B-4A91-8906-A94DEE75A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E3D5-C00B-491D-BF5A-FCA57092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0118-8AF9-45DA-A8FA-D14B0090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4C62-8693-44E9-B6E6-AA48B42F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1376-BF37-432C-88BE-A0C9995F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97C4-EF9B-4A0C-9889-55806479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B98D-0F69-4826-89D3-CD5F59BB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AD35-C34F-4E67-868C-457C8B64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9568-F04E-4DC8-9A63-FFBA1063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A472-5E1C-4F5B-BACF-89470A59BB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1D8F-2B37-4125-92A4-1C76B90B0B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98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nversiones de los Banco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55280" y="1341000"/>
            <a:ext cx="7016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NVERSIONES EN DOCUMENTOS, VALORES MOBILIARIOS O EFECTOS DE COMERCIO, DE RENTA FIJ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No sujetas a margen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(artículo 69 N°s 18 y 1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 trata de inversiones en documentos que no representan mayor riesgo de pérdida para el banco, tales como bonos de la deuda interna y cualquiera otra clase de documentos representativos de obligaciones del Estado o de sus instituciones emitidos en serie. Esto incluye documentos emitidos por la tesorería de la República, otras instituciones fiscales, semifiscales o de administración autónoma; del Banco Central de Chile, pero en ningún caso de las empresas del Estado, las que reciben la misma consideración que una empresa privada para este efe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-156960"/>
            <a:ext cx="82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829152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Bonos u obligaciones de renta de instituciones internacionales a las que se encuentre adherido el Estado de Chile, como el banco Mundial y el B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Sujetas a margen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(artículo 69 N° 2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cá están incluidas todas las otras inversiones en documentos, valores mobiliarios o efectos de comercio de renta fija, emitidos por cualquier tipo de personas naturales o jurídicas que no estén en alguna de las excepciones antes señala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tas inversiones se consideran como una colocación y computan para los márgenes de crédito del artículo 84 de la LGB y se aplicarán las multas que señala este artículo para cada caso, en caso de infra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mismos límites se aplican a las operaciones de underwritting de documentos de renta fija cuya colocación y servicio sea garantizado por el ban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4920" y="-55440"/>
            <a:ext cx="8302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24000" y="333000"/>
            <a:ext cx="83628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abe hacer presente que si bien las inversiones del N° 20 quedan sujetas a márgenes de crédito, no se suman para el margen de inversión aplicable a inversiones en los bienes a que se refieren los N°s 15, 21, 22 y 23 del art. 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NVERSIONES EN BIENES FÍSICOS Y AC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tas inversiones consisten en bienes físicos y acciones y están sujetas a un margen global que asciende al total del capital y reservas del ban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bienes cuyo valor conforma dicho margen s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cciones de sociedades que operan en el país, adquiridas en conformidad a los N°s 17 o 21 del art. 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-11988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4000" y="260280"/>
            <a:ext cx="83628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cciones de bancos o empresas constituidas en el extranjero, adquiridas conforme al art. 69 N° 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Oro amonedado  o en pastas, por expresa referencia del N° 18 parte f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Bienes raíces necesarios para su funcionamiento y servicios anexos. El banco puede arrendar la parte que no utiliza de estos bienes raíces o los que tiene para futura expansión. La determinación de que se entiende por servicios anexos y bienes para futura expansión deberá ser juzgado por la SBIF atendido su subjetividad (art. 69 N° 2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Bienes corporales muebles necesarios para su servicio o la mantención de sus inversiones (art. 69 N° 2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-11988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829152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i un banco exceda el margen global de una vez su capital pagado y reservas en inversiones sujetas a este límite, será sancionado con una multa del 10% del exceso de la inversión realizada por cada mes calendario que la manteng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s demás infracciones en que un banco pueda incurrir respecto de las operaciones e inversiones podrán ser sancionadas con multa de conformidad con la facultad que el artículo 19 de la LGB le otorga al Superintendente de Ban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Underwritting de Acciones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corresponde al N° 25 del artículo 69 y es una operación restituida a los bancos hace pocos años sujeta eso si a diversos controles para impedir que se repitan las razones que movieron al legislador de 1986 para suprimir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0560" y="-293760"/>
            <a:ext cx="8373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4000" y="189000"/>
            <a:ext cx="8300880" cy="60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eden actuar como agentes colocadores y garantizar la colocación de acciones de sociedades anónimas abier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caso que el banco deba adquirir las acciones cuya colocación garantizó, debe deshacerse de dichas acciones dentro de un plazo máximo de seis m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entras las acciones estén en poder del banco no tendrán derecho a voz ni voto en las juntas de accionis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garantía que puede otorgar el banco no puede superar el 35% del capital pagado del emisor y esta garantía o las acciones que deba adquirir se computan para los márgenes de crédito del artículo 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16:53:04Z</dcterms:created>
  <dc:creator>Administrador</dc:creator>
  <dc:description/>
  <dc:language>en-US</dc:language>
  <cp:lastModifiedBy>Administrador</cp:lastModifiedBy>
  <dcterms:modified xsi:type="dcterms:W3CDTF">2006-09-20T16:55:15Z</dcterms:modified>
  <cp:revision>1</cp:revision>
  <dc:subject/>
  <dc:title>Inversiones de los Bancos</dc:title>
</cp:coreProperties>
</file>