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2CF5-8D84-4614-8769-AA926D43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DA6E-9073-41A5-AD2F-5BABF1F7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DA41-91D4-43B0-88C5-FFF55101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04B0-FE21-4423-97EB-5186EE1D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8504-DE15-4FD8-B85F-27F612B3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9951-4566-491D-BD35-7BC7BA10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0190-6C10-4FA8-AF86-386FDBC9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0993-3441-40CA-84DD-9ACDCB3E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5BAA-506A-4F6D-BE1D-8DC763C9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C4E0-8AC8-44C3-96F5-EE81F711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5F34-EBC5-432C-9150-AB20D6CD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8A1E-C3EC-42FF-B7F9-06882C95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D7E0-6EC1-418A-BC88-E53F17FC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3978-927C-41CB-B523-9158AFCC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0FB8-1494-48EB-BB90-04276242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A7A6-C1AB-4072-BF66-74DB814B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2514-C51C-4DA6-8C85-830E3FA3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04A9-849A-4D8D-8DB1-BBB00101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D187-35A8-4E89-8DA5-B856E793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7C4A-29D8-41F0-846D-A38E5BB2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B0E0-D3AA-40EF-90EF-51141DDB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2F0A-5FB5-4E0E-A793-19E41A52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4B8C-B6CA-441A-B542-FD1DA1AD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B255-80E5-4627-AC7E-0C336D87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9431-4207-44AD-B6AF-7AA32A99BA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133E-B816-4875-A1EC-2B7ECEC9BB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98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nversiones de los Banco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55280" y="1341000"/>
            <a:ext cx="7016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VERSIONES EN DOCUMENTOS, VALORES MOBILIARIOS O EFECTOS DE COMERCIO, DE RENTA FIJ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No sujetas a marge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(artículo 69 N°s 18 y 1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trata de inversiones en documentos que no representan mayor riesgo de pérdida para el banco, tales como bonos de la deuda interna y cualquiera otra clase de documentos representativos de obligaciones del Estado o de sus instituciones emitidos en serie. Esto incluye documentos emitidos por la tesorería de la República, otras instituciones fiscales, semifiscales o de administración autónoma; del Banco Central de Chile, pero en ningún caso de las empresas del Estado, las que reciben la misma consideración que una empresa privada para este efe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-156960"/>
            <a:ext cx="82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Bonos u obligaciones de renta de instituciones internacionales a las que se encuentre adherido el Estado de Chile, como el banco Mundial y el B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Sujetas a marge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(artículo 69 N° 2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á están incluidas todas las otras inversiones en documentos, valores mobiliarios o efectos de comercio de renta fija, emitidos por cualquier tipo de personas naturales o jurídicas que no estén en alguna de las excepciones antes señal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as inversiones se consideran como una colocación y computan para los márgenes de crédito del artículo 84 de la LGB y se aplicarán las multas que señala este artículo para cada caso, en caso de infra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mismos límites se aplican a las operaciones de underwritting de documentos de renta fija cuya colocación y servicio sea garantizado por el ban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4920" y="-55440"/>
            <a:ext cx="8302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24000" y="333000"/>
            <a:ext cx="8362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abe hacer presente que si bien las inversiones del N° 20 quedan sujetas a márgenes de crédito, no se suman para el margen de inversión aplicable a inversiones en los bienes a que se refieren los N°s 15, 21, 22 y 23 del art. 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VERSIONES EN BIENES FÍSICOS Y AC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as inversiones consisten en bienes físicos y acciones y están sujetas a un margen global que asciende al total del capital y reservas del ban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bienes cuyo valor conforma dicho margen s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ciones de sociedades que operan en el país, adquiridas en conformidad a los N°s 17 o 21 del art. 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-1198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ciones de bancos o empresas constituidas en el extranjero, adquiridas conforme al art. 69 N° 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ro amonedado  o en pastas, por expresa referencia del N° 18 parte f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Bienes raíces necesarios para su funcionamiento y servicios anexos. El banco puede arrendar la parte que no utiliza de estos bienes raíces o los que tiene para futura expansión. La determinación de que se entiende por servicios anexos y bienes para futura expansión deberá ser juzgado por la SBIF atendido su subjetividad (art. 69 N° 2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Bienes corporales muebles necesarios para su servicio o la mantención de sus inversiones (art. 69 N° 2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-1198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 un banco exceda el margen global de una vez su capital pagado y reservas en inversiones sujetas a este límite, será sancionado con una multa del 10% del exceso de la inversión realizada por cada mes calendario que la manten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s demás infracciones en que un banco pueda incurrir respecto de las operaciones e inversiones podrán ser sancionadas con multa de conformidad con la facultad que el artículo 19 de la LGB le otorga al Superintendente de Ban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Underwritting de Acciones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corresponde al N° 25 del artículo 69 y es una operación restituida a los bancos hace pocos años sujeta eso si a diversos controles para impedir que se repitan las razones que movieron al legislador de 1986 para suprimir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560" y="-293760"/>
            <a:ext cx="8373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4000" y="189000"/>
            <a:ext cx="8300880" cy="60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eden actuar como agentes colocadores y garantizar la colocación de acciones de sociedades anónimas abier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caso que el banco deba adquirir las acciones cuya colocación garantizó, debe deshacerse de dichas acciones dentro de un plazo máximo de seis m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entras las acciones estén en poder del banco no tendrán derecho a voz ni voto en las juntas de accionis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garantía que puede otorgar el banco no puede superar el 35% del capital pagado del emisor y esta garantía o las acciones que deba adquirir se computan para los márgenes de crédito del artículo 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16:53:04Z</dcterms:created>
  <dc:creator>Administrador</dc:creator>
  <dc:description/>
  <dc:language>en-US</dc:language>
  <cp:lastModifiedBy>Administrador</cp:lastModifiedBy>
  <dcterms:modified xsi:type="dcterms:W3CDTF">2006-09-20T16:55:15Z</dcterms:modified>
  <cp:revision>1</cp:revision>
  <dc:subject/>
  <dc:title>Inversiones de los Bancos</dc:title>
</cp:coreProperties>
</file>