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FDCE-36B0-40F0-8933-4119D128D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512D-9E46-4747-9D9C-D2651DCA3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4503-ABC8-424C-8C54-A6DC4FE9B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6BEA-4152-47F7-A7F2-6DB48944F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DFEFB-B905-4929-9A41-81475F843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85AEC-C6DD-4000-8495-42EBAA0FB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CBFA2-891F-4F27-A3D6-D018976B5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D211B-3A68-4F26-A694-899059767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1F4F0-0AC8-4D3A-AC27-A52593C37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EB3DB-C17A-4227-B051-695001E5E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E8DCC-3CDB-4357-A958-D4632E986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4CA1-238E-440E-BA1D-CCA918027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E48CE-CF42-4A8E-8CCA-9BD37A3A5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C7486-2F12-4D58-8411-EF68CE99E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D497B-B294-45C0-8DFF-594B66C14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A8AFE-1F8A-4C28-834A-8BF226264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11488-FB65-4559-909B-F13DB19E2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5931-5A24-472D-BD95-B19E99409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57B7-26DF-40CC-AE07-2EAC5F6DC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A10A-0E21-4684-8B50-B9E516733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D269-9ACE-4579-B5B9-C27567DE1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5C60-2D1A-45D9-94A4-34812901F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4DA0-4896-49AB-816C-E8485FF71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67D2-EFFA-4B81-B32D-D80AAFBE4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D3748-BF91-49B4-8974-0DE14698C2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F4294-2403-4E47-B413-D40ABCBD6F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798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ccecff"/>
                </a:solidFill>
                <a:latin typeface="Arial"/>
              </a:rPr>
              <a:t>Inversiones de los Banco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755280" y="1341000"/>
            <a:ext cx="70167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INVERSIONES EN DOCUMENTOS, VALORES MOBILIARIOS O EFECTOS DE COMERCIO, DE RENTA FIJ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spcBef>
                <a:spcPts val="4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ffffff"/>
                </a:solidFill>
                <a:uFillTx/>
                <a:latin typeface="Arial"/>
              </a:rPr>
              <a:t>No sujetas a margen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 (artículo 69 N°s 18 y 19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Se trata de inversiones en documentos que no representan mayor riesgo de pérdida para el banco, tales como bonos de la deuda interna y cualquiera otra clase de documentos representativos de obligaciones del Estado o de sus instituciones emitidos en serie. Esto incluye documentos emitidos por la tesorería de la República, otras instituciones fiscales, semifiscales o de administración autónoma; del Banco Central de Chile, pero en ningún caso de las empresas del Estado, las que reciben la misma consideración que una empresa privada para este efec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95280" y="-156960"/>
            <a:ext cx="82915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95280" y="260280"/>
            <a:ext cx="829152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Bonos u obligaciones de renta de instituciones internacionales a las que se encuentre adherido el Estado de Chile, como el banco Mundial y el B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es-MX" sz="2000" spc="-1" strike="noStrike" u="sng">
                <a:solidFill>
                  <a:srgbClr val="ffffff"/>
                </a:solidFill>
                <a:uFillTx/>
                <a:latin typeface="Arial"/>
              </a:rPr>
              <a:t>Sujetas a margen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 (artículo 69 N° 20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Acá están incluidas todas las otras inversiones en documentos, valores mobiliarios o efectos de comercio de renta fija, emitidos por cualquier tipo de personas naturales o jurídicas que no estén en alguna de las excepciones antes señalad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Estas inversiones se consideran como una colocación y computan para los márgenes de crédito del artículo 84 de la LGB y se aplicarán las multas que señala este artículo para cada caso, en caso de infrac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Los mismos límites se aplican a las operaciones de underwritting de documentos de renta fija cuya colocación y servicio sea garantizado por el ban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94920" y="-55440"/>
            <a:ext cx="83026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24000" y="333000"/>
            <a:ext cx="83628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Cabe hacer presente que si bien las inversiones del N° 20 quedan sujetas a márgenes de crédito, no se suman para el margen de inversión aplicable a inversiones en los bienes a que se refieren los N°s 15, 21, 22 y 23 del art. 6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INVERSIONES EN BIENES FÍSICOS Y ACC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Estas inversiones consisten en bienes físicos y acciones y están sujetas a un margen global que asciende al total del capital y reservas del ban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Los bienes cuyo valor conforma dicho margen so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Acciones de sociedades que operan en el país, adquiridas en conformidad a los N°s 17 o 21 del art. 6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68000" y="-119880"/>
            <a:ext cx="82184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24000" y="260280"/>
            <a:ext cx="83628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Acciones de bancos o empresas constituidas en el extranjero, adquiridas conforme al art. 69 N° 1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Oro amonedado  o en pastas, por expresa referencia del N° 18 parte fi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Bienes raíces necesarios para su funcionamiento y servicios anexos. El banco puede arrendar la parte que no utiliza de estos bienes raíces o los que tiene para futura expansión. La determinación de que se entiende por servicios anexos y bienes para futura expansión deberá ser juzgado por la SBIF atendido su subjetividad (art. 69 N° 2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Bienes corporales muebles necesarios para su servicio o la mantención de sus inversiones (art. 69 N° 23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68000" y="-119880"/>
            <a:ext cx="82184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95280" y="260280"/>
            <a:ext cx="829152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Si un banco exceda el margen global de una vez su capital pagado y reservas en inversiones sujetas a este límite, será sancionado con una multa del 10% del exceso de la inversión realizada por cada mes calendario que la manteng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Las demás infracciones en que un banco pueda incurrir respecto de las operaciones e inversiones podrán ser sancionadas con multa de conformidad con la facultad que el artículo 19 de la LGB le otorga al Superintendente de Banc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 u="sng">
                <a:solidFill>
                  <a:srgbClr val="ffffff"/>
                </a:solidFill>
                <a:uFillTx/>
                <a:latin typeface="Arial"/>
              </a:rPr>
              <a:t>Underwritting de Acciones: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corresponde al N° 25 del artículo 69 y es una operación restituida a los bancos hace pocos años sujeta eso si a diversos controles para impedir que se repitan las razones que movieron al legislador de 1986 para suprimirl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50560" y="-293760"/>
            <a:ext cx="83739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24000" y="189000"/>
            <a:ext cx="8300880" cy="60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eden actuar como agentes colocadores y garantizar la colocación de acciones de sociedades anónimas abiert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 caso que el banco deba adquirir las acciones cuya colocación garantizó, debe deshacerse de dichas acciones dentro de un plazo máximo de seis me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entras las acciones estén en poder del banco no tendrán derecho a voz ni voto en las juntas de accionist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garantía que puede otorgar el banco no puede superar el 35% del capital pagado del emisor y esta garantía o las acciones que deba adquirir se computan para los márgenes de crédito del artículo 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0T16:53:04Z</dcterms:created>
  <dc:creator>Administrador</dc:creator>
  <dc:description/>
  <dc:language>en-US</dc:language>
  <cp:lastModifiedBy>Administrador</cp:lastModifiedBy>
  <dcterms:modified xsi:type="dcterms:W3CDTF">2006-09-20T16:55:15Z</dcterms:modified>
  <cp:revision>1</cp:revision>
  <dc:subject/>
  <dc:title>Inversiones de los Bancos</dc:title>
</cp:coreProperties>
</file>