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A7E48F-FC63-4BB4-A26C-0DD18A1B7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D3A3A-3F4C-48BC-BD46-0E02C6887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064BD-F38B-4C4D-8518-F14312632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59E05-51F0-4D36-B6D6-390545591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DA7CE4-34FD-4062-B8F1-A8407C8DDE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388BF2-EF61-496A-8708-6C2CBB078D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E0C39-59AD-4F6D-A0CC-CE52C11BCD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15766-DE9B-46D3-AB9D-6CA866D474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D98B40-40C1-48D6-BCD3-77D994D07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2059B0-7E0F-4258-9CBE-816BF0A206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E745E-D309-4D54-A83A-5D189FD0B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C77C7-52D5-4EED-B5AA-CFAEA0FA5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CD383-AF82-4E5A-9607-DD657F59F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BEEBC-629D-4E73-AEFF-AF1D73C76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FAD66-44C3-4474-913B-025A2AD07E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DBCB5C-919B-4884-88F2-84AEEDF0CF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29FE35-97A4-4937-9502-0591F4735A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1B198-7243-480B-B24B-9052E91AC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9015B-5C80-4401-9FE9-7A3E5B30D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7A37A-DA12-493D-9A9E-5F93D3187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F95E4-09F4-4D7F-B97F-FE96FAA8B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C79D8-B824-4B9B-864A-922C9F3EF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592EB-82F6-40AA-8F20-AD86ED7C0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F5E48-7615-4C82-977B-F897178D06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36579-766E-4C0D-92F0-2EF8CBB892A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85A17-6B18-4828-84B0-FE47B892564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371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11" name="PlaceHolder 2"/>
          <p:cNvSpPr>
            <a:spLocks noGrp="1"/>
          </p:cNvSpPr>
          <p:nvPr>
            <p:ph/>
          </p:nvPr>
        </p:nvSpPr>
        <p:spPr>
          <a:xfrm>
            <a:off x="380880" y="304920"/>
            <a:ext cx="8305920" cy="62481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 Cheque:</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rtículo 13 de la Ley sobre Cuentas Corrientes Bancarias y Cheques establece que los cheques deben contener:</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nombre del librado</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ugar y fecha de expedición</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cantidad girada en letras y números</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firma del girador</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das son menciones esenciales, excepto la del lugar de expedición del cheque, que en caso de no indicarse se presume extendido en la plaza en que funciona la oficina sobre la cual fue girado</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68000" y="-29376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29" name="PlaceHolder 2"/>
          <p:cNvSpPr>
            <a:spLocks noGrp="1"/>
          </p:cNvSpPr>
          <p:nvPr>
            <p:ph/>
          </p:nvPr>
        </p:nvSpPr>
        <p:spPr>
          <a:xfrm>
            <a:off x="395280" y="189000"/>
            <a:ext cx="8291520" cy="5937120"/>
          </a:xfrm>
          <a:prstGeom prst="rect">
            <a:avLst/>
          </a:prstGeom>
          <a:noFill/>
          <a:ln w="0">
            <a:noFill/>
          </a:ln>
        </p:spPr>
        <p:txBody>
          <a:bodyPr lIns="90000" rIns="90000" tIns="46800" bIns="46800" anchor="t">
            <a:normAutofit/>
          </a:bodyPr>
          <a:p>
            <a:pPr marL="609480" indent="-609480">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 días: cuando se trate de un cheque girado en moneda chilena y el librado estuviere en la misma plaza de emisión;</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0 días: si el cheque fuere en moneda chilena y estuviere girado dentro del país, en una plaza distinta de la del librado;</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meses: al tratarse de un cheque en moneda chilena girado en el extranjero; y,</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 meses: para un cheque girado en moneda extranjera, cualquiera sea el lugar de su emisión y de su pago</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el cheque no se presenta a cobro dentro de los plazos señalados para cada caso, el librado no puede pagarlo, salvo que medie una autorización escrita del librador, salvo que exista una ampliación del plazo si el librador revalida el cheque o el plazo de vigencia se ve aumentado por el número de días hábiles durante los cuales el librado hubiere suspendido, por algun motivo, sus operaciones y pagos (fuerza mayor, huelga legal de un banco o de alguna de sus oficin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31" name="PlaceHolder 2"/>
          <p:cNvSpPr>
            <a:spLocks noGrp="1"/>
          </p:cNvSpPr>
          <p:nvPr>
            <p:ph/>
          </p:nvPr>
        </p:nvSpPr>
        <p:spPr>
          <a:xfrm>
            <a:off x="324000" y="260280"/>
            <a:ext cx="8362800" cy="5865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ómputo de Plaz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gún el artículo 48 del Codigo Civil, los plazos expresados en días se entenderán que han de ser completos y correran, además, hasta la medianoche del último día del plaz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computar entonces, el plazo de validez de un cheque expresado en dias, debe considerarse que la fracción del día de emisión del cheque se complementa con la del último día, el que corre hasta la medianoch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la práctica, para hacer el cómputo se cuentan los días corridos sin considerar el día mismo en que el cheque se giró (igual que se cuenta los plazos en los juici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95280" y="-3160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33" name="PlaceHolder 2"/>
          <p:cNvSpPr>
            <a:spLocks noGrp="1"/>
          </p:cNvSpPr>
          <p:nvPr>
            <p:ph/>
          </p:nvPr>
        </p:nvSpPr>
        <p:spPr>
          <a:xfrm>
            <a:off x="468000" y="260280"/>
            <a:ext cx="8218440" cy="586584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plazos en meses, según el mencionado artículo 48, se computan por meses completos cualquiera sea el número de días que cada uno de ellos tenga y el plazo también rige hasta la medianoche del último día</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 acuerdo con el Código Civil, el ultimo día del plazo corresponderá a aquel que tenga el mismo número que el día en que el plazo comienza, en sus respectivos mese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tal número no existe en el mes en que el plazo termina – lo que puede ocurrir cuando el cheque se gira el último día de un mes – el plazo concluye en la medianoche del último día del mes en que el plazo ha de terminar</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l caso que un cheque venza en día sábado o domingo, se ha interpretado que el plazo de caducidad no admite ampliación por la imposibilidad que los bancos abran sus oficinas en esos días para pagar chequ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35"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considerar que un cheque ha sido girado en la misma plaza del banco librado hay que atender a si la localidad en que se giró el cheque es la misma localidad de cámara a la que concurre el banco librad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determinar la vigencia de cheques presentados a cobro a través de una cámara de compensación, los bancos deben atender a la fecha del timbre de cámara respectivo, el que, a su vez, debe coincidir co la del día en que el documento se presente a la primera reunión de cámara</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un cheque es presentado a cobro en una oficina del mismo banco librado distinta de aquélla en que se mantiene la cuenta, debe tenerse en consideración que la institución bancaria es una sola en todo el país, por eso para determinar su vigencia en casi que se presente a cobro un cheque girado contra otra oficina del mismo banco, sea éste de la misma plaza o una distinta, se entenderá que ha sido presentado a cobro en la fecha en que lo recibió la dependencia a la cual se presentó el clien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heque al portador, a la orden o nominativo:</a:t>
            </a:r>
            <a:endParaRPr b="0" lang="en-US" sz="3200" spc="-1" strike="noStrike">
              <a:solidFill>
                <a:srgbClr val="ccecff"/>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rtículo 10 de la Ley sobre Cuentas Corrientes Bancarias y Cheques establece que el cheque puede ser “a la orden, al portador o nominativ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s formas de girar el cheque dicen relación con la forma de ceder el documento y su uso depende del mayor o menor resguardo que desee tomar el girador del chequ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la práctica, las expresiones “al portador” o “a la orden” pueden ser tachadas por el portador en su propio resguardo. Sin embargo, al tratarse de un cheque que contenga ya algun endoso traslaticio de dominio, no es posible transformar el cheque en nominativo, debido a que éste ya fue transferido por endos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31680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39" name="PlaceHolder 2"/>
          <p:cNvSpPr>
            <a:spLocks noGrp="1"/>
          </p:cNvSpPr>
          <p:nvPr>
            <p:ph/>
          </p:nvPr>
        </p:nvSpPr>
        <p:spPr>
          <a:xfrm>
            <a:off x="395280" y="189000"/>
            <a:ext cx="8291520" cy="593712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eque al portador:</a:t>
            </a:r>
            <a:r>
              <a:rPr b="0" lang="en-US" sz="2000" spc="-1" strike="noStrike">
                <a:solidFill>
                  <a:srgbClr val="ffffff"/>
                </a:solidFill>
                <a:latin typeface="Arial"/>
              </a:rPr>
              <a:t> puede circular libramente en el mercado al igual que un billete, por ser transferible por la simple entrega, sin necesidad de endoso, de manera que su tenedor se presume dueñ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o a su vez conlleva el riesgo que el poseedor de un cheque al portador, en caso de perderlo, pueda no recuperarlo ni percibir su valor, por cuanto no podría acreditar que le pertenec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banco debe pagarlo a la persona que lo presenta a cobro sin que le incumba ninguna responsabilidad por dicho acto. En todo caso, el portador debe acreditar su identidad con la respectiva cédul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Cheque a la orden:</a:t>
            </a:r>
            <a:r>
              <a:rPr b="0" lang="en-US" sz="2000" spc="-1" strike="noStrike">
                <a:solidFill>
                  <a:srgbClr val="ffffff"/>
                </a:solidFill>
                <a:latin typeface="Arial"/>
              </a:rPr>
              <a:t> son endosables y, por esta razón, tanto el tenedor como el librador de un cheque de esta especie también asume ciertos riesgos derivados de la posibilidad de falsificacion de endos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41" name="PlaceHolder 2"/>
          <p:cNvSpPr>
            <a:spLocks noGrp="1"/>
          </p:cNvSpPr>
          <p:nvPr>
            <p:ph/>
          </p:nvPr>
        </p:nvSpPr>
        <p:spPr>
          <a:xfrm>
            <a:off x="324000" y="259920"/>
            <a:ext cx="8362800" cy="619308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Ley sobre Cuentas Corrientes Bancarias y Cheques ha librado expresamente a los bancos de toda responsabilidad por falsificaciones que se produzcan en los endosos y sólo les ha exigido la verificación, al efectuar el pago, de la identidad de la persona que se presenta a cobrar el cheque,  y que conforme al artículo 16 de la Ley sobre Cuentas Corrientes Bancarias y Cheque exige que si la falsificación de un cheque se limita al endoso, el librado no será responsible sino en el caso de haber pagado a persona desconocida</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emás, para no quedar el banco responsable de haber pagado a un tenedor ilegítimo, el banco debe verificar la regularidad formal de los endoso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lo anterior y, de conformidad con lo señalado por el artículo 31 de la Ley 18092, el banco tiene la obligación de verificar la continuidad de los endosos que tuviere el documento, por lo que el banco debe establecer que exista una serie ininterrumpida de endosos hasta llegar a la persona que lo presenta a cobro, pero no está obligado a comprobar la legitimidad de las firmas de todos los endosant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95280" y="-4017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43" name="PlaceHolder 2"/>
          <p:cNvSpPr>
            <a:spLocks noGrp="1"/>
          </p:cNvSpPr>
          <p:nvPr>
            <p:ph/>
          </p:nvPr>
        </p:nvSpPr>
        <p:spPr>
          <a:xfrm>
            <a:off x="395280" y="189000"/>
            <a:ext cx="8291520" cy="593712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el banco cumple con verificar la identidad de la persona que presenta el cheque a cobro y la continuidad de los endosos, no queda responsable si paga a un portador ilegítimo del document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ede ocurrir que una persona, por ejemplo, imite la firma de otra persona para endosar a nombre de esta o que estampe con apariencia de tal el nombre de un supesto endosante o, incluso, que la falsificación llegue a la suposición de la existencia misma de la persona a quien se atribuye esa firma.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todos estos casos el banco no es responsable si cumple con lo señalado antes (verificación de, la identidad y de la continuidad de los endos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ste exámen de la continuidad de los endosos, el banco debe verificar que el último de los endosos esté a nombre del portador o en blanc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45" name="PlaceHolder 2"/>
          <p:cNvSpPr>
            <a:spLocks noGrp="1"/>
          </p:cNvSpPr>
          <p:nvPr>
            <p:ph/>
          </p:nvPr>
        </p:nvSpPr>
        <p:spPr>
          <a:xfrm>
            <a:off x="395280" y="333000"/>
            <a:ext cx="8291520" cy="579276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que nominativo: es aquel en que se han borrado conjuntamente las palabras “a la orden” y “al portador”</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puede transferirse por endoso y solo puede pagarse a la persona a cuyo nombre esta gira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obstante, puede ser endosado en comisión de cobranza a un banco, pero únicamente por la persona beneficiaria del chequ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limitación para la transferencia de dominio se limita solamente al endoso, pero no a la transferencia por medio de la cesión hecha con arreglo a los preceptos del Código Civil y del Código de Comercio relativos a la cesion de crédit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 cheque nominativo puede, no obstante, ser pagado a un tercero si este acredita ante el banco la calidad de mandatario con poder suficien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47"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iferencia de un cheque a la orden, no es posible que un cheque nominativo sea depositado en una cuenta de un tercero, diferente del beneficiario, debido a que no puede ser transferido por endos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efectuar una operación de este tipo, se requiere que el beneficiario entregue el cheque en comisión de cobranza, como cualquier otro documento, indicando expresamente que el producto de su pago se deposite en la cuenta de un tercer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 anterior no impide que el propio beneficiario deposite en cuentas de terceros cheques a su nombre, cuando los cheques son de la misma oficina librada, ya que esto hace las mismas veces que el tramite de pagar un cheque y depositar su producto en otra cuenta corrien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33520" y="-114120"/>
            <a:ext cx="81532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13" name="PlaceHolder 2"/>
          <p:cNvSpPr>
            <a:spLocks noGrp="1"/>
          </p:cNvSpPr>
          <p:nvPr>
            <p:ph/>
          </p:nvPr>
        </p:nvSpPr>
        <p:spPr>
          <a:xfrm>
            <a:off x="304560" y="228600"/>
            <a:ext cx="8305560" cy="58212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el contrario, un cheque que no indique la fecha de su emisión o que señale una fecha inexistente, es irregular y da derecho al librado para protestarlo cuando el portador lo requiera, indicando como causal la falta de fecha o la fecha inexistente, segun corresponda</a:t>
            </a:r>
            <a:endParaRPr b="0" lang="en-US" sz="2000" spc="-1" strike="noStrike">
              <a:solidFill>
                <a:srgbClr val="ffffff"/>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lnSpc>
                <a:spcPct val="90000"/>
              </a:lnSpc>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fecha puede expresarse de cualquier manera aceptada por los usos sociales, tales como abreviaturas, números arábicos o romanos, etc</a:t>
            </a:r>
            <a:endParaRPr b="0" lang="en-US" sz="2000" spc="-1" strike="noStrike">
              <a:solidFill>
                <a:srgbClr val="ffffff"/>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lnSpc>
                <a:spcPct val="90000"/>
              </a:lnSpc>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inciso segundo del articulo 10 de la Ley sobre Cuentas Corrientes Bancarias y Cheques dispone: “El cheque es siempre pagadero a la vista. Cualquier mención en contrario se tendrá por no escrita. El cheque presentado a cobro antes del día indicado como fecha de emisión, es pagadero el día de su presentación”</a:t>
            </a:r>
            <a:endParaRPr b="0" lang="en-US" sz="2000" spc="-1" strike="noStrike">
              <a:solidFill>
                <a:srgbClr val="ffffff"/>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lnSpc>
                <a:spcPct val="90000"/>
              </a:lnSpc>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 esta forma, los bancos deben proceder a pagar o a protestar por falta de fondos, cuenta cerrada, orden de no pago u otras causas, según proceda, los cheques que se les presentan a cobro, aunque lleven una fecha de emisión posterior al día de su presentación</a:t>
            </a:r>
            <a:endParaRPr b="0" lang="en-US" sz="2000" spc="-1" strike="noStrike">
              <a:solidFill>
                <a:srgbClr val="ffffff"/>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119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15" name="PlaceHolder 2"/>
          <p:cNvSpPr>
            <a:spLocks noGrp="1"/>
          </p:cNvSpPr>
          <p:nvPr>
            <p:ph/>
          </p:nvPr>
        </p:nvSpPr>
        <p:spPr>
          <a:xfrm>
            <a:off x="533520" y="304560"/>
            <a:ext cx="8153280" cy="6172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 artículo 24 de la Ley sobre Cuentas Corrientes Bancarias y Cheques, se desprende que para revalidar el cheque de fecha vencida se necesita la voluntad expresa del librador, la que debe constar por escrit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declaración debe hacerse con la firma completa del girador e indicando la fecha en que se hac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rtículo 13 de la Ley sobre Cuentas Corrientes Bancarias y Cheques, manifiesta que el cheque debe expresar la cantidad girada en letras y números. Este requisito no se cumple si las cantidades en números y letras difieren y por lo tanto las formularios así extendidos deben ser rechazados por no cumplir con una formalidad legal indispensabl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17" name="PlaceHolder 2"/>
          <p:cNvSpPr>
            <a:spLocks noGrp="1"/>
          </p:cNvSpPr>
          <p:nvPr>
            <p:ph/>
          </p:nvPr>
        </p:nvSpPr>
        <p:spPr>
          <a:xfrm>
            <a:off x="324000" y="259920"/>
            <a:ext cx="8362800" cy="619308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lo mismo antes indicado, resulta inaplicable lo dispuesto en el artículo 6° de la Ley 18.092, para las letras de cambio. De esta forma, si en el cheque se mencionan dos cantidades diferentes, el librado no puede presumir que la cantidad escrita con letras es la que corresponde pagar, ya que el documento adolece de un vicio formal que impide su pag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dos últimos incisos del artículo 13 de la Ley sobre Cuentas Corrientes Bancarias y Cheques permite que los bancos autoricen a determinados clientes para estampar en sus cheques, mediante procedimientos mecánicos, la cantidad girada y la firma.</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o se puede hacer cuando el número de cheques que deban emitirse justifique el procedimiento (al menos 100 cheques mensuales) y el procedimiento sea segur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los efectos civiles y penales, la firma estampada mecánicamente se entenderá manuscrita por la persona cuya rúbrica ha sido reproducida</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68000" y="-31680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19" name="PlaceHolder 2"/>
          <p:cNvSpPr>
            <a:spLocks noGrp="1"/>
          </p:cNvSpPr>
          <p:nvPr>
            <p:ph/>
          </p:nvPr>
        </p:nvSpPr>
        <p:spPr>
          <a:xfrm>
            <a:off x="395280" y="260280"/>
            <a:ext cx="8291520" cy="5865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iro de cheques por mandato o representación legal: </a:t>
            </a:r>
            <a:endParaRPr b="0" lang="en-US" sz="32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el girador de un cheque actúe por mandato o representación legal del titular de una cuenta corriente y asi conste en el banco, podrá omitir la mención de que se está firmando por poder</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gual en el caso de que se gire en representación de personas jurídicas podrá omitirse la razón social o el nombre del establecimiento de que se trat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95280" y="-29376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21" name="PlaceHolder 2"/>
          <p:cNvSpPr>
            <a:spLocks noGrp="1"/>
          </p:cNvSpPr>
          <p:nvPr>
            <p:ph/>
          </p:nvPr>
        </p:nvSpPr>
        <p:spPr>
          <a:xfrm>
            <a:off x="324000" y="188640"/>
            <a:ext cx="8362800" cy="6264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cha de menciones que contiene el cheque:</a:t>
            </a:r>
            <a:endParaRPr b="0" lang="en-US" sz="32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rtículo 13 de la Ley sobre Cuentas Corrientes Bancarias y Cheques expresa: “si se tachare cualquiera mención impresa que contiene el cheque, que no sean las claúsulas ‘a la orden’ o ‘al portador’ dicha tacha no producirá efecto algun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 esta forma, si en un cheque se borra o tacha, por ejemplo la palabra “páguese”, el nombre del banco o cualquiera otra expresión impresa que contenga el formulario y que no sean las expresiones “a la orden” o “al portador” el cheque conservará todo su valor y la parte tachada se tendrá por no escrita y el documento deberá pagarse y protestarse en la misma forma en que se habría hecho si tal tacha no hubiere existid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heque Mandato y Cheque para pagar obligaciones:</a:t>
            </a:r>
            <a:endParaRPr b="0" lang="en-US" sz="3200" spc="-1" strike="noStrike">
              <a:solidFill>
                <a:srgbClr val="ccec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cheque pagado en comisión de cobranza es un mandato conferido por el librador al tenedor para retirar del banco una determinada suma de dinero, de la cual el tenedor está obligado a rendir cuenta a su mandant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cheque girado en mandato lleva la expresión “para mi” agregada por el librador en el cuerpo del document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orme a lo dispuesto en el artículo 36 de la Ley sobre Cuentas Corrientes Bancarias y Cheques, esta clase de cheque caduca por la muerte del tenedor o del librador, siempre que el hecho se haya puesto, por escrito, en conocimiento del librado por cualquier persona interesad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95280" y="-119880"/>
            <a:ext cx="82915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25" name="PlaceHolder 2"/>
          <p:cNvSpPr>
            <a:spLocks noGrp="1"/>
          </p:cNvSpPr>
          <p:nvPr>
            <p:ph/>
          </p:nvPr>
        </p:nvSpPr>
        <p:spPr>
          <a:xfrm>
            <a:off x="324000" y="333360"/>
            <a:ext cx="8362800" cy="619128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 acuerdo con la ley, si el cheque no lleva las palabras “para mi”, se entenderá que se trata de un cheque girado en pago de obligaciones o estipulaciones equivalent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stamente, el principal fin de los cheques, es facilitar el pago de obligaciones evitando el empleo con ese objeto del dinero efectiv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l caso de los cheques girados en pago de obligaciones, la muerte del librador no debe impedir que los cheques girados en pago de obligaciones surtan todos sus efectos y no hay motivo legal para que los bancos se nieguen a pagarlos por esa caus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68000" y="-119880"/>
            <a:ext cx="821844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27" name="PlaceHolder 2"/>
          <p:cNvSpPr>
            <a:spLocks noGrp="1"/>
          </p:cNvSpPr>
          <p:nvPr>
            <p:ph/>
          </p:nvPr>
        </p:nvSpPr>
        <p:spPr>
          <a:xfrm>
            <a:off x="394920" y="260280"/>
            <a:ext cx="8302680" cy="612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heques en Garantía:</a:t>
            </a:r>
            <a:endParaRPr b="0" lang="en-US" sz="32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o el cheque es utilizado principalmente como un instrumento de pago, los bancos no pueden recibir, ni menos exigir, que se les entreguen cheques para caucionar obligaciones para con el banco o para con tercer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3200" spc="-1" strike="noStrike">
                <a:solidFill>
                  <a:srgbClr val="ffffff"/>
                </a:solidFill>
                <a:latin typeface="Arial"/>
              </a:rPr>
              <a:t>Vigencia del Chequ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orme lo establecen los articulos 23 y 48 de la Ley sobre Cuentas Corrientes Bancarias y Cehques, el portador de un cheque librado contra un banco establecido en el país, debe presentarlo a cobro dentro de los siguientes plazos, contados desde su fecha de expedic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6:16:07Z</dcterms:created>
  <dc:creator>Administrador</dc:creator>
  <dc:description/>
  <dc:language>en-US</dc:language>
  <cp:lastModifiedBy>Administrador</cp:lastModifiedBy>
  <dcterms:modified xsi:type="dcterms:W3CDTF">2006-08-23T20:08:29Z</dcterms:modified>
  <cp:revision>3</cp:revision>
  <dc:subject/>
  <dc:title>Diapositiva 1</dc:title>
</cp:coreProperties>
</file>