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79F10-415B-4D1B-A4D1-93CE931A3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0C02C-197B-4A9F-A4C1-47A74515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7011-69EB-42A5-8D28-70AA71240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32B27-118D-46E1-AAF0-0CBCEBB4A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958A6-3CEC-4A66-A2FC-2553BEFB8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7B393-EFA3-4A23-B414-7711DC4B3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310D6-3586-4698-B16C-FCC42B0F0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E374B-D566-4186-9E62-DB73C12F0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3F4B-6166-4BDB-933A-6D964DB30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53416-7AAF-4F99-99F7-F40D2ED37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C7369-842A-41AE-A1AA-56150F043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4BD1-91EF-46AC-B54B-C2B04C0A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49853-1FD2-4C13-91C7-158A099C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4E01B-19BB-4407-8C13-1BB367DB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900C3-DEAC-41BD-AE5D-6328539B3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21512-7320-4B7A-8004-AC61D7D21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C59A8-653F-4224-B13E-C803F0677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37222-6EEF-42E8-A257-0A9798DF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724D4-4CCC-4462-9B7E-A7A80F6F3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26F6-8470-46AF-858B-E6BF5FD24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B05D-B317-4073-932D-46B7E51BA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4300-DEF7-46DE-8AF4-C12C2B182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A91C-152E-4BD5-8BE8-8A8BF1B6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E097-38A9-4B9F-B34A-C425C6376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C154-9D58-41A3-B312-8C76528BC41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340E-5F6D-418B-BDBF-3237580B6CB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600"/>
            <a:ext cx="7848720" cy="129528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osibilidad de modificar el carácter nominativo de un cheque:</a:t>
            </a:r>
            <a:endParaRPr b="0" lang="en-US" sz="3200" spc="-1" strike="noStrike">
              <a:solidFill>
                <a:srgbClr val="ccecff"/>
              </a:solidFill>
              <a:latin typeface="Arial"/>
            </a:endParaRPr>
          </a:p>
        </p:txBody>
      </p:sp>
      <p:sp>
        <p:nvSpPr>
          <p:cNvPr id="212" name="PlaceHolder 2"/>
          <p:cNvSpPr>
            <a:spLocks noGrp="1"/>
          </p:cNvSpPr>
          <p:nvPr>
            <p:ph type="subTitle"/>
          </p:nvPr>
        </p:nvSpPr>
        <p:spPr>
          <a:xfrm>
            <a:off x="1295280" y="1523520"/>
            <a:ext cx="6477120" cy="5334120"/>
          </a:xfrm>
          <a:prstGeom prst="rect">
            <a:avLst/>
          </a:prstGeom>
          <a:noFill/>
          <a:ln w="0">
            <a:noFill/>
          </a:ln>
        </p:spPr>
        <p:txBody>
          <a:bodyPr lIns="90000" rIns="90000" tIns="46800" bIns="46800" anchor="t">
            <a:noAutofit/>
          </a:bodyPr>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artículo 13 inciso 4° de la Ley sobre Cuentas Corrientes Bancarias y Cheques dispone textualmente: “Cualesquiera otras circunstancias o claúsulas que se agregaren al cheque se tendrán por no escrit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disposición tiene por objeto resguardar el carácter de medio de pago del cheque, al no permitir a las partes establecer claúsula alguna que pueda quitarle dicho carácter, excepto las que la propia ley indica (claúsulas a la orden, al portador, endosos, cruzamien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secuencia, si se consigna en el cheque alguna claúsula destinada a modificar su carácter de nominativo, ella no surtiría ningun efecto</a:t>
            </a: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cruzados que sean depositados en una cuenta corriente o en una cuenta de ahorro del beneficiario, deben tratarse de la misma forma que los cheques que no estuvieren cruz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casos en que un cheque cruzado no pueda ser depositado en una cuenta corriente bancaria o en una cuenta de ahorro, para su presentación a cobro será necesario que el portador lo endose en comisión de cobranza a un banco, aunque se trate del mismo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lo importante es que el banco cuide que el interesado compruebe si identidad y su calidad de legítimo tenedor del cheque cuya cobranza encar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los bancos no están obligados a aceptar cobranzas que se les quiera encomendar, ya que ellos tienen la facultad de elegir a sus cli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igual que las otras claúsulas del cheque cuya tacha producen un efecto en el documento, el cheque una vez cruzado no puede cambiar ese carácter, ya que la ley prohibe al portador borrar o alterar las líneas transversales e indicaciones del cheque cruz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cualquier borradura o alteración carece de eficacia y se trataría de un cheque enmendado que puede ser rechaz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s conjuntos o alternativos:</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tipos de cheques se consigna el nombre de uno  o más beneficiarios para cobrarlo conjunta o alternativamente según se indique en 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oblemas que pudieren presentarse relacionados con el pago de estos cheques, no están expresamente resueltos en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lo, la SBIF ha recomendado para el caso del cheque conjunto, que los beneficiarios lo cobren conjuntam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uando al cheque alternativo, es evidente que el pago efectuado a cualquiera de los beneficiarios alternativos sería válido, pero como los bancos generalmente no conocen las relaciones entre los beneficiarios, es aconsejable adopten las precauciones para acreditar la supervivencia de todos los beneficiarios señalados en el cheque alter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ción del portador de un cheque pagado por caja:</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los bancos están legalmente obligados a comprobar la identidad de la persona que cobra un cheque por caja, exigiendo la exhibición de la cédula de identidad respec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cha comprobación deberá efectuarse aún tratándose de cheques pagados al portador, ya que ello no desvirtúa las características de esta clase de documentos, que siempre serán pagados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edida tiene por objeto dejar al banco  o a terceros en condiciones de perseguir las responsabilidades que pudieren derivarse de la falsificación, pérdida, hurto  o rob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única excepción que es posible admitir ocurre cuando el propio cuentacorrentista, su mandatario o representante legal, cobra el cheque por caja, toda vez que el banco conoce a esta persona de quien tuvo que dejar registro de su cédula de identidad al abrir l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go de los cheques:</a:t>
            </a:r>
            <a:endParaRPr b="0" lang="en-US" sz="32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A través de otras oficinas del mismo banco:</a:t>
            </a:r>
            <a:r>
              <a:rPr b="0" lang="en-US" sz="2000" spc="-1" strike="noStrike">
                <a:solidFill>
                  <a:srgbClr val="ffffff"/>
                </a:solidFill>
                <a:latin typeface="Arial"/>
              </a:rPr>
              <a:t> el artículo 13 de la Ley sobre Cuentas Corrientes Bancarias y Cheques, señala que el cobro de un cheque debe practicarlo el portador ante el banco librado. Si el banco tiene varias sucursales en el país, sólo está obligado a pagarlo o protestarlo en la oficina en que el girador mantenga la cuenta corriente</a:t>
            </a:r>
            <a:endParaRPr b="0" lang="en-US" sz="20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n embargo no existe inconveniente en que el pago se haga en otra oficina del banco, siempre que cuente con los antecedentes necesarios, que permirtan verificar la firma, la serie y número del cheque, la existencia de órdenes de no pago del librador, recibidas hasta el momento en que se pague el cheque y si tiene o no fondos suficientes</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todo caso, los cheques recibidos en otra oficinas ya sea en depósito, comisión de cobranza o a través de las cámaras de compensación, obliga al banco a mantener los sistemas de información que le permitan a la oficina receptora pagar o protestar los documentos por cuenta de la oficina lib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pagar cheques por una cantidad inferior a su valor: </a:t>
            </a:r>
            <a:r>
              <a:rPr b="0" lang="en-US" sz="2000" spc="-1" strike="noStrike">
                <a:solidFill>
                  <a:srgbClr val="ffffff"/>
                </a:solidFill>
                <a:latin typeface="Arial"/>
              </a:rPr>
              <a:t>Si la cuenta corriente no tiene fondos suficientes para cubrir el pago de un cheque, no procede que el banco, en su calidad de mandatario, haga el pago parcial del cheque, pues debe acatar la orden de su mandante y no puede entenderse que la cumple, si paga una suma diferente a la que aparece en el mismo cheque que se está tratando de cobr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retener fondos para pagar un cheque que se presenta a cobro:</a:t>
            </a:r>
            <a:r>
              <a:rPr b="0" lang="en-US" sz="2000" spc="-1" strike="noStrike">
                <a:solidFill>
                  <a:srgbClr val="ffffff"/>
                </a:solidFill>
                <a:latin typeface="Arial"/>
              </a:rPr>
              <a:t> El banco no puede dar conformidad anticipada ya que el cheque no admite aceptación y, por lo tanto, cualquier conformidad dada a un portador sólo tiene un valor informativo y, en ningún caso, puede afectar los fondos disponibles en la cuenta para el pago de otros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ago de cheques en moneda extranjera con documentos:</a:t>
            </a:r>
            <a:r>
              <a:rPr b="0" lang="en-US" sz="2000" spc="-1" strike="noStrike">
                <a:solidFill>
                  <a:srgbClr val="ffffff"/>
                </a:solidFill>
                <a:latin typeface="Arial"/>
              </a:rPr>
              <a:t> el artículo 46 de la Ley sobre Cuentas Corrientes Bancarias y Cheques contiene una disposición excepcional que permite el banco librado pagar los cheques girados sobre cuentas corrientes en moneda extranjera que se le presenten a cobro, a su elección, en efectivo, en cheques contra el Banco Central de Chile o en letras a la vista, en órdenes de pago o mediante cheques sobre plazas extranjeras, pero, en todo caso, en la moneda extranjera en que el cheque este extendi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Oden de no pago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 definición del artículo 10 de la Ley sobre Cuentas Corrientes Bancarias y Cheques y de acuerdo a su naturaleza, es una orden de pago, o sea, un mandato y, como tal, es esencialmente revoc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debe abstenerse de pagar un cheque cuando así lo avise por escrito el respectivo librador, sin que afecten al banco responsabilidades si esa revocación se hace por motivos distintos de los que enumera el inciso segundo del articulo 26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asos que el referido artículo indica, dicen relación a las relaciones del librador con el beneficiario, en el sentido de que si se revoca el cheque fuera de esos casos, sería el librador responsable ante el beneficiario e incurriría en la responsabilidad penal por el delito establecido en el inciso segundo del artículo 22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por su parte, en cumplimiento del mandato, debe limitarse a dejar constancia en el documento, de la instrucción que ha recibido, pero no puede oponerse a la revocación, calificando las causas que el librador hubiere tenido para la misma, y aún cuando la cuenta corriente no tuviere la provisión de fondos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puede el banco librado condicionar la vigencia de la orden de no pago a un periodo  o plazo determinado, debiendo entenderse que la revocación es indefini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dicación de las causas que motivan la revocación del cheque: </a:t>
            </a:r>
            <a:r>
              <a:rPr b="0" lang="en-US" sz="2000" spc="-1" strike="noStrike">
                <a:solidFill>
                  <a:srgbClr val="ffffff"/>
                </a:solidFill>
                <a:latin typeface="Arial"/>
              </a:rPr>
              <a:t>El banco libraso siempre debe abstenerse de pagar un cheque revocado aun cuando el librador no le señale motivo algu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expresa algun motivo para revocar el cheque, tal motivo debe ser consignado por el banco librado en el acta de protesto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razón de la revocación es una de las señaladas en el artículo 26 de la ley de cheques, resulta conveniente para el librador estampar y precisar este hecho en el momento de dar el respectivo aviso al banco libr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tenedor de un cheque que no ha sido pagado, está en su derecho de pedir que se estampe en el documento el protesto en la forma establecida en el artículo 33 de la ley de chequ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Revocación del cheque por extravío:</a:t>
            </a:r>
            <a:r>
              <a:rPr b="0" lang="en-US" sz="2000" spc="-1" strike="noStrike">
                <a:solidFill>
                  <a:srgbClr val="ffffff"/>
                </a:solidFill>
                <a:latin typeface="Arial"/>
              </a:rPr>
              <a:t> de conformidad con el artículo 29 de la ley de cheques, el portador que extravíe un cheque debe inforamarlo por escrito al banco librado y publicar un aviso del hecho durante tres días en un periódico de la localidad. Ante esta gestión, el banco debe suspender el pago del cheque por diez dí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nte ese plazo, el beneficiario deberá requerir al librador la orden de no pago del cheque extravi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umplido ese plazo el banco librado no recibe tal orden de su comitente ni media una prohibición judicial, deberá pagar el cheque a quien lo presente, siempre que resulte del mismo cheque que el portador de este es su tenedor legitimo y que tome la precaución de asegurarse de su ident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y cancelación del cheque:</a:t>
            </a:r>
            <a:endParaRPr b="0" lang="en-US" sz="32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1 inciso tercero de la Ley sobre Cuentas Corrientes Bancarias y Cheques, dispone que el cheque girado en pago de obligaciones se sujetará a las reglas generales de la letra de cambio, en todos los aspectos que no contempla dicha ley</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endido que el endoso de cheques no ha sido tratado en la referida ley sobre cuentas corrientes, éste se rige por las reglas que acerca de la materia se establecen en la Ley No 18.092 sobre Letra de Cambio y Pagaré</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final del articulo 16 de la Ley sobre Cuentas Corrientes Bancarias y Cheques hace responsible al banco librado si paga a persona desconocida, por lo que tiene el deber de verificar la identidad de la persona que presenta a cobro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41760"/>
            <a:ext cx="78850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ortador del cheque puede ser el propio girador que lo pudo extraviar antes de entregarlo y, por lo tanto, para resguardar sus intereses, debería hacer él mismo las publicaciones del caso, aún cuando como hemos dicho el banco no podría rechazar la orden de no pago de su comitente aunque no se haya cumplido con dichas publicaci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Forma de dar la orden de no pago  o revocación del cheque:</a:t>
            </a:r>
            <a:r>
              <a:rPr b="0" lang="en-US" sz="2000" spc="-1" strike="noStrike">
                <a:solidFill>
                  <a:srgbClr val="ffffff"/>
                </a:solidFill>
                <a:latin typeface="Arial"/>
              </a:rPr>
              <a:t> la orden de no pago es dada por el librador o el portador del cheque, según sea el caso, por un medio fidedig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e efecto, se considera medio fidedigno el servicio telefónico que para ese fin debe tener habilitado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servicio debe contar con un medio que permita al banco identificar al usuario, cuando este sea el librador del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visos de no pago, pueden darse también por escrito, sea por carta o mediante formularios dispuestos por el banco, como también por fax, o a través de correo electrónico u otro medio que se tenga habilitado y que opere en forma perman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l servicio telefónico o cualquier otro medio de comunicación remota, deberá estar habilitado en forma permanente, 24 horas/7  días, estos es incluidos los inhabiles bancarios y festivos. Estos servicios deben ser gratu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deberá registar e identificar la orden de no  pago, mediante un número  o código de recepción, dejando constancia de la fecha y hora en que fue recibida, datos que se comunicarán al librador o portador en el momento en que se proceda al registro del respectivo avis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o el portador de un cheque no dispone de una clave de acceso que lo identifique para dar un aviso de no pago por vía telefónica o por un medio electrónico, deberá ratificar la instrucción ante el banco librado hasta la diez horas del día hábil bancario inmediatamente sigui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testo de cheq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 un cheque es un acto solemne cuyo objeto consiste en dejar testimonio de que el documento presentado a cobro no ha sido pag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es siempre obligatorio para el banco, cualquiera sea el motivo que origine la falta de pago, sólo que cuando la causa es falta de fondos, el protesto debe hacerlo de oficio el banco, en los otros casos, sera a petición del port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ausales de protesto de cheques:</a:t>
            </a:r>
            <a:r>
              <a:rPr b="0" lang="en-US" sz="2000" spc="-1" strike="noStrike">
                <a:solidFill>
                  <a:srgbClr val="ffffff"/>
                </a:solidFill>
                <a:latin typeface="Arial"/>
              </a:rPr>
              <a:t> la Ley sobre Cuentas Corrientes Bancarias y Cheques señala que los cheques se protestan por falta de pago, pero no indica las situaciones que deben originar la negativa del banco librado a pagarl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corresponde al banco indicar la causal que impide el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ido a que es frecuente que en el cobro de un cheque concurren varias causales para su protesto y por la importancia que ello tiene, tanto para el librador como para el portador, la SBIF ha establecido un orden de prioridades que los bancos deben respetar en lo relativo a causales de protesto de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ales de forma: si concurren en un cheque diversas circunstancias por las cuales deba rechazarse su pago, deberá atenderse, en primer lugar, a si alguna de esas causales dice relación con la forma del cheque. Si así ocurre, se le rechazará dejando constancia de que no se paga por firma disconforme, fecha inexistente, diferencia entre la indicacion de la cantidad en letras y números, et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ducidad del cheque: en segundo lugar, deberá tenerse presente la vigencia del cheque. Si el cheque no contiene vicios formales, pero se cobra fuera del plazo establecido por la ley, el librado deberá protestarlo por esa caus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n de no pago: en tercer lugar, deberá considerarse si existe orden de no pago. Si el cheque no presenta problemas formales y está vigente, pero ha sido revocado, el banco debe limitarse a protestarlo, dejando constancia en el documento de la instrucción recibida de su mandante, sin atender a la causal en que ella se funde no discriminar si la cuenta dispone o no de los fondos necesarios para su pa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alta de fondos o cuenta corriente cerrada:</a:t>
            </a:r>
            <a:r>
              <a:rPr b="0" lang="en-US" sz="2000" spc="-1" strike="noStrike">
                <a:solidFill>
                  <a:srgbClr val="ffffff"/>
                </a:solidFill>
                <a:latin typeface="Arial"/>
              </a:rPr>
              <a:t> por último, si no existe ninguna de las causales indicadas anteriormente, el cheque deberá ser protestado, si es el caso, por falta de fondos o, cuando corresponda, por la causal cuenta cerra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istencia de fondos en canje o valores en cobro no dará lugar a la suspensión del protesto y a su publicación en el Boletín de Informaciones Comerciales, ni atenuará las consecuencias de tal protesto para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xpresiones “fondos en canje” o “valores en cobro” agregadas al protesto, carecen de efecto y sólo tienen la ventaja de hacer saber al tenedor del cheque que la cuenta podría tener, en una fecha próxima, fondos para el pag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es sin perjuicio de la posibilidad de conceder un sobregiro en la cuenta corriente del libr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testo de cheques presentados a cobro con posterioridad al cierre de la cuenta:</a:t>
            </a:r>
            <a:r>
              <a:rPr b="0" lang="en-US" sz="2000" spc="-1" strike="noStrike">
                <a:solidFill>
                  <a:srgbClr val="ffffff"/>
                </a:solidFill>
                <a:latin typeface="Arial"/>
              </a:rPr>
              <a:t> el hecho de estar cerrada una cuenta corriente, ya sea por iniciativa del banco o por voluntad del titular o por su fallecimiento, no libera a la entidad de la obligación de pagar los cheques que se le presenten a cobro hasta concurrencia de las sumas depositadas en dicha cuenta, siempre que en el cheque no concurran otras causas por las cuales deba rechazarse su pag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cuenta cerrada no tiene fondos, los cheques que se presenten a cobro y que hayan sido girados con anterioridad al cierre de la cuenta, deberán protestarse de oficio por la causal “falta de fondos”, sin perjuicio de dejar constancia que la cuenta corriente respectiva se encuentra cerrada, a fin de evitar un segundo protest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girados con posterioridad al cierre de la cuenta se protestarán, cuando no existan fondos pata pagarlos, por la causal “cuenta cer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Datos y formalidades del protes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be extenderse en el reverso mismo del cheque, con caracteres claramente legi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 exista espacio suficiente para estampar todos los datos, debe adherirse una hoja especial para ello. En este caso, es conveniente que esta hoja se timbre conjuntamente con la parte del cheque contigua a aquella en que va pegada, con una leyenda tal como “protestado”, “protesto” u otra análoga, que evite que pueda ser despegada sin que quede evidencia de el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a de protesto debe contener los siguientes datos: 1) identificación del titular y del firmante; 2) domicilio del titular; 3) causa del protesto; 4) fecha y hora del protesto; 5) valor del impuesto; 6) firma del banco librado (la persona debe tener suficiente para representar al banco, de lo contrario adolece de vicio de nu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olución de endoso de cheques protestados: los bancos que reciban cheques en cobro que resulten protestados por cualquier causa, deberán devolver el endoso al comitente con el objeto de habilitarlo para ejercitar las acciones correspondientes en contra del girador del cheque y demás responsables de su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es tenedor del cheque en virtud de un mandato de cobranza de su comitente y tiene la obligación de devolver a éste el documento protestado. En este endoso, el banco puede agregar la frase usual “sin responsabilidad para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rotestado por falta de fondos no pierde su valor ni tampoco cambia su naturaleza jurídica, por lo tanto, puede ser presentado de nuevo a cobro o redepositado mientras no haya transcurrido el plazo de caducidad que señala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mismo modo, pueden ser nuevamente depositados aquellos documentos en que las causas del protesto hayan sido subsanadas, como ocurre, por ejemplo, cuando el protesto se debió a la falta de endoso o en el caso de cheques caducados que fueron revalidados por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no altera, en modo alguno, la forma en que corresponde pagar el cheque ni su forma de cesión. Por lo tanto si un cheque estuviere cruzado, no puede ser pagado por caja y si fuere a la orden o nominativo deben tenerse en consideración las formalidades y requisitos de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lo dispuesto en el articulo 1° del D.L. No 3.475 y sus modificaciones, todos los cheques que resulten protestados por falta de fondos quedan gravados con un impuesto. Este tributo se paga una sola vez, aunque el mismo cheque sea protestado varias ve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31 de la Ley 18.092 por su parte, establece la obligación de verificar la continuidad de los endosos que tuviere el documento, por lo que el banco librado debe verificar que exista una serie ininterrumpida de endosos hasta llegar a la persona que lo presenta a cobro, pero no está obligado a verificar la legitimidad de las firmas de todos los endos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banco cumple con verificar la identidad de la persona que presenta el cheque a cobro y la continuidad de los endosos, no queda responsable si paga a un portador ilegítimo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el banco librado carece de facultades para exigir que se le compruebe la autenticidad de los endosos y, por lo tanto, no puede negar el pago por esa razón; pero debe negarlo siempre que no exista continuidad en los endosos hasta llegar al último de ellos, el que debe estar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valor del impuesto se cobra únicamente al girador y se carga a su cuenta corriente, aun cuando esta estuviere sobregirada o bien en otra forma que el banco estime conveniente. De cualquier modo, el responsable del pago del impuesto es el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deben llevar, en cada oficina, un libro en que anoten todos los cheques que protesten a cualquier tít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libro se dejará constancia de la fecha y hora del protesto, los nombres y apellidos completos del girador y de los represenatntes o mandatarios de las personas jurídicas o naturales, según sea el caso; número de la cédula de identidad, número de la cuenta corriente y del cheque; monto del documento; monto del impuesto cuando corresponda; nombre y apellido del ultimo tenedor (cuando el cheque se presente por intermedio de otro banco, será el nombre de ese banco el que se deje como último tenedor del cheque y, la causal del prote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nvío de nominas de cheques protestados al Boletín de Informaciones Comerciales:</a:t>
            </a:r>
            <a:r>
              <a:rPr b="0" lang="en-US" sz="2000" spc="-1" strike="noStrike">
                <a:solidFill>
                  <a:srgbClr val="ffffff"/>
                </a:solidFill>
                <a:latin typeface="Arial"/>
              </a:rPr>
              <a:t> los bancos que protesten cheques por falta de fondos o cuenta cerrada, deben enviar semanalmente a la Cámara de Comercio de Santiago,  una nómina de tales docum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de cheques nominativos:</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 nominativos solo pueden ser endosados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un cheque que se deposita en una cuenta corriente del propio beneficiario, el endoso puede hacerse con la sola firma del cuentacorrentista, de su mandatario o de su representante leg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demás casos, el banco exigirá el endoso con la claúsula de valor en cobro u otra equiva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sponsabilidad de los bancos en el endoso de un cheque nominativo:</a:t>
            </a:r>
            <a:endParaRPr b="0" lang="en-US" sz="32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banco encargado de la cobranza le corresponde comprobar que quien endosa un cheque nominativo es el beneficiario del cheque y debe cuidar de no recibir documentos que no pertenezcan al cuentacorrentista, salvo que este demuestre ser mandatario del beneficiario del cheque y estar autorizado para percibir o para depositar en su propia cuenta tales documen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en cambio, sólo debe cuidar que el documento se encuentre endosado al banco que lo presenta a cobro, para dar cumplimiento al artículo 14 de la Ley sobre Cuentas Corrientes Bancarias y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0440" y="-41760"/>
            <a:ext cx="81057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librado no puede negarse a pagar un cheque nominativo que le sea presentado a cobro por otro banco, en razón del endoso que conten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algún reclamo se suscita por tratarse de una persona distinta del beneficiario del cheque, será responsable el banco que lo admitió en depósito y que se hizo responsable del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jurídicas que endosen cheques deben completar el endoso con la expresión “por poder” o “p.p.” e indicar claramente el nombre de la empresa o institu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que no cumplan con este requisito deberan protestarse por endoso incompleto, ya que se trata de un problema con la firma del endoso. El endoso debe ser firmado por quien lo extiende. La firma hecha por mandato de otro debe indicar esta circunstancia y por ello debe expresar que es “por poder de…xx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so y cancelación de cheques depositad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iste inconveniente en que un banco reciba cheques girados en su contra y que a la vez le son endosados en comisión de cobranz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es totalmente aceptable que un banco asuma la doble calidad: la de comisionista para el cobro, con respecto al portador de un documento y la de banco librado con respecto al girador del cheque, lo que es importante cuando se trata de un cheque cruz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hecho que un cheque que sea depositado en la misma oficina contra la cual está girado, se endose en vez de cancelarse, no faculta al banco para retener los fondos o postergar el cargo en la cuenta corriente del girador. Es decir, no hay motivo para que el banco trate de manera diferente los cheques endosados en comisión de cobranza que se depositen, con respecto a aquellos que son cencelados al depositar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8988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ersona que cobra un cheque exhibe su cédula de identidad, ello es suficiente prueba para identificarl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que efectúe la cancelación alguien que no sabe firmar, basta con que estampe su impresión digital en el anverso del documento, sin que deba exigirsele la testificación de personas ni la firma a ruego, medidas que la ley exige cuando no se acredita identidad o para determinados actos solem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 Cruz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como lo dispone el articulo 31 de la Ley sobre Cuentas Corrientes Bancarias y Cheques, sólo puede ser cobrado al librado a través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de forma especial, es decir, que incluya el nombre de un banco entre las dos líneas paralelas que indican el cruzamiento, la presentación debe hacerse por conducto del banco específicamente señalado, o al que éste le delegue,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ruzamiento del cheque no tiene relación con su cesibilidad. El cheque, tanto al portador, a la orden, como nominativo, admite cruzamiento. La única condición que impone el tener un cheque cruzado es que debe ser cobrado por intermedio de un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condición tiende a evitar la suplantación del tenedor legítimo, desde el momento en que este debe tener la calidad de comitente del banco y debe suponerse que el banco conocerá a su cliente en mayor grado que a una persona que, no obstante acreditar su identidad, forma parte del público atendido por c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03:01:58Z</dcterms:created>
  <dc:creator>Hugo Luis Caneo Ormazabal</dc:creator>
  <dc:description/>
  <dc:language>en-US</dc:language>
  <cp:lastModifiedBy>Administrador</cp:lastModifiedBy>
  <dcterms:modified xsi:type="dcterms:W3CDTF">2006-08-29T16:04:40Z</dcterms:modified>
  <cp:revision>9</cp:revision>
  <dc:subject/>
  <dc:title>Imposibilidad de modificar el caracter nominativo de un cheque:</dc:title>
</cp:coreProperties>
</file>