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4688-D5E4-4697-8884-E8B6C81F8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DB89-04B8-400B-B8CD-4B13F8BB0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B201B-EEE6-46F9-88F2-18BAC2FDA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FFF47-9C58-4F8E-8165-D310129FB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00C88-95F4-40FA-AAF0-58A2D2461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A3F1D-FCB9-4C42-94BE-1750D9BED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1EF41-D4B7-447D-975A-6816396AC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3172E-4020-4A0E-8AC3-9A1C1C008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C7B73-4139-4A57-8C70-9B4411FD7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DB8D2-0B54-42E1-BE9E-D50F4F927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6C756-A64A-42B0-B466-689DBCB7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DDA6-5227-47FE-92E5-70715B79B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9DDC-3793-4526-9431-56F4E7BBD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83FB8-0F1E-4747-A54A-8AF88618E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41655-5CAA-4C62-8E5F-05A89CB12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6DBA2-0D5A-4B9B-9E6C-23C9ECC6E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8E5AB-9BDF-4B00-AB3A-45E0E50E2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411CA-4E32-4004-A97B-45607780C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FF496-99E6-4D4D-83C0-F152FD32F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1FCD7-CB31-472B-903B-AA1DFF64C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60F4-66F9-49EC-95C5-7816C7F32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F80A-F934-4CBB-A697-3AA9A29F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4A38-C07F-41AB-A75B-7899BB6D0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64AC-3BEF-4E32-902E-F6E84F2A7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8422-69D0-47CD-AE04-18DC6C55872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B5B9-CB74-44ED-A35B-66961FA1EE6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228600"/>
            <a:ext cx="8305560" cy="1241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Administración de los Bancos</a:t>
            </a:r>
            <a:endParaRPr b="0" lang="en-US" sz="4200" spc="-1" strike="noStrike">
              <a:solidFill>
                <a:srgbClr val="ffffcc"/>
              </a:solidFill>
              <a:latin typeface="Arial"/>
            </a:endParaRPr>
          </a:p>
        </p:txBody>
      </p:sp>
      <p:sp>
        <p:nvSpPr>
          <p:cNvPr id="115" name="PlaceHolder 2"/>
          <p:cNvSpPr>
            <a:spLocks noGrp="1"/>
          </p:cNvSpPr>
          <p:nvPr>
            <p:ph type="subTitle"/>
          </p:nvPr>
        </p:nvSpPr>
        <p:spPr>
          <a:xfrm>
            <a:off x="1371600" y="1447920"/>
            <a:ext cx="6400800" cy="502920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just">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o en otras sociedades anónimas, la administración de los bancos está a cargo de un Directorio, salvo las facultades que se reservan a la Junta de Accionistas</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algn="just">
              <a:spcBef>
                <a:spcPts val="601"/>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l Directorio tiene la plenitud de las facultades para dirigir la vida diaria de un banco, lo que ejerce a través de sus administradores designados o gerentes</a:t>
            </a:r>
            <a:endParaRPr b="0" lang="en-US" sz="2400" spc="-1" strike="noStrike">
              <a:solidFill>
                <a:srgbClr val="eaeaea"/>
              </a:solidFill>
              <a:latin typeface="Verdana"/>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3" name="PlaceHolder 2"/>
          <p:cNvSpPr>
            <a:spLocks noGrp="1"/>
          </p:cNvSpPr>
          <p:nvPr>
            <p:ph/>
          </p:nvPr>
        </p:nvSpPr>
        <p:spPr>
          <a:xfrm>
            <a:off x="457200" y="228600"/>
            <a:ext cx="8229600" cy="597384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elecciones se rigen por la ley y el reglamento de sociedades anónimas</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 una acción un voto</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 posible acumular votos a favor de una persona o distribuirlos entre dos o más, y que se proclamen elegidas las que en una misma y única votación obtengan la mayor cantidad de votos hasta concurrencia de los cargos por llenar</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 hace votación separada para elección, en una misma junta, de directores titulares y suplentes o de inspectores de cuentas titulares y suplent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iculo 48 de la LGB faculta al Superintendente o al delegado designado al efecto para resolver cualquier problema  que se suscite en la junta, incluida la calificación de poderes que pueda afectar la validez de su constitución o de los acuerdos que adop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resolución administrativa que resulte del ejercicio de esta facultad, valida todos los actos que se efectúen por los directores elegidos por esa junta, cualquiera que fuere la decisión que en definitva adopte la justicia ordinaria, que solo regirá para lo futur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Protección del Giro Bancario</a:t>
            </a:r>
            <a:endParaRPr b="0" lang="en-US" sz="32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artículo 39 de la LGB establece prohibiciones a las personas o entidades que no hayan sido expresamente autorizadas por la ley para dedicarse al giro bancario</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e giro lo define el artículo 40 de la LGB como “captar o recibir en forma habitual dinero o fondos del público, con el objeto de darlo a su vez en préstamo o efectuar otras operacione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l texto del inciso primero del articulo 39 de la LGB, “captar o recibir en forma habitual dinero del público, ya sea en depósito, mutuo o en cualquier otra forma” aparece que no es necesario efectuar una intermediacion para invadir el giro bancario, sino que basta la captación habitual de depósitos u otros fondo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SBIF mediante una Circular Conjunta con la SVS (ver anexo del capitul 2-1 de la RAN) procuró explicar cuando se invadía el giro bancario especialmente en la intermediación de documentos. Esta circular esta vigente, salvo la letra c) del No 3, que fue derogada por circular No 3.163 del año 2002</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7"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 lo anteriormente expuesto se desprende que no existe, como ocurre en otros países, invasión al giro bancario cuando se presta dinero propi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inciso segundo del artículo 39 de la LGB, “ Ninguna persona natural o jurídica que no hubiere sido autorizada por ley, podrá dedicarse por cuenta propia o ajena a la correduría  de dinero o de créditos representados por valores mobiliarios o efectos de comercio, o cualquier otro título de crédito”</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e inciso fue agregado por un Decereto Ley dictado en un momento de pánico financiero a fines de 1976, producido por la cesación de pagos de un banco, una sociedad financiera legítima, de una cooperativa de ahorro y crédito y otras financieras informales</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eso parece que con esta disposición se quiso establecer una presunción de invasión al giro bancario, pero la redacción fue más allá y, asimilándola a la invasión misma, prohibió la intermediación financiera, que llamó correduría de diner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9"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se aplica estrictamente esta disposición resulta que invade el giro bancario el que obtiene dinero en un banco y lo presta a terceros, el que recibe dinero del exterior y también lo presta o el que emite bonos y presta su producto, todo lo cual no resiste análisi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misma disposición prohibe que las personas no autorizadas utilicen la palabra banco en su papelería o en sus planchas o avis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 anteriormente expuesto bajo sanción penal y, a contar de julio de 2005, deben ponerse esos antecedentes a disposición del Ministerio Públic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Superintendencia tiene facultades inspectivas cuando se presuma que existe una infracción, pero si alguien denuncia un hecho ya consumado, corresponde al Ministerio Público iniciar las acciones correspondiente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eraciones de los Bancos: Artículos 40, 41 y 26 de la LGB y 69 de la Ley 18.045</a:t>
            </a:r>
            <a:endParaRPr b="0" lang="en-US" sz="32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ículo 40 define lo que se entiende por banco y dirime algo que se había discutido con las leyes anteriores a la de 1997</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Que los bancos, si bien son entidades de derecho privado, tienen la limitación propia de las de derecho público de que no pueden efectuar otras operaciones o negocios que los que la ley les permita</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parece evidente porque no tendría sentido establecer todo un sistema de regulación de la actividad bancaria si los bancos pudieran apartarse de dicha reglamentación y hacer lo que estimen convenien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 cosa, pero no menos relevante es que muchas de las disposiciones de la ley, especialmente la que define sus operaciones, pueden interpretarse de un modo más amplio, analógico o actualizado, siempre que el objeto o finalidad de la institución no lo rechac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3" name="PlaceHolder 2"/>
          <p:cNvSpPr>
            <a:spLocks noGrp="1"/>
          </p:cNvSpPr>
          <p:nvPr>
            <p:ph/>
          </p:nvPr>
        </p:nvSpPr>
        <p:spPr>
          <a:xfrm>
            <a:off x="304560" y="228600"/>
            <a:ext cx="8305560" cy="5897520"/>
          </a:xfrm>
          <a:prstGeom prst="rect">
            <a:avLst/>
          </a:prstGeom>
          <a:noFill/>
          <a:ln w="0">
            <a:noFill/>
          </a:ln>
        </p:spPr>
        <p:txBody>
          <a:bodyPr lIns="90000" rIns="90000" tIns="46800" bIns="46800" anchor="t">
            <a:normAutofit/>
          </a:bodyPr>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actual definición de banco que da el artículo 40 de la LGB es más completa que la anterior</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Banco es toda sociedad anónima especial que, autorizada en la forma prescrita por esta ley y con sujeción a la misma, se dedique a captar o recibir en forma habitual dinero o fondos del público, con el objeto de darlo en préstamo, descontar documentos, realizar inversiones, proceder a la intermadiación financiera, hacer rentar esos dineros y, en general, realizar toda otra operación que la ley permita”</a:t>
            </a:r>
            <a:endParaRPr b="0" lang="en-US" sz="2000" spc="-1" strike="noStrike">
              <a:solidFill>
                <a:srgbClr val="eaeaea"/>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operaciones fundamentales de estas empresas son:</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peración pasiva: recibir dinero en depósito  o en cuenta corriente</a:t>
            </a:r>
            <a:endParaRPr b="0" lang="en-US" sz="2000" spc="-1" strike="noStrike">
              <a:solidFill>
                <a:srgbClr val="eaeaea"/>
              </a:solidFill>
              <a:latin typeface="Verdana"/>
            </a:endParaRPr>
          </a:p>
          <a:p>
            <a:pPr marL="609480" indent="-609480">
              <a:lnSpc>
                <a:spcPct val="8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peracion activa: dar ese dinero en préstamo, sea en forma de mutuo, de descuento de documentos o en cualquier otra forma</a:t>
            </a:r>
            <a:endParaRPr b="0" lang="en-US" sz="2000" spc="-1" strike="noStrike">
              <a:solidFill>
                <a:srgbClr val="eaeaea"/>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o esencial de un banco es que no opera con sus solos dineros propios, sino que presta el dinero que capta a su vez del públic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5"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artículo 41 hace aplicables a los bancos, en subsidio de su propia ley, las disposiciones de las sociedades anónimas abiertas en cuanto puedan conciliarse y no se opongan a sus precept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Capitulo 1-1 de la RAN procuró hacer una especie de inventario de cuales normas de la ley y del reglamento de sociedades anónimas son aplicables a los bancos y como operan en este cas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emás, hay que considerar el artículo 26 de la LGB que da a la SBIF las facultades que las leyes otorgan a la SV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ismo artículo 26 señala que el Superintendente de Bancos tendrá las mismas facultades que las leyes confieren al de valores respecto de los auditores externos</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eso los auditores externos se registran en ambas instituciones, al igual que las empresas evaluador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7" name="PlaceHolder 2"/>
          <p:cNvSpPr>
            <a:spLocks noGrp="1"/>
          </p:cNvSpPr>
          <p:nvPr>
            <p:ph/>
          </p:nvPr>
        </p:nvSpPr>
        <p:spPr>
          <a:xfrm>
            <a:off x="304560" y="304920"/>
            <a:ext cx="8305560" cy="6324480"/>
          </a:xfrm>
          <a:prstGeom prst="rect">
            <a:avLst/>
          </a:prstGeom>
          <a:noFill/>
          <a:ln w="0">
            <a:noFill/>
          </a:ln>
        </p:spPr>
        <p:txBody>
          <a:bodyPr lIns="90000" rIns="90000" tIns="46800" bIns="46800" anchor="t">
            <a:normAutofit/>
          </a:bodyPr>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ismo artículo 41 de la LGB, expresa que no se aplican a los bancos las normas que la ley de sociedades anónimas contempla sobre las siguientes materi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Que la Junta de Accionistas deba pronunciarse sobre el otorgamiento de avales y fianz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derecho de retiro anticipado de accionistas</a:t>
            </a:r>
            <a:endParaRPr b="0" lang="en-US" sz="2000" spc="-1" strike="noStrike">
              <a:solidFill>
                <a:srgbClr val="eaeaea"/>
              </a:solidFill>
              <a:latin typeface="Verdana"/>
            </a:endParaRPr>
          </a:p>
          <a:p>
            <a:pPr marL="609480" indent="-609480">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solidacion de balances (debe relacionarse con el articulo 15 de la LGB que otorga al Superintendente de Bancos facultad para dictar normas referente a la forma en que los bancos deben presentar sus balances)</a:t>
            </a:r>
            <a:endParaRPr b="0" lang="en-US" sz="20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de Sociedades Anónimas, por su parte, en el articulo 69, encarga a la SBIF el cumplimiento de esa ley respecto de los bancos y que la SBIF impartirá las instrucciones para la aplicación de las normas que rigen la actividad bancaria, adoptando al efecto las que dicte la SVS y fiscalizará su cumplimiento</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49" name="PlaceHolder 2"/>
          <p:cNvSpPr>
            <a:spLocks noGrp="1"/>
          </p:cNvSpPr>
          <p:nvPr>
            <p:ph/>
          </p:nvPr>
        </p:nvSpPr>
        <p:spPr>
          <a:xfrm>
            <a:off x="304560" y="152280"/>
            <a:ext cx="8381880" cy="5973840"/>
          </a:xfrm>
          <a:prstGeom prst="rect">
            <a:avLst/>
          </a:prstGeom>
          <a:noFill/>
          <a:ln w="0">
            <a:noFill/>
          </a:ln>
        </p:spPr>
        <p:txBody>
          <a:bodyPr lIns="90000" rIns="90000" tIns="46800" bIns="46800" anchor="t">
            <a:normAutofit/>
          </a:bodyPr>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debe relacionarse con el artículo 25 de la misma ley que establece que los bancos no requieren inscripción en el Registro de Corredores o Agentes de Valores para efectuar las funciones de intermediación que les faculta la LGB, pero tiene que sujetarse en ello a la Ley de Mercado de Valore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o conviene relacionarlo con los artículos 69 N° 14 de la LGB (valores en custodia) y artículo 88 (compra y venta de valores por cuenta de tercero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sde que los bancos pueden participar en las corredoras de bolsa o tener agencias de valores, esta disposición del artículo 25 ha perdido importancia, sobre todo porque los bancos nunca pudieron actuar por si mismos en las bolsas de valores</a:t>
            </a:r>
            <a:endParaRPr b="0" lang="en-US" sz="20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inciso final del articulo 69, consecuente con que los bancos registran sus valores en la SBIF, señala que sólo será necesario hacerlo con sus acciones, bonos u otros títulos que la SBIF determine como las letras de crédito para operaciones hipotecaria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7"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 Composición del Directorio:</a:t>
            </a: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e ser un número impar, entre 5 y 11 y estar fijado en los estatutos (art. 49 No 4)</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disminución del número de directores requiere autorización de la Superintendencia y quorum de aprobación de los 2/3 de las acciones emitidas con derecho a vot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máximo de directores suplentes es do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Duración del directorio: </a:t>
            </a:r>
            <a:endParaRPr b="0" lang="en-US" sz="28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3 año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 Nombramiento de los directores</a:t>
            </a:r>
            <a:endParaRPr b="0" lang="en-US" sz="2800" spc="-1" strike="noStrike">
              <a:solidFill>
                <a:srgbClr val="eaeaea"/>
              </a:solidFill>
              <a:latin typeface="Verdana"/>
            </a:endParaRPr>
          </a:p>
          <a:p>
            <a:pPr marL="343080" indent="-34308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ormalmente se eligen en junta de accionist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13560"/>
            <a:ext cx="83055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9" name="PlaceHolder 2"/>
          <p:cNvSpPr>
            <a:spLocks noGrp="1"/>
          </p:cNvSpPr>
          <p:nvPr>
            <p:ph/>
          </p:nvPr>
        </p:nvSpPr>
        <p:spPr>
          <a:xfrm>
            <a:off x="457200" y="152280"/>
            <a:ext cx="8305920" cy="6400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 Inhabilidades e Incompatibilidades que afectan a Directores y Ejecutivos de los Bancos</a:t>
            </a:r>
            <a:endParaRPr b="0" lang="en-US" sz="28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habilidades: </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El condenado o procesado por delito sancionado con pena principal o accesoria de suspensión o inhabilitación perpetua o temporal para desempeñar cargos u  oficios públicos (art. 49 No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b) El fallido no rehabilitado (art. 49 No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 Las inhabilidades de la ley de sociedades anónimas, por referencia del artículo 41 de la LGB</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ompatibilidades: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Entre director de un banco y empleado o director de otro banco, incluido el Banco del Estado de Chile (art. 49 No 7)</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b) Entre director de un banco y empleado de la designación del Presidente de la República, a excepción de los doce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 Una misma persona no puede ser a la vez, director y empleado del mismo banco, pero un director puede ser gerente por no más de 90 días y en forma transitoria (art. 49 No 8)</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d) Las incompatibilidades de la ley de dociedades anónimas por referencia del artículo 41 de la LGB</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1"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5. Cesación de funciones:</a:t>
            </a:r>
            <a:endParaRPr b="0" lang="en-US" sz="2800" spc="-1" strike="noStrike">
              <a:solidFill>
                <a:srgbClr val="eaeaea"/>
              </a:solidFill>
              <a:latin typeface="Verdana"/>
            </a:endParaRPr>
          </a:p>
          <a:p>
            <a:pPr marL="343080" indent="-343080">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un director deja a asistir a las sesiones de directorio durante tres meses, sin autorización del directorio,v cesa en sus funciones por esa sóla circunstancia (art. 49 No 9)</a:t>
            </a:r>
            <a:endParaRPr b="0" lang="en-US" sz="2000" spc="-1" strike="noStrike">
              <a:solidFill>
                <a:srgbClr val="eaeaea"/>
              </a:solidFill>
              <a:latin typeface="Verdana"/>
            </a:endParaRPr>
          </a:p>
          <a:p>
            <a:pPr marL="343080" indent="-343080">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un director se ausenta con autorización del directorio, no se produce esta san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6. Requisitos para ser director:</a:t>
            </a:r>
            <a:endParaRPr b="0" lang="en-US" sz="2800" spc="-1" strike="noStrike">
              <a:solidFill>
                <a:srgbClr val="eaeaea"/>
              </a:solidFill>
              <a:latin typeface="Verdana"/>
            </a:endParaRPr>
          </a:p>
          <a:p>
            <a:pPr marL="343080" indent="-3430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prohibe toda discriminación o requisitos especiales derivados de la nacionalidad o profesión (art. 49 No 6)</a:t>
            </a:r>
            <a:endParaRPr b="0" lang="en-US" sz="2000" spc="-1" strike="noStrike">
              <a:solidFill>
                <a:srgbClr val="eaeaea"/>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7. Trámites de publicidad de la elección de directores:</a:t>
            </a:r>
            <a:endParaRPr b="0" lang="en-US" sz="2800" spc="-1" strike="noStrike">
              <a:solidFill>
                <a:srgbClr val="eaeaea"/>
              </a:solidFill>
              <a:latin typeface="Verdana"/>
            </a:endParaRPr>
          </a:p>
          <a:p>
            <a:pPr marL="343080" indent="-3430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da elección de directores debe ser publicada en un periódico del domicilio de la empresa y debe enviarse a la Superintendencia copia de la escritura pública a que se redujo el acta de la sesión de directorio o de la junta de accionistas en que se efectúa la ses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516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3"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8. Sesiones de Directorio:</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e reunirse al menos una vez al mes (art. 45)</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 deber es mantenerse informado con la correspondiente documentación, del manejo, conducción y situación de la entidad</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Superintendencia puede dictar normas para asegurar esa información (art. 46)</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empresas bancarias extranjeras no estarán obligadas a tener directorio para la administración de sus negocios en Chile, pero deberán tener un agente ampliamente autorizado que las represente con todas las facultades legales</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ste representante tiene las mismas responsabilidades y está sujeto a las mismas sanciones aplicables al directorio y directores de banco chileno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112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5" name="PlaceHolder 2"/>
          <p:cNvSpPr>
            <a:spLocks noGrp="1"/>
          </p:cNvSpPr>
          <p:nvPr>
            <p:ph/>
          </p:nvPr>
        </p:nvSpPr>
        <p:spPr>
          <a:xfrm>
            <a:off x="228600" y="380880"/>
            <a:ext cx="8763120" cy="574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Consejo Locales: no hay inconveniente para que los bancos establezcan para el manejo de sus oficinas regionales, consejos local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0. Comités de Auditoría:</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reglamentación de la Superintendencia los bancos deben contar con Comités de Auditoría que cuiden de la eficiencia de los sistemas de conterol interno de la empresa ydel cumplimiento de sus regulaciones</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 Comité de Auditoría reporta directamente al Directorio y está a cargo de la mantención, aplicación y funcionamiento de los controles internos de la emprea asi como de vigilar el cumplimiento de las normas y procedimientos que rigen su práctica y tener una clara comprensión de los riesgos que pueden significar para el banco los negocios que realice</a:t>
            </a:r>
            <a:endParaRPr b="0" lang="en-US" sz="2000" spc="-1" strike="noStrike">
              <a:solidFill>
                <a:srgbClr val="eaeaea"/>
              </a:solidFill>
              <a:latin typeface="Verdana"/>
            </a:endParaRPr>
          </a:p>
          <a:p>
            <a:pPr marL="343080" indent="-343080">
              <a:lnSpc>
                <a:spcPct val="8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USA, tras escándalos financieros como los de Enron, Worldcom, etc, se dictó la Ley Sarbanes-Oxley que endureció las normas para directores y gerentes de sociedades. Entre ellas, que deben formar comités de auditoría, de compensaciones integradas por una mayoría de directores independient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untas de Accionistas</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la LGB hay pocas disposiciones dirigidas particularmente a las juntas de accionistas de bancos, por lo que esta materia se rije, en general, por las mismas normas aplicables a las sociedades anónimas (Ley 18.046 y el Reglamento de Sociedades Anonimas) y por los estatutos del propio banco</a:t>
            </a:r>
            <a:endParaRPr b="0" lang="en-US" sz="2000" spc="-1" strike="noStrike">
              <a:solidFill>
                <a:srgbClr val="eaeaea"/>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s Juntas de Accionistas pueden ser: (artículos 55 y 56 de la Ley de S.A.)</a:t>
            </a:r>
            <a:endParaRPr b="0" lang="en-US" sz="2000" spc="-1" strike="noStrike">
              <a:solidFill>
                <a:srgbClr val="eaeaea"/>
              </a:solidFill>
              <a:latin typeface="Verdana"/>
            </a:endParaRPr>
          </a:p>
          <a:p>
            <a:pPr marL="609480" indent="-609480">
              <a:lnSpc>
                <a:spcPct val="90000"/>
              </a:lnSpc>
              <a:spcBef>
                <a:spcPts val="499"/>
              </a:spcBef>
              <a:buClr>
                <a:srgbClr val="eec85e"/>
              </a:buClr>
              <a:buSzPct val="7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rdinarias, que son aquellas que se celebran en forma periódica, dentro del cuatrimestre siguiente al cierre del ejercicio annual. En ellas se ven asuntos como los resultados del ejercicio, destino de las utilidades, elección de directores, auditores externos e inspectores de cuenta y otros asuntos acerca de la marcha del negocio</a:t>
            </a:r>
            <a:endParaRPr b="0" lang="en-US" sz="2000" spc="-1" strike="noStrike">
              <a:solidFill>
                <a:srgbClr val="eaeaea"/>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29" name="PlaceHolder 2"/>
          <p:cNvSpPr>
            <a:spLocks noGrp="1"/>
          </p:cNvSpPr>
          <p:nvPr>
            <p:ph/>
          </p:nvPr>
        </p:nvSpPr>
        <p:spPr>
          <a:xfrm>
            <a:off x="304560" y="228600"/>
            <a:ext cx="8381880" cy="58975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eec85e"/>
              </a:buClr>
              <a:buSzPct val="7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raordinarias, donde se trata cualquier asunto comprendido en la citación. Sólo en juntas extraordinarias pueden tratarse temas como modificaciones de estatutos, aumento de capital, disolución anticipada, prórroga de la duración del banco, negociación del activo y pasivo, etc. Tambien tiene este carácter la junta ordinaria que se celebra fuera de plazo ( no se aplica a los bancos el N° 5 del artículo 57 de la Ley sobre S.A.)</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vocatoria: a peticion del directorio o de un grupo de accionistas. La citacion se hace por tres avisos en un diario de su domicilio, dentro de los 20 dias anteriores a la fecha fijada para la junta. El primer aviso debe darse con al menos 15 dias de anticipacion. </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609480" algn="just">
              <a:lnSpc>
                <a:spcPct val="90000"/>
              </a:lnSpc>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 la primera citacion falla por falta de quorum, debe hacerse una segunda citacion cumpliendo las mismas formalidades y plazo, pero la fecha de la citacion no puede exceder los 45 dias desde la fecha de la fallida junta</a:t>
            </a:r>
            <a:endParaRPr b="0" lang="en-US" sz="2000" spc="-1" strike="noStrike">
              <a:solidFill>
                <a:srgbClr val="eaeaea"/>
              </a:solidFill>
              <a:latin typeface="Verdana"/>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31"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Un mismo aviso a citación no sirve para convocar a junta en sus dos posibles instancias</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a ley sobre sociedades anónimas exige la publicación del balance del ejercicio con una anticipación máxima de 20 días a la fecha en que se convocó a la junta</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ro la LGB, en su artículo 49 No 12, valida para estos efectos la publicación hecha con anterioridad, siempre que se indique en los avisos de convocatoria el periódico y fecha de la primera publica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otación: es posible ejercer el derecho a voto por poder en la forma contemplada en la ley de sociedades anónimas y su reglamento</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os estatutos no pueden limitar el número de acciones por las que cada accionista podrá votar en junta (art. 49 No 3)</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10:52:41Z</dcterms:created>
  <dc:creator>Hugo Luis Caneo Ormazabal</dc:creator>
  <dc:description/>
  <dc:language>en-US</dc:language>
  <cp:lastModifiedBy>Administrador</cp:lastModifiedBy>
  <dcterms:modified xsi:type="dcterms:W3CDTF">2006-08-17T17:30:28Z</dcterms:modified>
  <cp:revision>8</cp:revision>
  <dc:subject/>
  <dc:title>Administracion de los Bancos</dc:title>
</cp:coreProperties>
</file>