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1D4-E2DF-4FA0-A777-F5D6F206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B0C-285D-4B9A-87F8-7DB49DB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414-DFFF-4D84-9C20-AD8BE893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57B-BDAB-45C9-A6AD-62ADA1D7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357D-63A1-4539-AF6A-6A53E389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2EDB-16BF-4D56-9F4D-36F4157E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BF9-34B6-4687-A63A-6C6F6ACF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D98B-8A09-45C2-801D-91154E08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BF4-5058-4B49-BE4B-E92E1B0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4458-3940-469B-B929-4AF5EE12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DF53-508E-4BD2-8D3B-60CF412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339-56C0-4991-9A28-F7C694AC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6FDC-D76B-4D94-A46B-8840EA1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390D-9DF8-42BD-A20B-6A91B26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7956-806E-46B7-AEF2-BB603C5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0095-D672-414F-BE03-17BBF827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3B6E-FABF-4D57-A2C2-18E375D9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1AB-B1EC-45FA-AEBC-728CD7B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4FA-D61B-456E-9169-9470C2D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4F3-5E06-4DEE-AC0A-688A3386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7C2-2D11-4244-820D-96E83BF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256-117E-43F3-9506-B6CDE9B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045-835F-468F-B6CE-9C4E36E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F16-D828-4209-8ABC-A569F469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A94-BE01-473D-BA2B-BA9F5637C2CF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66AC-02F8-4EB1-AEC5-10F00A87F025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cursales y Filiales de Bancos Extranjer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 banco extranjero puede instalarse en Chile formando un nuevo banco, a través de una filial o instalando una sucurs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cursal de banco extranjero: articulo 3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tención de un certificado de autorización provisional que tendró validez de 10 me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do de existencia legal y vigencia d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caciín del capital que se destinara a la sucursal que debe ser el mínimo que la lay exi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der de la persona que getionará la instalación de la sucur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tecedentes que acrediten supervisión adecuada en 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ón autorización definitiv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 debe cumplir con los requisitos de los articulos 121 a 124 de la L.S.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on autorizacion para funcionar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a vez verificada la radicación del capital y comprobado que se encuentra preparada para iniciar sus actividades, especialmente, si cuenta con los recursos profesionales, tecnológicos y con los procedimientos y controles para emprender adecuadamente sus funciones, la Superintendencia le otorgará la autorización para funcio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Administración de las sucurs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stán obligados a tener directorio en Chile, pero deben tener un agente ampliamente facultado quien tendrá las mismas responsabilidades y sanciones de un directorio o directores individualmente (art. 4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ormas aplicables a los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n las mismas que los bancos nacionales, salvo disposición expresa. No podrán invocar preferencias derivadas de su nacionalidad, respecto de las operaciones de la sucursal en Chile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referencias para los acreedores chilenos y extranjeros domiciliad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ienes de la  sucursal en Chile responden preferentemente por sus obligaciones en favor de chilenos o extranjeros domiciliados en Chile, además de la responsabilidad de la propia casa matriz por las obligaciones contraídas por la sucursal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obstante lo anterior, para los efectos de las operaciones entre una sucursal y su casa matriz en el exterior, ambas se consideran como entidades independientes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da contienda que surja en relación con la sucursal en Chile, será resuelta por los tribunales chilenos, en conformidad a las leyes de la República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ratamiento del capital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l capital asignado a la sucursal debe ser efectivamente internado y convertido a moneda nacional en conformidad a alguno de los sistemas autorizados por la ley o por el Banco Central de Ch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16128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emesa de utilidade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orresponden a la utilidades de balances de ejercicios completos enviados a la casa matriz, hecho conforme al sistema de inversión extranjera al que se haya acogido y previo informe favorable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li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xiste impedimento legal para que un banco extranjero posea acciones de bancos chilenos ni restrinja dicha participación a un porcentaje determinado, por lo que es perfectamente posible que uno o mas bancos extranjeros constituyen un sociedad filial o subsidiaria en Chile, siempre que su casa matriz se ajuste al articulo 29 de la LGB. La filial o subsidiaria se regirá por las normas aplicables a los bancos chile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-8496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presentaciones de Bancos Extranjer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sde 1960 que la LGB permite la apertura de oficinas de representación de bancos extranjeros en Chile, conforme al articulo 33 de la  misma l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trata de agencias de negocios de sus casas matrices, es decir ponen en contacto a potenciales clientes con el banco en el extranj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pueden efectuar actos del giro banca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Superintendencia autoriza y revoca la instalación de estas oficinas y tiene plenas facultades de supervis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rmas Generales Aplicables a los Ban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cionamient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son instituciones de funcionamiento obligatorio dentro del horario fijado. El inicio, suspensión y término de operaciones requiere de autorización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funcionamiento obligatorio es de lunes a viernes, en jornada única banc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horario bancario es determinado por el Superintendente, mediante publicación en el diario oficial. Actualmente es de 9 a 14 hor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banco debe funcionar durante ese tiempo y no puede abrir a otras horas (arts. 37 y 3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o puede autorizárseles para funcionar fuera de los días y horas de atención obligatoria para prestar determinad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997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rtura y Cierre de Sucursales en el Pais (art.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pueden abrir oficinas a lo largo del país, previo registro de cada una de ellas en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la clasificación del banco es una de las dos últimas, según el articulo 59 y siguientes de la LGB, deberá obtener autorización de la Superintendencia, quien tiene un plazo de 90 días para pronunciarse y debe hacerlo por resolución fund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clausura o cierre de sucursales solo requiere de un aviso anticipado de 90 días hecho a la Superintendencia, aunque el banco esté en alguna de las dos ultimas categor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Concentracion Banca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 ley 19.705 de 20 de diciembre de 2000, agregó un artículo 35 bis a la LG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iene por objeto conceder facultades para prevenir una concentración del sistema bancario en pocas instituciones, independientemente de las facultades de los organismos antimonopolio para prevenir actos contrarios a la libre compet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era para fusiones, adquisición de activos y pasivos de un banco por otro en su totalidad o en una parte sustancial, toma de control de dos o más bancos por una misma persona o un grupo controlador o de un aumento sustancial de ese contro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s citadas operaciones requieren de una autorización previa si como resultado el banco adquirente o el grupo de bancos resultante alcancen una participación significativa en el mercado (mayor al 15% de acuerdo al criterio de la Superintendenc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11520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3049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utorización sólo puede denegarse por resolución fundada y siempre que el Consejo del Banco Central se haya pronunciado en igual sentido por la mayoría de sus miembros en ejerci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probación puede darse imponiendo a los bancos participantes exigencias mayores en cuanto a la proporción entre patrimonio efectivo y activos ponderados por riesgo, a la reserva técnica del artículo 65 de la LGB y en el margen de préstamos interbanc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resolución denegatoria puede reclamarse a la justcia en conformidad al artículo 2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2:13:34Z</dcterms:created>
  <dc:creator>Hugo Luis Caneo Ormazabal</dc:creator>
  <dc:description/>
  <dc:language>en-US</dc:language>
  <cp:lastModifiedBy>Administrador</cp:lastModifiedBy>
  <dcterms:modified xsi:type="dcterms:W3CDTF">2007-03-15T19:41:00Z</dcterms:modified>
  <cp:revision>5</cp:revision>
  <dc:subject/>
  <dc:title>Sucursales y Filiales de Bancos Extranjeros</dc:title>
</cp:coreProperties>
</file>