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8C7-A969-48D2-9A68-7A748E64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B8C-3AF5-4699-92A3-2B87A152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45F-51B4-45A4-9C1F-2012FB40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580-9BC9-470D-B978-E3A2549E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8C97-2EF4-4641-9F0F-C7518815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366F-1A8C-483B-AE44-39BF1340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61E4-8668-45F2-91DE-3EB0F6AB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196F-E20E-434A-BB0C-34E2894B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0FC7-8508-46E4-AC6B-5E1601C8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51C0-01ED-4A9A-BF51-C246E2B7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04BB-9B2B-4340-8689-B61C4167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B5B-C7D9-437A-8F12-45F612BC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4F52-9853-4E98-A078-B6654E11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0056-AE80-4A6E-A3AE-632A62AA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36FF-0BF1-4B8A-A732-57C3E081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66A2-C552-4FF0-8809-542E0940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2FAD-1CA1-4841-8D55-B28C5301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D1C-50A1-433F-BFA2-F42EFDDA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3D1-7AEB-48DC-9837-6B0DB32B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D66-1281-4FCA-9ECB-3ABE8717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846-17EE-437A-B9B6-13BD07A0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15A-1AA7-4624-8227-23EDC686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46F-9747-436A-AB1D-3D0D9395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152-57D5-49C0-9E53-758C6D4C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705F-E952-4770-B478-C4613AFF5D29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E382-89DC-4917-BF23-6E39BF006AC5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ucursales y Filiales de Bancos Extranjero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19320" y="1371240"/>
            <a:ext cx="6705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 banco extranjero puede instalarse en Chile formando un nuevo banco, a través de una filial o instalando una sucursa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cursal de banco extranjero: articulo 32 de la LG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btención de un certificado de autorización provisional que tendró validez de 10 me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ertificado de existencia legal y vigencia del país de orig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dicaciín del capital que se destinara a la sucursal que debe ser el mínimo que la lay exi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der de la persona que getionará la instalación de la sucur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tecedentes que acrediten supervisión adecuada en el país de orig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11484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Obtención autorización definitiva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e debe cumplir con los requisitos de los articulos 121 a 124 de la L.S.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Obtencion autorizacion para funcionar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na vez verificada la radicación del capital y comprobado que se encuentra preparada para iniciar sus actividades, especialmente, si cuenta con los recursos profesionales, tecnológicos y con los procedimientos y controles para emprender adecuadamente sus funciones, la Superintendencia le otorgará la autorización para funcio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Administración de las sucursales de bancos extranjero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no están obligados a tener directorio en Chile, pero deben tener un agente ampliamente facultado quien tendrá las mismas responsabilidades y sanciones de un directorio o directores individualmente (art. 4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Normas aplicables a los bancos extranjero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n las mismas que los bancos nacionales, salvo disposición expresa. No podrán invocar preferencias derivadas de su nacionalidad, respecto de las operaciones de la sucursal en Chile (art. 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13560"/>
            <a:ext cx="8610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Preferencias para los acreedores chilenos y extranjeros domiciliado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s bienes de la  sucursal en Chile responden preferentemente por sus obligaciones en favor de chilenos o extranjeros domiciliados en Chile, además de la responsabilidad de la propia casa matriz por las obligaciones contraídas por la sucursal (art. 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 obstante lo anterior, para los efectos de las operaciones entre una sucursal y su casa matriz en el exterior, ambas se consideran como entidades independientes (art. 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da contienda que surja en relación con la sucursal en Chile, será resuelta por los tribunales chilenos, en conformidad a las leyes de la República (art. 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)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Tratamiento del capital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el capital asignado a la sucursal debe ser efectivamente internado y convertido a moneda nacional en conformidad a alguno de los sistemas autorizados por la ley o por el Banco Central de Chi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16128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emesa de utilidade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orresponden a la utilidades de balances de ejercicios completos enviados a la casa matriz, hecho conforme al sistema de inversión extranjera al que se haya acogido y previo informe favorable de la Superintenden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Filiales de bancos extranjero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no existe impedimento legal para que un banco extranjero posea acciones de bancos chilenos ni restrinja dicha participación a un porcentaje determinado, por lo que es perfectamente posible que uno o mas bancos extranjeros constituyen un sociedad filial o subsidiaria en Chile, siempre que su casa matriz se ajuste al articulo 29 de la LGB. La filial o subsidiaria se regirá por las normas aplicables a los bancos chilen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-84960"/>
            <a:ext cx="8381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3055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Representaciones de Bancos Extranjeros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desde 1960 que la LGB permite la apertura de oficinas de representación de bancos extranjeros en Chile, conforme al articulo 33 de la  misma l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 trata de agencias de negocios de sus casas matrices, es decir ponen en contacto a potenciales clientes con el banco en el extranjer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pueden efectuar actos del giro bancar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 Superintendencia autoriza y revoca la instalación de estas oficinas y tiene plenas facultades de supervis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Normas Generales Aplicables a los Ban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uncionamiento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s bancos son instituciones de funcionamiento obligatorio dentro del horario fijado. El inicio, suspensión y término de operaciones requiere de autorización de la Superintenden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 funcionamiento obligatorio es de lunes a viernes, en jornada única bancar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 horario bancario es determinado por el Superintendente, mediante publicación en el diario oficial. Actualmente es de 9 a 14 hor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 banco debe funcionar durante ese tiempo y no puede abrir a otras horas (arts. 37 y 38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o puede autorizárseles para funcionar fuera de los días y horas de atención obligatoria para prestar determinados servic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9972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ertura y Cierre de Sucursales en el Pais (art. 3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s bancos pueden abrir oficinas a lo largo del país, previo registro de cada una de ellas en la Superintenden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 la clasificación del banco es una de las dos últimas, según el articulo 59 y siguientes de la LGB, deberá obtener autorización de la Superintendencia, quien tiene un plazo de 90 días para pronunciarse y debe hacerlo por resolución fundad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clausura o cierre de sucursales solo requiere de un aviso anticipado de 90 días hecho a la Superintendencia, aunque el banco esté en alguna de las dos ultimas categori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Concentracion Bancari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 ley 19.705 de 20 de diciembre de 2000, agregó un artículo 35 bis a la LG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iene por objeto conceder facultades para prevenir una concentración del sistema bancario en pocas instituciones, independientemente de las facultades de los organismos antimonopolio para prevenir actos contrarios a la libre competenc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Opera para fusiones, adquisición de activos y pasivos de un banco por otro en su totalidad o en una parte sustancial, toma de control de dos o más bancos por una misma persona o un grupo controlador o de un aumento sustancial de ese contro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s citadas operaciones requieren de una autorización previa si como resultado el banco adquirente o el grupo de bancos resultante alcancen una participación significativa en el mercado (mayor al 15% de acuerdo al criterio de la Superintendenc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11520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304920"/>
            <a:ext cx="830556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 autorización sólo puede denegarse por resolución fundada y siempre que el Consejo del Banco Central se haya pronunciado en igual sentido por la mayoría de sus miembros en ejercic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 aprobación puede darse imponiendo a los bancos participantes exigencias mayores en cuanto a la proporción entre patrimonio efectivo y activos ponderados por riesgo, a la reserva técnica del artículo 65 de la LGB y en el margen de préstamos interbancar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 resolución denegatoria puede reclamarse a la justcia en conformidad al artículo 22 de la LG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2:13:34Z</dcterms:created>
  <dc:creator>Hugo Luis Caneo Ormazabal</dc:creator>
  <dc:description/>
  <dc:language>en-US</dc:language>
  <cp:lastModifiedBy>Administrador</cp:lastModifiedBy>
  <dcterms:modified xsi:type="dcterms:W3CDTF">2007-03-15T19:41:00Z</dcterms:modified>
  <cp:revision>5</cp:revision>
  <dc:subject/>
  <dc:title>Sucursales y Filiales de Bancos Extranjeros</dc:title>
</cp:coreProperties>
</file>