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BC7-A44E-443E-88DE-285A1C87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40-3793-461A-AAEE-2F18D355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C9F-1990-4EA8-B263-003EE31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3B8-C4FE-4D3A-86CF-621F070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8675-489B-44F7-9542-962B7F4E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D2D-0044-4643-9A2F-500F87F3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2B45-F477-47B6-A8F7-8B8C305A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997C-4470-4B50-B8B9-04F28546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29E6-37CB-4057-9A31-595443C7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00CA-8755-4F2D-9726-A2C0D7CB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3A1B-0FA7-46FA-8171-DC44AFA4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0CB-E82D-4900-AB3F-A002F03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8220-3359-4B53-B3B2-16173D2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8EF9-1397-47BE-A74C-FCC500B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771-6391-4752-92FD-C51E330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1003-EA2D-4EE1-BFB4-63BE20F9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21B-053F-4B71-B263-CAE517BC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617-C2A2-4BFA-8980-2A29D0F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236-20C2-4996-B3D8-592FC79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A86-9638-4E25-B1B9-398EF7A1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03E-81F2-480B-8E47-36C0BA7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A3C-70A7-4320-9C83-D6D5FC70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1D4-CCB9-4F64-8FE7-C818DE6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C18-4292-460B-8C71-E9EB1F7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AF58-A3BE-4BF9-A63F-72F59D7EB4B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FAE-8347-4881-90C6-5EBB75DD20F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cursales y Filiales de Bancos Extranjer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 banco extranjero puede instalarse en Chile formando un nuevo banco, a través de una filial o instalando una sucurs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cursal de banco extranjero: articulo 3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tención de un certificado de autorización provisional que tendró validez de 10 me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do de existencia legal y vigencia d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caciín del capital que se destinara a la sucursal que debe ser el mínimo que la lay exi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der de la persona que getionará la instalación de la sucur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tecedentes que acrediten supervisión adecuada en 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ón autorización definitiv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 debe cumplir con los requisitos de los articulos 121 a 124 de la L.S.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on autorizacion para funcionar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a vez verificada la radicación del capital y comprobado que se encuentra preparada para iniciar sus actividades, especialmente, si cuenta con los recursos profesionales, tecnológicos y con los procedimientos y controles para emprender adecuadamente sus funciones, la Superintendencia le otorgará la autorización para funcio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Administración de las sucurs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stán obligados a tener directorio en Chile, pero deben tener un agente ampliamente facultado quien tendrá las mismas responsabilidades y sanciones de un directorio o directores individualmente (art. 4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ormas aplicables a los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n las mismas que los bancos nacionales, salvo disposición expresa. No podrán invocar preferencias derivadas de su nacionalidad, respecto de las operaciones de la sucursal en Chile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referencias para los acreedores chilenos y extranjeros domiciliad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ienes de la  sucursal en Chile responden preferentemente por sus obligaciones en favor de chilenos o extranjeros domiciliados en Chile, además de la responsabilidad de la propia casa matriz por las obligaciones contraídas por la sucursal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obstante lo anterior, para los efectos de las operaciones entre una sucursal y su casa matriz en el exterior, ambas se consideran como entidades independientes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da contienda que surja en relación con la sucursal en Chile, será resuelta por los tribunales chilenos, en conformidad a las leyes de la República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ratamiento del capital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l capital asignado a la sucursal debe ser efectivamente internado y convertido a moneda nacional en conformidad a alguno de los sistemas autorizados por la ley o por el Banco Central de Ch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16128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emesa de utilidade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orresponden a la utilidades de balances de ejercicios completos enviados a la casa matriz, hecho conforme al sistema de inversión extranjera al que se haya acogido y previo informe favorable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li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xiste impedimento legal para que un banco extranjero posea acciones de bancos chilenos ni restrinja dicha participación a un porcentaje determinado, por lo que es perfectamente posible que uno o mas bancos extranjeros constituyen un sociedad filial o subsidiaria en Chile, siempre que su casa matriz se ajuste al articulo 29 de la LGB. La filial o subsidiaria se regirá por las normas aplicables a los bancos chile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-8496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presentaciones de Bancos Extranjer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sde 1960 que la LGB permite la apertura de oficinas de representación de bancos extranjeros en Chile, conforme al articulo 33 de la  misma l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trata de agencias de negocios de sus casas matrices, es decir ponen en contacto a potenciales clientes con el banco en el extranj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pueden efectuar actos del giro banca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Superintendencia autoriza y revoca la instalación de estas oficinas y tiene plenas facultades de supervis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rmas Generales Aplicables a los Ban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cionamient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son instituciones de funcionamiento obligatorio dentro del horario fijado. El inicio, suspensión y término de operaciones requiere de autorización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funcionamiento obligatorio es de lunes a viernes, en jornada única banc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horario bancario es determinado por el Superintendente, mediante publicación en el diario oficial. Actualmente es de 9 a 14 hor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banco debe funcionar durante ese tiempo y no puede abrir a otras horas (arts. 37 y 3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o puede autorizárseles para funcionar fuera de los días y horas de atención obligatoria para prestar determinad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997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rtura y Cierre de Sucursales en el Pais (art.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pueden abrir oficinas a lo largo del país, previo registro de cada una de ellas en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la clasificación del banco es una de las dos últimas, según el articulo 59 y siguientes de la LGB, deberá obtener autorización de la Superintendencia, quien tiene un plazo de 90 días para pronunciarse y debe hacerlo por resolución fund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clausura o cierre de sucursales solo requiere de un aviso anticipado de 90 días hecho a la Superintendencia, aunque el banco esté en alguna de las dos ultimas categor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Concentracion Banca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 ley 19.705 de 20 de diciembre de 2000, agregó un artículo 35 bis a la LG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iene por objeto conceder facultades para prevenir una concentración del sistema bancario en pocas instituciones, independientemente de las facultades de los organismos antimonopolio para prevenir actos contrarios a la libre compet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era para fusiones, adquisición de activos y pasivos de un banco por otro en su totalidad o en una parte sustancial, toma de control de dos o más bancos por una misma persona o un grupo controlador o de un aumento sustancial de ese contro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s citadas operaciones requieren de una autorización previa si como resultado el banco adquirente o el grupo de bancos resultante alcancen una participación significativa en el mercado (mayor al 15% de acuerdo al criterio de la Superintendenc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11520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3049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utorización sólo puede denegarse por resolución fundada y siempre que el Consejo del Banco Central se haya pronunciado en igual sentido por la mayoría de sus miembros en ejerci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probación puede darse imponiendo a los bancos participantes exigencias mayores en cuanto a la proporción entre patrimonio efectivo y activos ponderados por riesgo, a la reserva técnica del artículo 65 de la LGB y en el margen de préstamos interbanc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resolución denegatoria puede reclamarse a la justcia en conformidad al artículo 2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2:13:34Z</dcterms:created>
  <dc:creator>Hugo Luis Caneo Ormazabal</dc:creator>
  <dc:description/>
  <dc:language>en-US</dc:language>
  <cp:lastModifiedBy>Administrador</cp:lastModifiedBy>
  <dcterms:modified xsi:type="dcterms:W3CDTF">2007-03-15T19:41:00Z</dcterms:modified>
  <cp:revision>5</cp:revision>
  <dc:subject/>
  <dc:title>Sucursales y Filiales de Bancos Extranjeros</dc:title>
</cp:coreProperties>
</file>