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B69BC-0283-429D-AAC4-94C31359D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FD066-7EDA-4163-9DBA-C11C0455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62949-3CA4-4392-94ED-AC4EEE72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2E479-3483-48AC-8707-0ADFA3DE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4BF02-8ED9-4F9F-A62A-8D7D93719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6CC5B-629A-427F-97FB-A02A331E0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0C9ED-91E3-456A-A27C-5E59041AC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0343A-D25A-44BF-9A16-F71B9A469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72B81-9302-4C17-8CDB-1CD77F386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362B8-688A-49EF-8B31-714B0166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03D12-7D1A-4426-ACEF-084EBE663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BBE1-27CE-40E7-A006-C2F34EFE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41D6-51DB-4B10-B157-A3BBB1AEC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EB0D7-6C75-48C1-B41C-CFCC730B1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FDEAD-68E5-46AA-B1FA-3274C545F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D62CB-B35B-44BF-AB7B-4CE55EB1A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64A6D-FBCD-4872-85BB-825F05CF0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470F-5C9C-4A0B-A1A2-AFF0AC1A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F748-3E81-4FA4-AB75-FEEC4D3B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4C79-8520-48CE-8457-D5129C103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4A5E-0EBA-4A2C-ACD2-5F99DEC4E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4254-41D4-4FDA-AC36-ADA076AD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51F6-0EF8-4B2F-9F97-F1523875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3071-15D4-4115-9605-2C2FD795D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2404-FE2F-4D8E-9DA4-C5BDDC7C10E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D38A-78FD-4C8E-97DA-D14E2024C60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05-25T06:59:20Z</dcterms:modified>
  <cp:revision>35</cp:revision>
  <dc:subject/>
  <dc:title>Fundamentos Económicos: Modelo de Competencia Perfecta</dc:title>
</cp:coreProperties>
</file>