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CE4A9-A75B-4EFA-8A55-1212F29AB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4113-6DDD-48A2-97A9-084A4008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C822B-6BDF-4973-A789-4CF82C116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99166-A777-4CDF-8B3E-2FEA775A1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BBE46-30C6-4486-9209-A32FB1357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C422A-DFFB-4624-8DC2-E954B86F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36F3C-BC18-4749-AFB9-C4869B6D7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2A398-DD25-41E4-B429-AC08A954D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BDC23-83B5-43AC-A7B2-25BA669D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20B87-ECC7-4E49-A63C-6FC68AA59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F44DE-EA3E-435A-9333-DD8808AE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1614-5D3F-4595-BCB6-E5488B931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D0FD-E225-418A-919B-C676E07F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0272-7FFD-4C00-AAA8-3527F8DC8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C244F-6FF5-454B-AAB4-320A3AE5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A95F7-1213-4928-910E-46CC1B3D4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1C760-973E-48F6-A111-574D84517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DB6E-62F6-4668-B66C-3289ED3CD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B38F-783E-44C0-91EB-452FABF15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1FA4-52B8-416F-AD09-9ED268B9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6149-E172-44A6-941A-6CA3F046E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D9AA-AB57-4023-ACB0-5F031069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9BCF-1C78-4BD2-B896-E08A3BC5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10BF-F249-4261-8BCF-FA85AC726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8189-EC5D-4E85-97FA-A4182668271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11F3-9869-4488-96C4-7CA4E2439EB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05-25T06:59:20Z</dcterms:modified>
  <cp:revision>35</cp:revision>
  <dc:subject/>
  <dc:title>Fundamentos Económicos: Modelo de Competencia Perfecta</dc:title>
</cp:coreProperties>
</file>