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4A7BA-0CA9-4382-A56B-75D383017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4E04-DB60-49BF-BDE5-BAB2DA841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1EFDA-6B81-4EA0-8DD1-21EBF0CD2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9F5B0-9B88-4712-9C27-E52229CF8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B3243-9DD8-4977-8245-13507CC51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16A60-B92A-405C-8593-0945C5B74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23F89-F698-457C-A95D-89889F265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D546E-70F0-49BC-B864-BF609E5F8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B7420-704F-4856-A2E5-26E857F4B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CC58D-0727-45AD-8AAD-CDDA6E410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781F6-7966-40C7-96F8-021C44873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4306-DCB0-4C03-80FB-4D150E2D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91771-40E5-4079-A3C3-E491292BD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2F71-4F56-4C06-BE35-C47140222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DB6BD-1BEF-487C-A4C7-0CD270EC6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86AB6-91A7-4B57-B870-C140CAAF3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F83EB-7939-470F-9BA0-E29ADBC8A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EE858-D706-405C-BB84-DF199F183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24829-B552-4E79-9BC3-FCD97798B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CE49B-308F-4F57-BFBB-966001F26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EF1CE-C594-4F09-A13F-B77397A6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9427-9041-4CEE-9E3F-BE6AB2474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9D32-7AFA-43D4-9690-12E69D0E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613D-FCF4-404B-904F-F90E24158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92F0-A991-46E7-A582-18115E09E014}"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D2A9-56DA-4FCE-A35B-3A17C3265B6F}"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35280" y="1676520"/>
            <a:ext cx="37083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06633"/>
                </a:solidFill>
                <a:latin typeface="Garamond"/>
              </a:rPr>
              <a:t>Fusiones y Adquisiciones</a:t>
            </a:r>
            <a:br>
              <a:rPr sz="4600"/>
            </a:br>
            <a:r>
              <a:rPr b="0" lang="es-CL" sz="4600" spc="-1" strike="noStrike">
                <a:solidFill>
                  <a:srgbClr val="006633"/>
                </a:solidFill>
                <a:latin typeface="Garamond"/>
              </a:rPr>
              <a:t>M&amp;A</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5865840" y="4556160"/>
            <a:ext cx="288288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nsideraciones a la luz del Derecho de la Libre Competencia.</a:t>
            </a:r>
            <a:endParaRPr b="0" lang="en-US" sz="2400" spc="-1" strike="noStrike">
              <a:solidFill>
                <a:srgbClr val="000000"/>
              </a:solidFill>
              <a:latin typeface="Arial"/>
            </a:endParaRPr>
          </a:p>
        </p:txBody>
      </p:sp>
      <p:pic>
        <p:nvPicPr>
          <p:cNvPr id="88" name="" descr=""/>
          <p:cNvPicPr/>
          <p:nvPr/>
        </p:nvPicPr>
        <p:blipFill>
          <a:blip r:embed="rId1"/>
          <a:stretch/>
        </p:blipFill>
        <p:spPr>
          <a:xfrm>
            <a:off x="200160" y="201600"/>
            <a:ext cx="5163840" cy="661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324000" y="1125360"/>
            <a:ext cx="8229600" cy="4530960"/>
          </a:xfrm>
          <a:prstGeom prst="rect">
            <a:avLst/>
          </a:prstGeom>
          <a:noFill/>
          <a:ln w="0">
            <a:noFill/>
          </a:ln>
        </p:spPr>
        <p:txBody>
          <a:bodyPr lIns="90000" rIns="90000" tIns="46800" bIns="46800" anchor="t">
            <a:normAutofit fontScale="93000"/>
          </a:bodyPr>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del HHI es que no internaliza las posibles ventajas competitivas que pueden existir tras determinadas fusiones en ambientes muy concentrados (un actor con un 40% y dos actores con 20% que quieren unirse, p.ej.), por lo que deberá estarse a las condiciones del MR determinado.</a:t>
            </a:r>
            <a:endParaRPr b="0" lang="en-US" sz="2800" spc="-1" strike="noStrike">
              <a:solidFill>
                <a:srgbClr val="000000"/>
              </a:solidFill>
              <a:latin typeface="Arial"/>
            </a:endParaRPr>
          </a:p>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determinada la estructura del mercado, se pasa a una revisión general de éste (MR, BE, etc.), junto con las procompetitividades y eficiencias posibles de esta operació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ntajas y desventajas de las PMN.</a:t>
            </a:r>
            <a:r>
              <a:rPr b="0" lang="es-CL" sz="3000" spc="-1" strike="noStrike">
                <a:solidFill>
                  <a:srgbClr val="000000"/>
                </a:solidFill>
                <a:latin typeface="Arial"/>
                <a:ea typeface="Arial"/>
              </a:rPr>
              <a:t>→La internacionalización de las fusiones y las PMN locales. Costos administrativos, visión de economía de escala..</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0" name="PlaceHolder 2"/>
          <p:cNvSpPr>
            <a:spLocks noGrp="1"/>
          </p:cNvSpPr>
          <p:nvPr>
            <p:ph/>
          </p:nvPr>
        </p:nvSpPr>
        <p:spPr>
          <a:xfrm>
            <a:off x="324000" y="134100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 35 bis D.F.L Nº 3 Ley General de Banco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t>
            </a:r>
            <a:r>
              <a:rPr b="0" i="1" lang="es-CL" sz="2700" spc="-1" strike="noStrike">
                <a:solidFill>
                  <a:srgbClr val="000000"/>
                </a:solidFill>
                <a:latin typeface="Arial"/>
              </a:rPr>
              <a:t>Sólo se podrá proceder a la fusión de bancos, a la adquisición de la totalidad del activo y pasivo de un banco por otro o de una parte  sustancial de ellos,según la definición del artículo 138; o a la toma de control de dos o más bancos por una misma persona o grupo controlador, o bien a aumentar sustancialmente el control ya existente, en términos que el banco adquirente o el grupo de bancos resultante alcancen una participación significativa en el mercado, </a:t>
            </a:r>
            <a:r>
              <a:rPr b="1" i="1" lang="es-CL" sz="2700" spc="-1" strike="noStrike" u="sng">
                <a:solidFill>
                  <a:srgbClr val="000000"/>
                </a:solidFill>
                <a:uFillTx/>
                <a:latin typeface="Arial"/>
              </a:rPr>
              <a:t>si los interesados cuentan con la autorización de la Superintendencia</a:t>
            </a:r>
            <a:r>
              <a:rPr b="0" i="1" lang="es-CL" sz="2700" spc="-1" strike="noStrike">
                <a:solidFill>
                  <a:srgbClr val="000000"/>
                </a:solidFill>
                <a:latin typeface="Arial"/>
              </a:rPr>
              <a:t> a que se refiere este artículo</a:t>
            </a:r>
            <a:r>
              <a:rPr b="0" lang="es-CL" sz="2700" spc="-1" strike="noStrike">
                <a:solidFill>
                  <a:srgbClr val="000000"/>
                </a:solidFill>
                <a:latin typeface="Arial"/>
              </a:rPr>
              <a:t>”.</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é ha pasado actualmente?</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 18 DL 211 y Auto Acordado Nº 5 (Telefónica-Bellsouth y VTR-M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 obligación legal de consulta previa en Chil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31 de octubre de 2006 fue liberada por la Fiscalía Nacional Económica, tras un proceso de consenso y discusión, la guía interna para el análisis de concentraciones, siguiendo las tendencias internacionales en la materia (OCDE). Dicha guía se centra en las operaciones de concentración horizon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ULO ANÁLISI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DO RELEVANTE</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CIÓN Y UMBRALE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DICIONES DE ENTRADA AL MERCADO.</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1. Barreras a la Entrada</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 Barreras legales. </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 Costos hundido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2. Tiempo y Suficiencia de la Entrada</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3. Comportamiento estratégico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IESGOS PARA LA COMPETENCIA</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1. Riesgo de Abusos Unilaterale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2. Riesgo de Coordinación.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APESOS A LOS RIESGOS</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1. Eficiencia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2. Empresa en Crisis y Concentraciones en el Exterio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n de la clase</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entari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es una Fusión o Adquisición (M&am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son sus diferencias desde un punto de vista juríd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ncia Económic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ualmente pueden entenderse como toda estructura cuyo objeto o resultado sea concentrar participación de mercado -i.e integraciones, adquisiciones de participaciones acciona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ones Horizontales </a:t>
            </a:r>
            <a:r>
              <a:rPr b="0" lang="es-CL" sz="2800" spc="-1" strike="noStrike">
                <a:solidFill>
                  <a:srgbClr val="000000"/>
                </a:solidFill>
                <a:latin typeface="Arial"/>
                <a:ea typeface="Arial"/>
              </a:rPr>
              <a:t>→ economías de escala, especialización, disminución de costos, mejoramiento de producto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podrían ser los efectos pernicios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ha sugerido realizar exámenes preventivos a una fusión </a:t>
            </a:r>
            <a:r>
              <a:rPr b="0" i="1" lang="es-CL" sz="2800" spc="-1" strike="noStrike">
                <a:solidFill>
                  <a:srgbClr val="000000"/>
                </a:solidFill>
                <a:latin typeface="Arial"/>
              </a:rPr>
              <a:t>(“Pre-Merger Notifications”</a:t>
            </a: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re-Merger Notifications (PMN)</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rge en EE.UU. con la Hart-Scott-Rodino Act que introdujo una sección 7 (a) a la Clayton Act en 1976:</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a:t>
            </a:r>
            <a:r>
              <a:rPr b="0" i="1" lang="es-CL" sz="2600" spc="-1" strike="noStrike">
                <a:solidFill>
                  <a:srgbClr val="000000"/>
                </a:solidFill>
                <a:latin typeface="Arial"/>
              </a:rPr>
              <a:t>Except as exempted pursuant to subsection (c), no person shall acquire, directly or indirectly, any voting securities or assets of any other person, </a:t>
            </a:r>
            <a:r>
              <a:rPr b="1" i="1" lang="es-CL" sz="2600" spc="-1" strike="noStrike" u="sng">
                <a:solidFill>
                  <a:srgbClr val="000000"/>
                </a:solidFill>
                <a:uFillTx/>
                <a:latin typeface="Arial"/>
              </a:rPr>
              <a:t>unless both persons</a:t>
            </a:r>
            <a:r>
              <a:rPr b="0" i="1" lang="es-CL" sz="2600" spc="-1" strike="noStrike">
                <a:solidFill>
                  <a:srgbClr val="000000"/>
                </a:solidFill>
                <a:latin typeface="Arial"/>
              </a:rPr>
              <a:t> (or in the case of a tender offer, the acquiring person) </a:t>
            </a:r>
            <a:r>
              <a:rPr b="1" i="1" lang="es-CL" sz="2600" spc="-1" strike="noStrike" u="sng">
                <a:solidFill>
                  <a:srgbClr val="000000"/>
                </a:solidFill>
                <a:uFillTx/>
                <a:latin typeface="Arial"/>
              </a:rPr>
              <a:t>file notification pursuant to rules under </a:t>
            </a:r>
            <a:r>
              <a:rPr b="0" i="1" lang="es-CL" sz="2600" spc="-1" strike="noStrike">
                <a:solidFill>
                  <a:srgbClr val="000000"/>
                </a:solidFill>
                <a:latin typeface="Arial"/>
              </a:rPr>
              <a:t>subsection (d)(1) and the waiting period described in subsection (b)(1) has expired, if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U.S HORIZONTAL MERGER GUIDELINES</a:t>
            </a:r>
            <a:r>
              <a:rPr b="0" lang="es-CL" sz="4000" spc="-1" strike="noStrike">
                <a:solidFill>
                  <a:srgbClr val="006633"/>
                </a:solidFill>
                <a:latin typeface="Garamond"/>
              </a:rPr>
              <a:t> (</a:t>
            </a:r>
            <a:r>
              <a:rPr b="0" lang="en-US" sz="4000" spc="-1" strike="noStrike">
                <a:solidFill>
                  <a:srgbClr val="006633"/>
                </a:solidFill>
                <a:latin typeface="Garamond"/>
              </a:rPr>
              <a:t>1992)</a:t>
            </a:r>
            <a:endParaRPr b="0" lang="en-US" sz="40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cen de la aplicación de las PMN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J y FTC).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 otros aportes, está la determinación del mercado releva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el criterio más famoso de estructura de la industria, es el denominado “Herfindahl-Hirschman Index” (HHI).</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HHI</a:t>
            </a:r>
            <a:r>
              <a:rPr b="0" lang="es-CL" sz="2100" spc="-1" strike="noStrike">
                <a:solidFill>
                  <a:srgbClr val="000000"/>
                </a:solidFill>
                <a:latin typeface="Arial"/>
                <a:ea typeface="Arial"/>
              </a:rPr>
              <a:t>→ Sirve como indicador del nivel de concentración de un mercado relevante determinado, que se obtiene sumando los cuadrados de cada participación relativa (market share) de los distintos actores en un mercado relevante determinado. Así las cosas, un actor absolutamente monopólico (100% del mercado) obtendría un valor HHI de 10.000, mientras que un mercado con muchísimos competidores sin ninguno preponderante se acercará mucho más a 0 (mercado perfec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Generalmente se considera que un índice bajo 1.000 habla de una baja concentración del merc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índice HHI entre 1000 y 1800 señala un mercado medianamente concentr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HHI sobre 1800 indica un mercado altamente concentrado.</a:t>
            </a:r>
            <a:endParaRPr b="0" lang="en-US" sz="2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Ahora, frente a una fusión o integración horizontal, debemos considerar el HHI previo y cuánto subiría el HHI posterior a la fusión (es decir, sumando las participaciones de las empresas a fusionarse antes de obtener su cuadrado)</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Estándare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1.- Si HHI posterior a fusión es inferior a 1000, no importa mayormente para estos efecto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2.- Si HHI posterior a fusión quede entre 1000 y 1800; depende de si la variación experimentada después de la hipotética fusión es menor o mayor a 10</a:t>
            </a:r>
            <a:r>
              <a:rPr b="0" lang="en-US" sz="2100" spc="-1" strike="noStrike">
                <a:solidFill>
                  <a:srgbClr val="000000"/>
                </a:solidFill>
                <a:latin typeface="Arial"/>
                <a:ea typeface="Arial"/>
              </a:rPr>
              <a:t>0. Si es menor, por lo general se aprobará la fusión, mas si éste es mayor, se deberá estudiar más a fondo la posible fusión.</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HHI posterior a fusión superior a 1800; </a:t>
            </a:r>
            <a:r>
              <a:rPr b="0" lang="es-CL" sz="2100" spc="-1" strike="noStrike">
                <a:solidFill>
                  <a:srgbClr val="000000"/>
                </a:solidFill>
                <a:latin typeface="Arial"/>
                <a:ea typeface="Arial"/>
              </a:rPr>
              <a:t>; depende de si la variación experimentada después de la hipotética fusión es menor o mayor a 50</a:t>
            </a:r>
            <a:r>
              <a:rPr b="0" lang="en-US" sz="2100" spc="-1" strike="noStrike">
                <a:solidFill>
                  <a:srgbClr val="000000"/>
                </a:solidFill>
                <a:latin typeface="Arial"/>
                <a:ea typeface="Arial"/>
              </a:rPr>
              <a:t>. Si es menor, por lo general se aprobará la fusión, mas si éste es mayor, ocurrirá lo contrario, debiéndose estudiar mejor la posible fusión.</a:t>
            </a: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4" name="PlaceHolder 2"/>
          <p:cNvSpPr>
            <a:spLocks noGrp="1"/>
          </p:cNvSpPr>
          <p:nvPr>
            <p:ph/>
          </p:nvPr>
        </p:nvSpPr>
        <p:spPr>
          <a:xfrm>
            <a:off x="446040" y="1341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10%, B: 20%, C: 10%, D: 20%, E: 10%, F: 5%, G: 5%, H: 10%,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100+B:400+C:100+D:400+E:100+F:25+G:25+H:100+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1) 1.3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sión A+H (absorción)</a:t>
            </a:r>
            <a:r>
              <a:rPr b="0" lang="es-CL" sz="2800" spc="-1" strike="noStrike">
                <a:solidFill>
                  <a:srgbClr val="000000"/>
                </a:solidFill>
                <a:latin typeface="Arial"/>
                <a:ea typeface="Arial"/>
              </a:rPr>
              <a:t>→ A: 20%, B: 20%, C: 10%, D: 20%, E: 10%, F: 5%, G: 5%,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H:400+B:400+C:100+D:400+E:100+F:25+G:25+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2) 1.5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 posterior de 1.550, analizar variación entre HHI1 y HHI2: </a:t>
            </a:r>
            <a:r>
              <a:rPr b="1" i="1" lang="es-CL" sz="1700" spc="-1" strike="noStrike">
                <a:solidFill>
                  <a:srgbClr val="000000"/>
                </a:solidFill>
                <a:latin typeface="Arial"/>
              </a:rPr>
              <a:t>2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0000"/>
                </a:solidFill>
                <a:latin typeface="Arial"/>
              </a:rPr>
              <a:t>Estamos en el rango 1000-1800, y la variación es superior a 100, por lo que debemos analizar resto de factores (parte general).</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4:51:10Z</dcterms:created>
  <dc:creator>FRANCISCO VERA HOTT</dc:creator>
  <dc:description/>
  <dc:language>en-US</dc:language>
  <cp:lastModifiedBy>PanchoVera</cp:lastModifiedBy>
  <dcterms:modified xsi:type="dcterms:W3CDTF">2007-05-14T16:01:12Z</dcterms:modified>
  <cp:revision>3</cp:revision>
  <dc:subject/>
  <dc:title>Fusiones y Adquisiciones M&amp;A</dc:title>
</cp:coreProperties>
</file>