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325-C6A1-404C-B7E4-D042C3F8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CFC-20EE-4441-A03D-5ACFCD13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AB0-343E-459B-98BD-E50BE950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E7C-7676-42E9-B1AB-958BFBBB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A05E-8617-4BD3-A77F-55C32710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64DF-E683-401C-B231-0E22CFCD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B258-F475-4A0D-A4C2-C79CAEB3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E6B2-7576-435C-97DB-502DE8D4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9AC9-88FE-40DF-910C-2F16D17A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8C71-E9BC-46C1-8B72-2A286A1E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15A9-C529-4700-A921-244CF09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A25-8D59-4606-AD36-2F78B0B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78FF-88D0-4345-9525-FFA1E280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9D30-F3CC-47B9-9740-4B14E21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431E-F019-49B0-AE93-3E9CCAB2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06EE-D1F6-4A77-A47D-253B8194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8A04-7BCB-479D-AE37-1B238E8B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681-B954-4125-97F5-0D90E32E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32B-2E01-4138-A3B2-D4FBD0BF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B9A-BEAA-4D03-8C5C-8052EC39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595-FCE7-4539-AF54-08337F3F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FED-BEFF-47E1-B75F-7D77645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88E-759F-48B4-8D3C-6CB4F94B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3A3-A51B-4610-BD79-898618A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735E-FC13-4E90-8A36-EF2F7F96B1F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C89F-D769-4F6A-B664-3DA0CDAFB57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s-CL" sz="5000" spc="-1" strike="noStrike">
                <a:solidFill>
                  <a:srgbClr val="006633"/>
                </a:solidFill>
                <a:latin typeface="Garamond"/>
              </a:rPr>
              <a:t>Integraciones Vertical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xisten fuertes justificaciones económicas para hacer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Fenómeno de “eliminación del intermediario”. ¿A quién beneficia esto? (costos de trans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Reducción de riesgos de incumplimientos al asegurar las fuentes de suministro o de la colocación de la producció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Garamond"/>
              </a:rPr>
              <a:t>c.- Corregir externalidades negativas generadas por la política empresarial en cada eslabón de la cadena.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(i.e. Calidades de elaboració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.- Eventualmente, generar o incrementar posiciones dominantes en diferentes niveles (¿o en el mismo?). ¿Qué sucede horizont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sí como existen fuertes argumentos para incentivar la IV, existen buenas razones en cierta literatura económica para la desintegración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 tendencia actual es a esto último (i.e. Ley Corta Eléctrica)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Cruzar Subsidios. (¿Y contablement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Discriminar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inputs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o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outputs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(¿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.- Generar BA artif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anales de Distribución (C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Importancia de este concep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lgunos contratos/cláusulas accidentales en relación con los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revísima referencia a la exclus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sential Facility” (E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ta teoría nació en 1912, pero obtuvo su desarrollo importante en la década del ´8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asos: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“Aspen Skiing Co. v. Aspen Highlands Skiing Corp. (1985).”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US. V. Colgate C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E.UU. = Libertad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uropea = Obligación de Contra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ignifica entonces una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decir, intuitivamente, que se trata de una posición especialmente estratégica que se detenta en algún nivel de la cadena de comercialización que implica -para quien(es) se encuentra(n) en los niveles superiores de dicha cadena- la imposibilidad de utilizar canales alternativos, o que al utilizarlos, los costos financieros se tornen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(¿irrazonablemente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?) al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stalaciones Esenciales o 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acilidad Es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sential Fac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gmento monopólico por el que tienen que pasar las firmas de otro segmento, que puede ser competitivo, para llegar a los clientes finales. (Redes de agua potable, líneas de transmisión y distribución, red de telefoní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consecuencias tien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esde un punto de vista jurídico existiría un deber de cooperación con sus rivales -u oferentes verticales- más pequeños. (¿Y horizontalmente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e puede decir al respecto, desde una noción liberal de las funciones del derecho administrativo sancionato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EF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Una pequeña noción de los Monopolios Naturales (M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MN: Ocurre cuando una única empresa puede ofrecer un bien o servicio, en un mercado relevante dado, a un menor costo que dos o má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No importa tanto el número de oferentes y demandantes, sino más bien las relaciones entre demanda y las características de la oferta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Integraciones Verticales (IV) no constituyen -propiamente tal- un delito de la parte especial del derecho antitrust, pero han sido objeto de numerosas revisiones por parte de las autoridades antimonopolios (¿Por Qué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559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secuenci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Son los MN =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Regulación. Consecuencias horizo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Empresas de Servicios de Utilidad Pública (ESUP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S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elen ser regulados. (Electricidad, Gas, SS, Telecomunicacion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nopolio natural. Conc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n muchos mercados de ESUP, existen etapas competitivas, y otras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“no tanto”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02080" y="1652760"/>
            <a:ext cx="5846040" cy="4297320"/>
            <a:chOff x="1702080" y="1652760"/>
            <a:chExt cx="5846040" cy="4297320"/>
          </a:xfrm>
        </p:grpSpPr>
        <p:cxnSp>
          <p:nvCxnSpPr>
            <p:cNvPr id="130" name="_s1641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257080" y="1537560"/>
              <a:ext cx="230760" cy="188172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6413"/>
            <p:cNvCxnSpPr>
              <a:stCxn id="134" idx="0"/>
              <a:endCxn id="132" idx="2"/>
            </p:cNvCxnSpPr>
            <p:nvPr/>
          </p:nvCxnSpPr>
          <p:spPr>
            <a:xfrm flipV="1" rot="16200000">
              <a:off x="4317480" y="2477160"/>
              <a:ext cx="230760" cy="216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6414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3376800" y="1538280"/>
              <a:ext cx="230760" cy="188028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6415"/>
            <p:cNvSpPr/>
            <p:nvPr/>
          </p:nvSpPr>
          <p:spPr>
            <a:xfrm>
              <a:off x="3625920" y="1652760"/>
              <a:ext cx="1612440" cy="71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416"/>
            <p:cNvSpPr/>
            <p:nvPr/>
          </p:nvSpPr>
          <p:spPr>
            <a:xfrm>
              <a:off x="1746360" y="2593080"/>
              <a:ext cx="161136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417"/>
            <p:cNvSpPr/>
            <p:nvPr/>
          </p:nvSpPr>
          <p:spPr>
            <a:xfrm>
              <a:off x="362700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6418"/>
            <p:cNvSpPr/>
            <p:nvPr/>
          </p:nvSpPr>
          <p:spPr>
            <a:xfrm>
              <a:off x="550728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9720" y="3862080"/>
              <a:ext cx="377208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9360" y="3646440"/>
              <a:ext cx="187128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65720" y="3573720"/>
              <a:ext cx="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653000" y="3646440"/>
              <a:ext cx="171432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02080" y="4581360"/>
              <a:ext cx="201528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TRIB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3720" y="4438440"/>
              <a:ext cx="1814400" cy="6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000" y="5302080"/>
              <a:ext cx="30960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FINALES (REGULAD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565000" y="4221000"/>
              <a:ext cx="1513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05360" y="4221000"/>
              <a:ext cx="6861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7000" y="5086440"/>
              <a:ext cx="216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36640" y="5086440"/>
              <a:ext cx="21636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5086440"/>
              <a:ext cx="288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17360" y="4941720"/>
              <a:ext cx="503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000" y="5086440"/>
              <a:ext cx="288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17360" y="4725720"/>
              <a:ext cx="201600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95280" y="2708280"/>
            <a:ext cx="1008000" cy="865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9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4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5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6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15600" y="1802880"/>
            <a:ext cx="6113160" cy="4191120"/>
            <a:chOff x="1515600" y="1802880"/>
            <a:chExt cx="6113160" cy="4191120"/>
          </a:xfrm>
        </p:grpSpPr>
        <p:sp>
          <p:nvSpPr>
            <p:cNvPr id="161" name=""/>
            <p:cNvSpPr/>
            <p:nvPr/>
          </p:nvSpPr>
          <p:spPr>
            <a:xfrm>
              <a:off x="1690200" y="1802880"/>
              <a:ext cx="558756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COMPAÑÍAS DE LARGA DISTANC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15600" y="3375000"/>
              <a:ext cx="19206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ÑÍ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10800" y="3375000"/>
              <a:ext cx="19242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RES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7080" y="3375000"/>
              <a:ext cx="19216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ADOR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4160" y="2850840"/>
              <a:ext cx="108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88960" y="3025080"/>
              <a:ext cx="436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88960" y="3025080"/>
              <a:ext cx="72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54680" y="3025080"/>
              <a:ext cx="10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15600" y="4247640"/>
              <a:ext cx="61120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ELEFONÍA LO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88960" y="3898800"/>
              <a:ext cx="209484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4160" y="389880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483800" y="3898800"/>
              <a:ext cx="227052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7720" y="5295600"/>
              <a:ext cx="2969640" cy="69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84160" y="47714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389 = Desinteg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VTR –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“Triple pa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es una IV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señalar, a modo introductorio, que ellas constituyen una situación en que existen empresas -que pueden estar jurídicamente relacionadas en sus estructuras de dominio- y que se desempeñan en algunos o todos los niveles de producción de un bien o servicio (etapas insumo-produc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Y a quién le importa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Visto desde la perspectiva de la empresa, ellas implican una expansión operacional motivada por criterios de minimización de costos y maximización de ut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Esto las hace eficien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conomías de Alcance, de Ámbito y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nopolio e Integración Verti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sideremos que para acceder a una playa se debe transitar por un cami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mino y Playa = únicos insu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hay costos de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manda determinad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1125360"/>
          <a:ext cx="8229600" cy="5531040"/>
        </p:xfrm>
        <a:graphic>
          <a:graphicData uri="http://schemas.openxmlformats.org/drawingml/2006/table">
            <a:tbl>
              <a:tblPr/>
              <a:tblGrid>
                <a:gridCol w="2819520"/>
                <a:gridCol w="3024000"/>
                <a:gridCol w="238608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 (Bañista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($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1: Ambos procesos monopolizados. Único dueñ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2: Camino único. Infinitas play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3: Playa única. Múltiples camin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ero… y si hay única playa y único camino, pertenecientes a dos monopolistas distin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TEORÍA DE JUE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ara u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monopolista no regulado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no hay incentivos monopólicos para integrarse, a menos que haya otro monopolista en la cadena de distribu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Co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n el caso de existir regulación en un segmento de la cadena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bilidad de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Garamond"/>
              </a:rPr>
              <a:t>excl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avorecer a unos (filial o matriz) por sobre otros (competenc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03:54:31Z</dcterms:created>
  <dc:creator>Sebastian Spolmann Pasten</dc:creator>
  <dc:description/>
  <dc:language>en-US</dc:language>
  <cp:lastModifiedBy>sspolmann</cp:lastModifiedBy>
  <dcterms:modified xsi:type="dcterms:W3CDTF">2006-10-11T22:51:08Z</dcterms:modified>
  <cp:revision>12</cp:revision>
  <dc:subject/>
  <dc:title>Integraciones Verticales</dc:title>
</cp:coreProperties>
</file>