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3417-BDFB-49AD-BD12-A893BE043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CB1B-CA81-4655-BF19-4AC067AB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DD85-79FD-41AC-B07E-6956E9219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CDA5-2D3B-4D5F-9CE4-63B34F424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23E7-B1B0-4327-A78E-B4BC5AB81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0BCE-2C9F-4311-B947-43BD0821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AC71-92EA-499A-A0C7-06C5F4DA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D6EE-75BE-4FCC-9551-A0B14D29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09F0-39F8-421F-A0E9-1ABCBE03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8362-C6A8-4913-B388-E2AC7DB0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EDFE-2701-4B7C-AF0F-834B5D54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CB37-6974-49F2-B2CC-9E8E647B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158A-E4CF-4419-90C5-2714260A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D627-8657-4427-89F5-80708656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8E46-E171-4F35-A4D8-61DEC4DB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5394-55AD-4EBD-AA8F-94677E9AB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1F6C-AF81-45B9-9CAD-380155CED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E8EB-59BB-4D8B-9285-A6E5B184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35B8-0473-47F2-BCB1-1C4ED08D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8B0D-018A-43FB-90E6-7B0F93E2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F082-BF53-439C-95FC-7853D63B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DD80-5524-4222-B4D0-F9FF629E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D7D6-1DEB-4E3A-B548-EBF8526C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D712-76CA-4AE2-8CC4-718C6F5C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0AD2-29C5-44E0-BBD9-AC52F0680E58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2B7A-0EB0-42AE-923A-AF365F1ABF6E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1" lang="es-CL" sz="5000" spc="-1" strike="noStrike">
                <a:solidFill>
                  <a:srgbClr val="006633"/>
                </a:solidFill>
                <a:latin typeface="Garamond"/>
              </a:rPr>
              <a:t>Integraciones Verticale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920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¿Por qué integrarme verticalment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Existen fuertes justificaciones económicas para hacer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a.- Fenómeno de “eliminación del intermediario”. ¿A quién beneficia esto? (costos de transac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b.- Reducción de riesgos de incumplimientos al asegurar las fuentes de suministro o de la colocación de la producción.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¿Por qué integrarme verticalment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Garamond"/>
              </a:rPr>
              <a:t>c.- Corregir externalidades negativas generadas por la política empresarial en cada eslabón de la cadena.</a:t>
            </a: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 (i.e. Calidades de elaboración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d.- Eventualmente, generar o incrementar posiciones dominantes en diferentes niveles (¿o en el mismo?). ¿Qué sucede horizontalm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¿Por qué integrarme verticalment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Así como existen fuertes argumentos para incentivar la IV, existen buenas razones en cierta literatura económica para la desintegración vert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La tendencia actual es a esto último (i.e. Ley Corta Eléctrica) ¿Por qu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a.- Cruzar Subsidios. (¿Y contablemente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b.- Discriminar en los </a:t>
            </a:r>
            <a:r>
              <a:rPr b="0" i="1" lang="es-CL" sz="3200" spc="-1" strike="noStrike">
                <a:solidFill>
                  <a:srgbClr val="000000"/>
                </a:solidFill>
                <a:latin typeface="Garamond"/>
              </a:rPr>
              <a:t>inputs</a:t>
            </a: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 o en los </a:t>
            </a:r>
            <a:r>
              <a:rPr b="0" i="1" lang="es-CL" sz="3200" spc="-1" strike="noStrike">
                <a:solidFill>
                  <a:srgbClr val="000000"/>
                </a:solidFill>
                <a:latin typeface="Garamond"/>
              </a:rPr>
              <a:t>outputs </a:t>
            </a: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(¿?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c.- Generar BA artifici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Canales de Distribución (CD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Importancia de este concep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Algunos contratos/cláusulas accidentales en relación con los C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Brevísima referencia a la exclusiv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Teoría de las Instalaciones Esencia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Essential Facility” (EF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Esta teoría nació en 1912, pero obtuvo su desarrollo importante en la década del ´8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Casos: </a:t>
            </a:r>
            <a:r>
              <a:rPr b="0" i="1" lang="es-CL" sz="3200" spc="-1" strike="noStrike">
                <a:solidFill>
                  <a:srgbClr val="000000"/>
                </a:solidFill>
                <a:latin typeface="Garamond"/>
              </a:rPr>
              <a:t>“Aspen Skiing Co. v. Aspen Highlands Skiing Corp. (1985).” </a:t>
            </a: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i="1" lang="es-CL" sz="3200" spc="-1" strike="noStrike">
                <a:solidFill>
                  <a:srgbClr val="000000"/>
                </a:solidFill>
                <a:latin typeface="Garamond"/>
              </a:rPr>
              <a:t>US. V. Colgate Co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Garamond"/>
              </a:rPr>
              <a:t>Tendencia EE.UU. = Libertad Comer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Garamond"/>
              </a:rPr>
              <a:t>Tendencia Europea = Obligación de Contrat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Teoría de las Instalaciones Esencia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¿Qué significa entonces una 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Podemos decir, intuitivamente, que se trata de una posición especialmente estratégica que se detenta en algún nivel de la cadena de comercialización que implica -para quien(es) se encuentra(n) en los niveles superiores de dicha cadena- la imposibilidad de utilizar canales alternativos, o que al utilizarlos, los costos financieros se tornen </a:t>
            </a:r>
            <a:r>
              <a:rPr b="0" i="1" lang="es-CL" sz="3200" spc="-1" strike="noStrike">
                <a:solidFill>
                  <a:srgbClr val="000000"/>
                </a:solidFill>
                <a:latin typeface="Garamond"/>
              </a:rPr>
              <a:t>(¿irrazonablemente</a:t>
            </a: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?) al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Instalaciones Esenciales o </a:t>
            </a:r>
            <a:br>
              <a:rPr sz="4200"/>
            </a:b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Facilidad Esenci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ssential Facilit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gmento monopólico por el que tienen que pasar las firmas de otro segmento, que puede ser competitivo, para llegar a los clientes finales. (Redes de agua potable, líneas de transmisión y distribución, red de telefonía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¿Qué consecuencias tien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Desde un punto de vista jurídico existiría un deber de cooperación con sus rivales -u oferentes verticales- más pequeños. (¿Y horizontalmente?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¿Qué se puede decir al respecto, desde una noción liberal de las funciones del derecho administrativo sancionator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Las EF en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Una pequeña noción de los Monopolios Naturales (MN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MN: Ocurre cuando una única empresa puede ofrecer un bien o servicio, en un mercado relevante dado, a un menor costo que dos o más empres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No importa tanto el número de oferentes y demandantes, sino más bien las relaciones entre demanda y las características de la oferta.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Introduc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Las Integraciones Verticales (IV) no constituyen -propiamente tal- un delito de la parte especial del derecho antitrust, pero han sido objeto de numerosas revisiones por parte de las autoridades antimonopolios (¿Por Qué?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5596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Consecuenci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¿Son los MN = 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Regulación. Consecuencias horizont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Empresas de Servicios de Utilidad Pública (ESUP)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ESU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uelen ser regulados. (Electricidad, Gas, SS, Telecomunicacione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onopolio natural. Conces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n muchos mercados de ESUP, existen etapas competitivas, y otras </a:t>
            </a:r>
            <a:r>
              <a:rPr b="0" i="1" lang="en-US" sz="3200" spc="-1" strike="noStrike">
                <a:solidFill>
                  <a:srgbClr val="000000"/>
                </a:solidFill>
                <a:latin typeface="Garamond"/>
              </a:rPr>
              <a:t>“no tanto”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Mercado Eléctri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702080" y="1652760"/>
            <a:ext cx="5846040" cy="4297320"/>
            <a:chOff x="1702080" y="1652760"/>
            <a:chExt cx="5846040" cy="4297320"/>
          </a:xfrm>
        </p:grpSpPr>
        <p:cxnSp>
          <p:nvCxnSpPr>
            <p:cNvPr id="130" name="_s16412"/>
            <p:cNvCxnSpPr>
              <a:stCxn id="131" idx="0"/>
              <a:endCxn id="132" idx="2"/>
            </p:cNvCxnSpPr>
            <p:nvPr/>
          </p:nvCxnSpPr>
          <p:spPr>
            <a:xfrm flipV="1" rot="16200000">
              <a:off x="5257080" y="1537560"/>
              <a:ext cx="230760" cy="1881720"/>
            </a:xfrm>
            <a:prstGeom prst="bentConnector3">
              <a:avLst>
                <a:gd name="adj1" fmla="val 4953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3" name="_s16413"/>
            <p:cNvCxnSpPr>
              <a:stCxn id="134" idx="0"/>
              <a:endCxn id="132" idx="2"/>
            </p:cNvCxnSpPr>
            <p:nvPr/>
          </p:nvCxnSpPr>
          <p:spPr>
            <a:xfrm flipV="1" rot="16200000">
              <a:off x="4317480" y="2477160"/>
              <a:ext cx="230760" cy="2160"/>
            </a:xfrm>
            <a:prstGeom prst="bentConnector3">
              <a:avLst>
                <a:gd name="adj1" fmla="val 4953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16414"/>
            <p:cNvCxnSpPr>
              <a:stCxn id="136" idx="0"/>
              <a:endCxn id="132" idx="2"/>
            </p:cNvCxnSpPr>
            <p:nvPr/>
          </p:nvCxnSpPr>
          <p:spPr>
            <a:xfrm flipH="1" flipV="1" rot="5400000">
              <a:off x="3376800" y="1538280"/>
              <a:ext cx="230760" cy="1880280"/>
            </a:xfrm>
            <a:prstGeom prst="bentConnector3">
              <a:avLst>
                <a:gd name="adj1" fmla="val 4953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2" name="_s16415"/>
            <p:cNvSpPr/>
            <p:nvPr/>
          </p:nvSpPr>
          <p:spPr>
            <a:xfrm>
              <a:off x="3625920" y="1652760"/>
              <a:ext cx="1612440" cy="711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RADOR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6416"/>
            <p:cNvSpPr/>
            <p:nvPr/>
          </p:nvSpPr>
          <p:spPr>
            <a:xfrm>
              <a:off x="1746360" y="2593080"/>
              <a:ext cx="1611360" cy="1017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radora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6417"/>
            <p:cNvSpPr/>
            <p:nvPr/>
          </p:nvSpPr>
          <p:spPr>
            <a:xfrm>
              <a:off x="3627000" y="2593080"/>
              <a:ext cx="1611000" cy="1017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radora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6418"/>
            <p:cNvSpPr/>
            <p:nvPr/>
          </p:nvSpPr>
          <p:spPr>
            <a:xfrm>
              <a:off x="5507280" y="2593080"/>
              <a:ext cx="1611000" cy="1017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radora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09720" y="3862080"/>
              <a:ext cx="377208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NSMIS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49360" y="3646440"/>
              <a:ext cx="187128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65720" y="3573720"/>
              <a:ext cx="36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653000" y="3646440"/>
              <a:ext cx="171432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02080" y="4581360"/>
              <a:ext cx="2015280" cy="47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STRIBU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33720" y="4438440"/>
              <a:ext cx="1814400" cy="62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ENTES  LIB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33000" y="5302080"/>
              <a:ext cx="3096000" cy="64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ENTES FINALES (REGULADO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2565000" y="4221000"/>
              <a:ext cx="15134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05360" y="4221000"/>
              <a:ext cx="686160" cy="22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97000" y="5086440"/>
              <a:ext cx="21636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36640" y="5086440"/>
              <a:ext cx="21636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429000" y="5086440"/>
              <a:ext cx="28836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17360" y="4941720"/>
              <a:ext cx="50328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33000" y="5086440"/>
              <a:ext cx="28800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17360" y="4725720"/>
              <a:ext cx="2016000" cy="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395280" y="2708280"/>
            <a:ext cx="1008000" cy="865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03280" y="278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03280" y="2997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03280" y="314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03280" y="3357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Mercado Eléctri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misión Resolu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esolución 48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esolución 59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esolución 66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Mercado Telecomunicacio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515600" y="1802880"/>
            <a:ext cx="6113160" cy="4191120"/>
            <a:chOff x="1515600" y="1802880"/>
            <a:chExt cx="6113160" cy="4191120"/>
          </a:xfrm>
        </p:grpSpPr>
        <p:sp>
          <p:nvSpPr>
            <p:cNvPr id="161" name=""/>
            <p:cNvSpPr/>
            <p:nvPr/>
          </p:nvSpPr>
          <p:spPr>
            <a:xfrm>
              <a:off x="1690200" y="1802880"/>
              <a:ext cx="5587560" cy="104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Garamond"/>
                </a:rPr>
                <a:t>COMPAÑÍAS DE LARGA DISTANCI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515600" y="3375000"/>
              <a:ext cx="1920600" cy="52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PAÑÍA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10800" y="3375000"/>
              <a:ext cx="1924200" cy="52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MPRESA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07080" y="3375000"/>
              <a:ext cx="1921680" cy="52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ORTADOR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84160" y="2850840"/>
              <a:ext cx="108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88960" y="3025080"/>
              <a:ext cx="4365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388960" y="3025080"/>
              <a:ext cx="72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54680" y="3025080"/>
              <a:ext cx="108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15600" y="4247640"/>
              <a:ext cx="6112080" cy="52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ELEFONÍA LOC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88960" y="3898800"/>
              <a:ext cx="2094840" cy="34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84160" y="3898800"/>
              <a:ext cx="0" cy="34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4483800" y="3898800"/>
              <a:ext cx="2270520" cy="34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87720" y="5295600"/>
              <a:ext cx="2969640" cy="69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LIENT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484160" y="477144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Mercado Telecomunicacio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misión Resolu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esolución 389 = Desintegr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¿VTR – M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¿“Triple pack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¿Qué es una IV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Podemos señalar, a modo introductorio, que ellas constituyen una situación en que existen empresas -que pueden estar jurídicamente relacionadas en sus estructuras de dominio- y que se desempeñan en algunos o todos los niveles de producción de un bien o servicio (etapas insumo-product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¿Y a quién le importa 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Continuación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Visto desde la perspectiva de la empresa, ellas implican una expansión operacional motivada por criterios de minimización de costos y maximización de utilid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¿Esto las hace eficient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Economías de Alcance, de Ámbito y de Esca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Monopolio e Integración Vertic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nsideremos que para acceder a una playa se debe transitar por un cami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amino y Playa = únicos insu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o hay costos de ope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emanda determinada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Bañistas y la Play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39640" y="1125360"/>
          <a:ext cx="8229600" cy="5531040"/>
        </p:xfrm>
        <a:graphic>
          <a:graphicData uri="http://schemas.openxmlformats.org/drawingml/2006/table">
            <a:tbl>
              <a:tblPr/>
              <a:tblGrid>
                <a:gridCol w="2819520"/>
                <a:gridCol w="3024000"/>
                <a:gridCol w="2386080"/>
              </a:tblGrid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Q (Bañista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($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U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9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8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7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3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3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7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8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9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Bañistas y la Playa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(Sin Regulación)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Supuesto 1: Ambos procesos monopolizados. Único dueñ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Supuesto 2: Camino único. Infinitas play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Supuesto 3: Playa única. Múltiples camin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Bañistas y la Playa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(Sin Regulación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Pero… y si hay única playa y único camino, pertenecientes a dos monopolistas distinto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Garamond"/>
              </a:rPr>
              <a:t>TEORÍA DE JUEG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Para un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Garamond"/>
              </a:rPr>
              <a:t>monopolista no regulado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 no hay incentivos monopólicos para integrarse, a menos que haya otro monopolista en la cadena de distribució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Bañistas y la Playa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(Con Regulación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En el caso de existir regulación en un segmento de la cadena (¿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osibilidad de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Garamond"/>
              </a:rPr>
              <a:t>exclus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Favorecer a unos (filial o matriz) por sobre otros (competenci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6T03:54:31Z</dcterms:created>
  <dc:creator>Sebastian Spolmann Pasten</dc:creator>
  <dc:description/>
  <dc:language>en-US</dc:language>
  <cp:lastModifiedBy>sspolmann</cp:lastModifiedBy>
  <dcterms:modified xsi:type="dcterms:W3CDTF">2006-10-11T22:51:08Z</dcterms:modified>
  <cp:revision>12</cp:revision>
  <dc:subject/>
  <dc:title>Integraciones Verticales</dc:title>
</cp:coreProperties>
</file>