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AA1-8518-4DE1-8870-5D9D3673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461-C300-4350-A676-601FE37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A94-5549-4738-A80E-06934595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845-67E4-44F5-9600-063D8CD6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E853-F4D4-4795-9271-3EB8B423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AA32-9DD9-47FD-A8C7-A45219DF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831E-905A-41B3-A095-66D36E95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9998-0478-42A5-9C68-9C4526B5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73E8-9137-4E9E-956A-939EB8F6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EDC5-46D7-40AD-A89D-6D0958EC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6780-D74F-4A17-8482-C60F82BB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8B5-ACA0-4707-9FE3-1DAD7D39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94B6-ADC4-4C35-B6D8-3F34B50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C5E8-A3E5-4AF3-9536-0655D17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1990-1753-4553-A635-B6A6658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D9C1-20D0-4C63-9C4A-B31E7DCD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35D4-C0C5-4B20-876D-190C2405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4C6-E105-448B-89F8-E78D4B3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46F-2EBD-4A90-9CFA-063C9CFC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0FF-5D69-42DC-9C4E-27347F1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E56-6FBA-4C0B-992A-6D2F7502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51D-DA9F-4D7A-B01C-DAAFF8E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01E-D782-48EF-9B5E-6F520F76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A78-FFA3-4C12-8BD5-3C069BC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D324-C644-45A6-ACE9-712EDEE1EEF2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E07C-99D3-4A97-87D8-3D92CDCCA6C7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1081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Barreras a la Entrada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. Sutton: Si 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independiente de las venta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que realizo como empresa ¿Qué tipo de costo 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 es un Costo Fijo en que se incurre una sola vez en las industrias más grandes y en aquellas en que esta estrategia es especialmente influyente ¿tenderían a ser concentradas o desconcentrad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de el punto de vista de los Oligopol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a lealtad debe ser contrarrestada por los potenciales competidores, que enfrentarán una desventaja inicial, y por consiguiente una necesidad de incurrir en mayores gastos para introducir su bien o servicio. Ej. Bebidas Gase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Debe ser esto imput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ormula fuertes reparos a dicha ide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”Deben transitar por donde otros lo han hecho”; “Esto genera eficiencias y beneficia al consumido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FUD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e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ub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mecanismo retórico típicamente exclusiona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pela a la cautividad de un consumidor y su grado de aversión al camb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e sancionarse en sede de libre competenc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erimientos de Capit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ork: 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Los requisitos de capital existen y ciertamente inhiben la entrada -tanto como el talento es un requisito existente para jugar football profesional e inhibe la entrada”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o grafica la distinción entre BE Artificiales y Na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si el mercado sigue siendo atractivo debido a las rentas sobrenaturales, los costos asociados a la obtención de capital, siguen siendo menores a los beneficios de su utilización. (Papel de los financistas y los capitalista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rreras Legales a la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imientos de Capital + Barreras Legales a la Entr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muy presentes en nuestras legislaciones econó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.:Art. 50 Ley General de Banco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El monto del capital pagado y reservas de un banc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podrá ser inferi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l equivalente de 800.000 unidades de fomento (…)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xiste poco acuerdo sobre el nivel de imputación a conside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Debo prestar los activos de mi empresa, o sub-utilizarlos, sólo porque existen potenciales competidores que no pueden hacer frente a dicha cuest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eciera ser que la la respuesta, primariamente -y salvo en casos de prácticas de exclusión que se sancionan bajo requisitos de la parte especial- es que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Barreras a la Entrada (“BE”) ocupan un lugar estratégico en la teoría antimonopol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veremos, no existe una noción unívoca de las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s sobre CMg = ¿Nuev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ontestability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socia a  mercados altamente elá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cionalmente, las BE se han asociado a ciertas condiciones de un mercado relevante dado, que desde un punto de vista económico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recen sumamente el ingreso de nuevos competidores al merc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, por tanto, íntimamente ligado a lo que denominamos “Competencia Potencial” e inclusive a las EC de la Oferta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ciera ser, a lo menos intuitivamente, que las BE implican un desincentivo al cumplimiento -no sólo del tercer requisito de un modelo de competencia perfecta- sino también del prim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mos que el segundo requisito también puede ser incumpl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epto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mos que una BE es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junto de costos financieros derivados de variables legales, naturales o privadas que implican un desplazamiento de los activos de una empresa que potencialmente puede ingresar a un mercado relevante, a otro mercado (o a ninguno en particular), debido al desincentivo que implica el asumir tales cos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es de Barreras de Ent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variadas taxonom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s.: Barreras Legales, Financieras, Na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tilizaremos la formulación más restrictiva de B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Naturales vs. Artifi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4 Fuentes prob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Bloqueo al ac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Economías de Esca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equisitos de Capi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Diferenciación de Produ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Artifi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todos aquellos actos en que incurre una empresa ya instalada en el mercado relevante, tendientes a impedir, o a lo menos a desincentivar, el ingreso de potenciales competi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relacionan íntimamente con delitos de la parte especial agrupados bajo “prácticas exclusionar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 Natur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yen características del Mercado Relevante de 2º Grado, no imputables a las empresas ya instaladas en él, pero que implican costos financieros importantes (Ej. Regulaciones Legales, Monopolios Legales, Costos Hundi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uede ser que una ley específica promueva bajas barreras a la entr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iferenciación de Productos y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Marketing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atégico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ercados actuales se caracterizan por una fuerte estrategia comunicacional destinada a diferenciar un bien de otro (generar una mayor inelasticidad precio demanda al aumentar la disposición a pagar por é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stas generan un plusvalor, medido en términos de votos monetarios (lealtad), que los potenciales entrantes deberán comba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erencias de marcas (¿catalizado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3:33:10Z</dcterms:created>
  <dc:creator>Benny Mordoj</dc:creator>
  <dc:description/>
  <dc:language>en-US</dc:language>
  <cp:lastModifiedBy>PanchoVera</cp:lastModifiedBy>
  <dcterms:modified xsi:type="dcterms:W3CDTF">2007-04-30T21:07:24Z</dcterms:modified>
  <cp:revision>45</cp:revision>
  <dc:subject/>
  <dc:title>Diapositiva 1</dc:title>
</cp:coreProperties>
</file>