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8B3-92FD-420E-B3F5-98509FEB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ED7-821E-4717-A77B-5BE558FF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FBA-784E-4D2B-9D32-4BE60F3F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B76-F0BD-4A31-A7AE-6351CEEB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9980-A8CF-4A30-9339-3A00C3C0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D97C-1A2C-49D5-AEFB-67D2FAE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6FA2-C1D0-40D2-B8EE-555B6A0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413C-F0A3-4B8F-AED8-09AA59CC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A3CF-A7C8-4D74-AF28-C462360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19E-FEBE-447B-8051-6E570204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B2B-B7BD-4C82-BB38-348F31B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A4F-C8CD-44D4-A95F-84472F5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555E-5D11-4188-BCF7-BFA4BCA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D51-FAAE-44EF-A25E-BFB6B24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396-57DE-4AFB-A6E4-987D6F35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C24-3363-416B-9D5C-637E82A7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169-9601-4CDE-B274-FF6B8D90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EA4-69DD-4B45-8E33-ECA9FEAF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99F-B507-4A5E-A80B-3CAA7A9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5E0-E731-40F8-BF4F-0DDFBB2D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22A-89D4-486F-A21C-9C081C9C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A4F-8BBB-4E00-8996-ECC1A97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6E3-A0A5-4222-B4D7-4BE51D3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17B-D43A-458E-90D6-169D734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E4C-158A-4054-981A-EE286974FD18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35F8-488D-4510-8866-65E13D46C6B6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081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Barreras a la Entrad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. Sutton: Si 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independiente de las venta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e realizo como empresa ¿Qué tipo de costo 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 es un Costo Fijo en que se incurre una sola vez en las industrias más grandes y en aquellas en que esta estrategia es especialmente influyente ¿tenderían a ser concentradas o desconcentra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de el punto de vista de los Oligopol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a lealtad debe ser contrarrestada por los potenciales competidores, que enfrentarán una desventaja inicial, y por consiguiente una necesidad de incurrir en mayores gastos para introducir su bien o servicio. Ej. Bebidas Gase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Debe ser esto impu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ormula fuertes reparos a dicha ide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”Deben transitar por donde otros lo han hecho”; “Esto genera eficiencias y beneficia al consumid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FU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e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ub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mecanismo retórico típicamente exclusion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pela a la cautividad de un consumidor y su grado de aversión al 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e sancionarse en sede de libre competenc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rimientos de Capit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ork: 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Los requisitos de capital existen y ciertamente inhiben la entrada -tanto como el talento es un requisito existente para jugar football profesional e inhibe la entrada”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o grafica la distinción entre BE Artificiales y Na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si el mercado sigue siendo atractivo debido a las rentas sobrenaturales, los costos asociados a la obtención de capital, siguen siendo menores a los beneficios de su utilización. (Papel de los financistas y los capitalist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reras Legales a la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imientos de Capital + Barreras Legales a la 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muy presentes en nuestras legislaciones econó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.:Art. 50 Ley General de Banc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El monto del capital pagado y reservas de un banc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podrá ser inferi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l equivalente de 800.000 unidades de fomento (…)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xiste poco acuerdo sobre el nivel de imputación a conside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Debo prestar los activos de mi empresa, o sub-utilizarlos, sólo porque existen potenciales competidores que no pueden hacer frente a dicha cuest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la la respuesta, primariamente -y salvo en casos de prácticas de exclusión que se sancionan bajo requisitos de la parte especial- es que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Barreras a la Entrada (“BE”) ocupan un lugar estratégico en la teoría antimonopol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veremos, no existe una noción unívoca de la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s sobre CMg = ¿Nuev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ontestability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socia a  mercados altamente elá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cionalmente, las BE se han asociado a ciertas condiciones de un mercado relevante dado, que desde un punto de vista económic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recen sumamente el ingreso de nuevos competidores al merc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, por tanto, íntimamente ligado a lo que denominamos “Competencia Potencial” e inclusive a las EC de la Ofert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ciera ser, a lo menos intuitivamente, que las BE implican un desincentivo al cumplimiento -no sólo del tercer requisito de un modelo de competencia perfecta- sino también del pri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mos que el segundo requisito también puede ser incumpl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o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mos que una BE es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costos financieros derivados de variables legales, naturales o privadas que implican un desplazamiento de los activos de una empresa que potencialmente puede ingresar a un mercado relevante, a otro mercado (o a ninguno en particular), debido al desincentivo que implica el asumir tales co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es de Barreras de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variadas taxonom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s.: Barreras Legales, Financieras,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tilizaremos la formulación más restrictiva de B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Naturales vs. Artifi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4 Fuentes prob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Bloqueo al ac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Economías de Esca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equisitos de Capi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Diferenciación de Produ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Artifi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todos aquellos actos en que incurre una empresa ya instalada en el mercado relevante, tendientes a impedir, o a lo menos a desincentivar, el ingreso de potenciales compet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lacionan íntimamente con delitos de la parte especial agrupados bajo “prácticas exclusionar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Natur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características del Mercado Relevante de 2º Grado, no imputables a las empresas ya instaladas en él, pero que implican costos financieros importantes (Ej. Regulaciones Legales, Monopolios Legales, Costos Hundi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uede ser que una ley específica promueva bajas barreras a la entr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iferenciación de Productos y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Marketing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atégic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actuales se caracterizan por una fuerte estrategia comunicacional destinada a diferenciar un bien de otro (generar una mayor inelasticidad precio demanda al aumentar la disposición a pagar por é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stas generan un plusvalor, medido en términos de votos monetarios (lealtad), que los potenciales entrantes deberán comba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s de marcas (¿catalizado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3:10Z</dcterms:created>
  <dc:creator>Benny Mordoj</dc:creator>
  <dc:description/>
  <dc:language>en-US</dc:language>
  <cp:lastModifiedBy>PanchoVera</cp:lastModifiedBy>
  <dcterms:modified xsi:type="dcterms:W3CDTF">2007-04-30T21:07:24Z</dcterms:modified>
  <cp:revision>45</cp:revision>
  <dc:subject/>
  <dc:title>Diapositiva 1</dc:title>
</cp:coreProperties>
</file>