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01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049F-8A9A-45D7-96AB-BF8925AC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A86-3643-4F2F-89D6-78737AA7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5E68-B986-4F3E-8F74-BCD766FF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775-829F-4832-B103-B2A5CC40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44E2-71A7-411D-98D4-5E03219F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1D2D-10E7-411A-A123-95B3041A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E078-EA28-4DE6-ADCA-5D410892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9453-6CAE-460C-B078-891AA07C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BA27-57EC-4867-90C8-B74E1A51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910A-5414-4604-A5BB-B0CD566D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E546-55DA-4237-A1A4-C9615574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AC93-EE88-42E8-B1F0-4ED86403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0E7F-5160-4F46-9978-92994156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EEA2-B2A8-4ED4-B656-EEDA0684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09AD-E99A-4A1E-97FD-671FCC65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6A53-8639-4BEA-A698-93BCA648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B7B7-D563-4500-948B-0F5B9156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FE3-A1ED-423E-87A0-972E4FD1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352-268D-4895-AC2B-628419C6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38F6-F00A-46F3-B1B1-3C3C6AE3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29CC-AE7B-4178-A686-16AA8BFE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B4B4-763F-4FF3-A0E3-3EB938B8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3E23-E975-485D-A76B-08AAF607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27B-EBAF-4948-BF97-F2FDC533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28E4-910F-4D4D-A409-40BA893150F4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197A-8F58-482B-B44F-352760CC351A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210816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6633"/>
                </a:solidFill>
                <a:latin typeface="Garamond"/>
              </a:rPr>
              <a:t>Barreras a la Entrada</a:t>
            </a:r>
            <a:endParaRPr b="0" lang="en-US" sz="6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J. Sutton: Si el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dvertising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independiente de las venta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que realizo como empresa ¿Qué tipo de costo 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i es un Costo Fijo en que se incurre una sola vez en las industrias más grandes y en aquellas en que esta estrategia es especialmente influyente ¿tenderían a ser concentradas o desconcentrada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sde el punto de vista de los Oligopoli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a lealtad debe ser contrarrestada por los potenciales competidores, que enfrentarán una desventaja inicial, y por consiguiente una necesidad de incurrir en mayores gastos para introducir su bien o servicio. Ej. Bebidas Gaseo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Debe ser esto imput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formula fuertes reparos a dicha ide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→”Deben transitar por donde otros lo han hecho”; “Esto genera eficiencias y beneficia al consumido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l FUD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ea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Uncertain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oub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un mecanismo retórico típicamente exclusionar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apela a la cautividad de un consumidor y su grado de aversión al camb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Debe sancionarse en sede de libre competenci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querimientos de Capit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ork: “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Los requisitos de capital existen y ciertamente inhiben la entrada -tanto como el talento es un requisito existente para jugar football profesional e inhibe la entrada”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sto grafica la distinción entre BE Artificiales y Natur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areciera ser que si el mercado sigue siendo atractivo debido a las rentas sobrenaturales, los costos asociados a la obtención de capital, siguen siendo menores a los beneficios de su utilización. (Papel de los financistas y los capitalista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arreras Legales a la Entra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rimientos de Capital + Barreras Legales a la Entra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muy presentes en nuestras legislaciones económ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j.:Art. 50 Ley General de Bancos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El monto del capital pagado y reservas de un banco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 podrá ser inferi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l equivalente de 800.000 unidades de fomento (…)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clusio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490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xiste poco acuerdo sobre el nivel de imputación a consider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Debo prestar los activos de mi empresa, o sub-utilizarlos, sólo porque existen potenciales competidores que no pueden hacer frente a dicha cuestió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areciera ser que la la respuesta, primariamente -y salvo en casos de prácticas de exclusión que se sancionan bajo requisitos de la parte especial- es que </a:t>
            </a:r>
            <a:r>
              <a:rPr b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neralidad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Barreras a la Entrada (“BE”) ocupan un lugar estratégico en la teoría antimonopol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o veremos, no existe una noción unívoca de las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cios sobre CMg = ¿Nuevos Competid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Contestability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asocia a  mercados altamente elás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cionalmente, las BE se han asociado a ciertas condiciones de un mercado relevante dado, que desde un punto de vista económico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arecen sumamente el ingreso de nuevos competidores al merc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á, por tanto, íntimamente ligado a lo que denominamos “Competencia Potencial” e inclusive a las EC de la Oferta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eciera ser, a lo menos intuitivamente, que las BE implican un desincentivo al cumplimiento -no sólo del tercer requisito de un modelo de competencia perfecta- sino también del prime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emos que el segundo requisito también puede ser incumpli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cepto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mos que una BE es e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junto de costos financieros derivados de variables legales, naturales o privadas que implican un desplazamiento de los activos de una empresa que potencialmente puede ingresar a un mercado relevante, a otro mercado (o a ninguno en particular), debido al desincentivo que implica el asumir tales cost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ases de Barreras de Entra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isten variadas taxonom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s.: Barreras Legales, Financieras, Natu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tilizaremos la formulación más restrictiva de BE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→Naturales vs. Artifi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4 Fuentes probab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Bloqueo al acce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Economías de Esca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Requisitos de Capit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Diferenciación de Produc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E Artifici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tuyen todos aquellos actos en que incurre una empresa ya instalada en el mercado relevante, tendientes a impedir, o a lo menos a desincentivar, el ingreso de potenciales competi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relacionan íntimamente con delitos de la parte especial agrupados bajo “prácticas exclusionaria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E Natur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tuyen características del Mercado Relevante de 2º Grado, no imputables a las empresas ya instaladas en él, pero que implican costos financieros importantes (Ej. Regulaciones Legales, Monopolios Legales, Costos Hundid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Puede ser que una ley específica promueva bajas barreras a la entra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iferenciación de Productos y </a:t>
            </a: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Marketing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tratégico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mercados actuales se caracterizan por una fuerte estrategia comunicacional destinada a diferenciar un bien de otro (generar una mayor inelasticidad precio demanda al aumentar la disposición a pagar por é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Éstas generan un plusvalor, medido en términos de votos monetarios (lealtad), que los potenciales entrantes deberán combat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nsferencias de marcas (¿catalizador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3:33:10Z</dcterms:created>
  <dc:creator>Benny Mordoj</dc:creator>
  <dc:description/>
  <dc:language>en-US</dc:language>
  <cp:lastModifiedBy>PanchoVera</cp:lastModifiedBy>
  <dcterms:modified xsi:type="dcterms:W3CDTF">2007-04-30T21:07:24Z</dcterms:modified>
  <cp:revision>45</cp:revision>
  <dc:subject/>
  <dc:title>Diapositiva 1</dc:title>
</cp:coreProperties>
</file>