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ABD45-F59C-4A8B-8F1E-427DF6348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DCE4C-82B7-444E-B875-1CF5FBD0F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0AA3A-8191-4397-968E-CA9806D0B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C5DB0-1DDE-462A-836B-593274B51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89449-28D3-4FA4-AB7A-19152D138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B6191-5590-436B-A0EA-A63D44DCD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B49AA-BB50-45CA-8B3A-4C7D72479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05BC8-DA3B-4C72-8D45-679171CC4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7E4D2-B022-48B7-B40F-0267A97A7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8156D-5DE1-45E6-9C18-CCCEC58CF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1A567-95CE-4F71-828E-C708898FB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F9A38-7441-4FBB-80DE-F746E7A0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931F2-06A4-4649-AF60-82FF44BFA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CCB23-0177-4B22-9164-5B8A13A8C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67F29-309E-48DD-B6DD-415F0D906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013F7-0F44-4365-BDAA-F0325E4FD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29BD8-173E-4329-8EB4-C39F384FC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4C5E-9B40-4218-BE9E-41FD695A4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43390-5689-47AC-9F34-835C5A5F5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56248-19CA-4AF1-B7D8-1C1CA34FE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0FEE5-82C4-4B70-AF73-78736DEAD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F7C1-CA18-4EC9-957E-25A723479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E7F1E-93D8-4F38-A4A2-7841F3458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178A-2BFF-49C3-890F-12AFA7428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5B39-4247-469D-B3DB-5061B80E9E85}"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494F-98C5-4495-87B7-382996B75DB8}"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cruzada precio-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a:solidFill>
                  <a:srgbClr val="000000"/>
                </a:solidFill>
                <a:latin typeface="Arial"/>
              </a:rPr>
              <a:t>referirnos </a:t>
            </a:r>
            <a:r>
              <a:rPr b="0" i="1" lang="es-CL" sz="2800" spc="-1" strike="noStrike">
                <a:solidFill>
                  <a:srgbClr val="000000"/>
                </a:solidFill>
                <a:latin typeface="Arial"/>
              </a:rPr>
              <a:t>a un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s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Benny Mordoj</dc:creator>
  <dc:description/>
  <dc:language>en-US</dc:language>
  <cp:lastModifiedBy>PanchoVera</cp:lastModifiedBy>
  <dcterms:modified xsi:type="dcterms:W3CDTF">2007-04-30T21:08:00Z</dcterms:modified>
  <cp:revision>25</cp:revision>
  <dc:subject/>
  <dc:title> El Mercado Relevante</dc:title>
</cp:coreProperties>
</file>