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C03-FD61-4A5F-A7E9-169C05CC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921-6325-4F5F-98F1-4FF0C218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977-BFDE-49E3-98C5-FBEDEC04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422-BDCC-4896-BF01-FCFFB186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7714-B1C0-41F9-8133-F353E9C0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0926-86CB-4F0C-A0C7-813D1BCB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9664-811E-4B1F-AB07-08133FFA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28A3-DAB6-4917-A081-C9BEBC39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3D87-233D-4ACD-A350-FF13550A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C3CE-5703-438E-8041-7BFE5C63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0000-7CA6-4CBA-BD8E-A785CA6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5F3-0DEF-4D96-957E-9D2E0F2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1BC-53BF-40F2-9CFE-591CD0E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2127-2287-42D8-943F-6D7083AC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D76D-37C9-4964-B081-7C3F711A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DDB5-EE7D-444F-B790-6BFAE6C5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A717-998F-4BB9-A7A0-9A4417C2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C323-DC86-42A8-AC51-5D4D890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9586-4A8F-491D-9DF8-F43FD6B7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D418-23CD-4E71-86C3-BF180AA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68AB-4031-461A-A5EA-E85BC4F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3C7B-490C-4F60-BBF8-B0F5D56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314-711B-4971-8F8F-6E7BA41F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3CC1-D3B0-4594-AB75-B243870A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E885-9A35-4A5E-8A6A-B064431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CC35-0782-49E4-A68C-D7B295AA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39CC-E280-4C3F-93C8-5D64034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DC31-8646-412D-8761-D7BBB3CA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8A99-DF64-485C-8F62-995BF7A0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AE22-4EB7-45D7-8488-06A69572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EFA-4827-4AB3-AA31-2D0C44E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A53-F67C-43BD-B3F5-5E17FBC2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8C8-B50D-470D-B502-522D7B2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3DF-783B-4604-9B90-EE76732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486-B8B2-42EC-847D-D7E36A2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016-3BC6-4CE7-9343-BEB72C01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6CF9-4E13-41DF-9ECD-1DC6577A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3CA2-6C1D-4FA1-BD5D-67A9BC4C9C9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773-9D3E-4D88-8E15-A551E06F1FE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6633"/>
                </a:solidFill>
                <a:latin typeface="Book Antiqua"/>
              </a:rPr>
              <a:t>TEORÍA DE JUEGOS: </a:t>
            </a:r>
            <a:r>
              <a:rPr b="0" lang="es-ES" sz="4600" spc="-1" strike="noStrike">
                <a:solidFill>
                  <a:srgbClr val="006633"/>
                </a:solidFill>
                <a:latin typeface="Book Antiqua"/>
              </a:rPr>
              <a:t>Aplicación a los olig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formación Completa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1440" y="1773360"/>
            <a:ext cx="41752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¿Es así siempre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2206800"/>
            <a:ext cx="280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Juegos Repetid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Y si se juega varias ve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Es = que sea un número fijo de veces a uno indefinido? (“Juego de la Agencia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desbarata el 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xelr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ey del Tal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Teoría Económica de los Contrato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¿Y qué … tiene que ver con los Oligopoli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3 estructuras básicas de merca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Idén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Único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Diferenci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 en que pocas empresas están en condiciones de suministrar un mismo bien, pero sin que la diferencia sea imperceptible, como lo sería en el caso de competencia perf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cas empresas. Bien “casi” homogéneo, con tendencia a la elastic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Serán Precio-Aceptantes? OPEP, carrera armamentista, guerra publicit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ado que hay pocos vendedores (o compradores), la decisión de uno, influirá sustancialmente en los beneficios de los demás competidores (jugadores) Ej.: Caso Farmacias 25% descu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e genera situación de interdepend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¿y los Costos de Transacción? o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¡¿Qué importa el costo?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Oligopolio y Competencia Monopolíst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ferenciación del producto (¿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terrelación entre empresas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syuntiva entre cooperación e interés pers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lusión + Cooperación = Beneficios Monopó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¿Y si no se coop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6633"/>
                </a:solidFill>
                <a:latin typeface="Garamond"/>
              </a:rPr>
              <a:t>Mankiw y el dilema del agua. </a:t>
            </a:r>
            <a:br>
              <a:rPr sz="4600"/>
            </a:br>
            <a:r>
              <a:rPr b="0" lang="es-CL" sz="4600" spc="-1" strike="noStrike">
                <a:solidFill>
                  <a:srgbClr val="006633"/>
                </a:solidFill>
                <a:latin typeface="Garamond"/>
              </a:rPr>
              <a:t>Los du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erdillo Ltda. (C) y Perrito S.A. (P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bos poseen acceso exclusivo a la extracción de agua de un poz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ongamos demanda de pendiente negativa y costos de producción =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39640" y="34920"/>
          <a:ext cx="8280360" cy="6539040"/>
        </p:xfrm>
        <a:graphic>
          <a:graphicData uri="http://schemas.openxmlformats.org/drawingml/2006/table">
            <a:tbl>
              <a:tblPr/>
              <a:tblGrid>
                <a:gridCol w="2760840"/>
                <a:gridCol w="2759040"/>
                <a:gridCol w="276048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(L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= UT =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Teoría de Juegos: Teoría de la toma de decisiones o comportamiento de los individuos en situaciones estratég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¿Por qué na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Uso Descriptivo o Normati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ituación Ideal = 30 Lt. c/u = $¿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P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onclusión: Si se producen 80 Lt., el precio baja a $4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No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Cuándo C y E venden a precio efici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Por Qué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ntonc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Aunque los duopolistas maximizadores de beneficios terminen por no cooperar y marginen menos c/u, igualmente no se alcanza Pareto (Kaldor-Hicks). Ej.: Sentencia Nº 7, TDLC, Mercado de la Lec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¿Se aplica lo mismo a los oligopolistas en sentido estric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Debe el Derecho antitrust encargarse de los oligopoli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Book Antiqua"/>
              </a:rPr>
              <a:t>Conceptos Bás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gadores. Actuaciones de individuos en número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gt;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trategias de cada u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Recompensas (Pagos) por cada movimi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encia = Las estrategias de los demás jugadores influirán en nuestras deci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atrapa a dos ladr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hacalito y Mal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Asalto al banco = 1 año; Homicidio = 20 a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los atrapó saliendo del banco, pero hay sospecha de un homicidio ante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El que confiesa = libre, 20 años al o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onfiesan = 8 años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allan = 1 año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27160"/>
                <a:gridCol w="2303640"/>
                <a:gridCol w="2022480"/>
                <a:gridCol w="1876320"/>
              </a:tblGrid>
              <a:tr h="113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Malul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Estrategi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hacali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0,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1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les convie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es lo mejor que puede hacer cada u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strategia Dominante (ED): Movida óptima para un jugador, independiente de lo que los otros hag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Equilibrio de Nash 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(Eq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tuación en que los agentes económicos (jugadores) que interactúan entre sí eligen cada uno su mejor estrategia, dadas las estrategias que han elegido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Garamond"/>
              </a:rPr>
              <a:t>¿EqN – ED – Pare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Y el dilema 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aramond"/>
              </a:rPr>
              <a:t>¿Cooperar o No Cooper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sión entre el maximizador de utilidades (egoísmo) vs. La cooperación que mejora la situación de cada uno de los particip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Tipos de jueg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Cero (Ajedrez, Go, Pok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No Cero (Teoría de la Negociació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Cooperativos (cumplimiento exigib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No Cooperativos (prisioner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Información Completa (= info relevante, conoce estrategias y recompensas de los otros, pero no las accion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39:29Z</dcterms:created>
  <dc:creator>Sebastian Spolmann</dc:creator>
  <dc:description/>
  <dc:language>en-US</dc:language>
  <cp:lastModifiedBy>Sebastian Spolmann</cp:lastModifiedBy>
  <dcterms:modified xsi:type="dcterms:W3CDTF">2007-03-21T04:26:30Z</dcterms:modified>
  <cp:revision>55</cp:revision>
  <dc:subject/>
  <dc:title>Diapositiva 1</dc:title>
</cp:coreProperties>
</file>