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0CE-0F67-4D3D-958E-1D6A7E53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BE6-8E8C-4A7C-A03C-C9ED9A1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777-B28E-4C1D-A70A-CBAD3692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69E-5875-4987-BFAC-9FCA9644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BFBF-B1E8-4E1F-BCBA-0C7A27BF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3E8-6A93-4AAF-A1F0-E4207F76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362A-0D68-481C-B85B-6802245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FEB3-07B6-4CEA-8FD7-52D5430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DA6-8F87-42C7-9CBB-C893654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1BA5-7584-4138-957C-0291459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F76-B860-4735-9026-EA71722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062-0327-4AA6-8AFE-58FBD397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B16F-02B6-41DB-83EF-B3ED64A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0041-39FF-48CC-866F-D7AA24B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ABD-A7E6-4AF4-B61A-4F22973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9A8B-4B74-452F-9CD3-913C3011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F85-EB7C-47E5-8428-3F7CDD6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05BD-4C34-4A71-BE7A-A500E73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EEC4-2052-4778-802D-81A2BC2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5DB6-D96E-43F5-B97E-9B49F9F4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2180-CE3F-4ACA-8E02-B778790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BDDE-9399-4002-AC2E-66DC35C7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AA4-9073-4780-9273-118972FC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5EFE-1F8C-4AB4-AA63-C58B923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F6F3-4462-4E78-8C7A-E556710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4257-316D-4369-B3D9-E1B1933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4C33-3002-4AD7-A324-B14AA23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0D19-9EFF-458A-89B5-D177B0BC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2DBC-6C7D-4C70-8099-31ACC93C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13F2-6DE8-43D1-AA85-F1CAE1E7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08A-BE13-46DC-AC04-D908F23D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661-AEC4-4DFE-89A7-AC67A01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863-89C9-4F59-8D05-8AC22DA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F45-2FE5-47BD-A941-E43DF8B7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34C-7B60-4A2B-98AB-2FCE39B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745-926D-4869-B3F4-D61A0A2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F28C-10D1-4BEE-87CF-0048A1C0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355-D5F1-4CAD-9CF7-D299FF47850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2554-EB8F-4B6A-82B6-F20B2D38622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33"/>
                </a:solidFill>
                <a:latin typeface="Book Antiqua"/>
              </a:rPr>
              <a:t>TEORÍA DE JUEGOS: </a:t>
            </a:r>
            <a:r>
              <a:rPr b="0" lang="es-ES" sz="4600" spc="-1" strike="noStrike">
                <a:solidFill>
                  <a:srgbClr val="006633"/>
                </a:solidFill>
                <a:latin typeface="Book Antiqua"/>
              </a:rPr>
              <a:t>Aplicación a los olig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ormación Completa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1440" y="1773360"/>
            <a:ext cx="41752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¿Es así siempre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206800"/>
            <a:ext cx="28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Juegos Repeti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Y si se juega varias ve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Es = que sea un número fijo de veces a uno indefinido? (“Juego de la Agenci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desbarata el 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xelr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ey del Tal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Teoría Económica de los Contrato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¿Y qué … tiene que ver con los Oligopol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3 estructuras básicas de merc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Idén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Único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Diferenci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 en que pocas empresas están en condiciones de suministrar un mismo bien, pero sin que la diferencia sea imperceptible, como lo sería en el caso de competencia perf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cas empresas. Bien “casi” homogéneo, con tendencia a la elasti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Serán Precio-Aceptantes? OPEP, carrera armamentista, guerra publicit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ado que hay pocos vendedores (o compradores), la decisión de uno, influirá sustancialmente en los beneficios de los demás competidores (jugadores) Ej.: Caso Farmacias 25% descu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 genera situación de interdepend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¿y los Costos de Transacción? o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¡¿Qué importa el costo?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Oligopolio y Competencia Monopolís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ferenciación del producto (¿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rrelación entre empresas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yuntiva entre cooperación e interés pers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lusión + Cooperación = Beneficios Monopó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¿Y si no se coop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6633"/>
                </a:solidFill>
                <a:latin typeface="Garamond"/>
              </a:rPr>
              <a:t>Mankiw y el dilema del agua. </a:t>
            </a:r>
            <a:br>
              <a:rPr sz="4600"/>
            </a:br>
            <a:r>
              <a:rPr b="0" lang="es-CL" sz="4600" spc="-1" strike="noStrike">
                <a:solidFill>
                  <a:srgbClr val="006633"/>
                </a:solidFill>
                <a:latin typeface="Garamond"/>
              </a:rPr>
              <a:t>Los du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rdillo Ltda. (C) y Perrito S.A. (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os poseen acceso exclusivo a la extracción de agua de un poz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ongamos demanda de pendiente negativa y costos de producción =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34920"/>
          <a:ext cx="8280360" cy="653904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(L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 UT =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Teoría de Juegos: Teoría de la toma de decisiones o comportamiento de los individuos en situaciones estratég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¿Por qué n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Uso Descriptivo o Norma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ituación Ideal = 30 Lt. c/u = $¿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P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onclusión: Si se producen 80 Lt., el precio baja a $4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No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Cuándo C y E venden a precio efici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ntonc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Aunque los duopolistas maximizadores de beneficios terminen por no cooperar y marginen menos c/u, igualmente no se alcanza Pareto (Kaldor-Hicks). Ej.: Sentencia Nº 7, TDLC, Mercado de la Le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¿Se aplica lo mismo a los oligopolistas en sentido estric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Debe el Derecho antitrust encargarse de los oligopoli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Book Antiqua"/>
              </a:rPr>
              <a:t>Conceptos Bás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gadores. Actuaciones de individuos en número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gt;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trategias de cada 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Recompensas (Pagos) por cada movimi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encia = Las estrategias de los demás jugadores influirán en nuestras deci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atrapa a dos ladr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hacalito y Mal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Asalto al banco = 1 año; Homicidio = 20 a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los atrapó saliendo del banco, pero hay sospecha de un homicidio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El que confiesa = libre, 20 años al o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onfiesan = 8 años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allan = 1 año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27160"/>
                <a:gridCol w="2303640"/>
                <a:gridCol w="2022480"/>
                <a:gridCol w="18763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Malu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Estrategi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hacali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0,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1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les convie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es lo mejor que puede hacer cada u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strategia Dominante (ED): Movida óptima para un jugador, independiente de lo que los otros hag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Equilibrio de Nash 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(Eq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tuación en que los agentes económicos (jugadores) que interactúan entre sí eligen cada uno su mejor estrategia, dadas las estrategias que han elegido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¿EqN – ED – Pare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Y el dilema 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</a:rPr>
              <a:t>¿Cooperar o No Cooper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sión entre el maximizador de utilidades (egoísmo) vs. La cooperación que mejora la situación de cada uno de los particip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Tipos de jueg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Cero (Ajedrez, Go, Pok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No Cero (Teoría de la Negoci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Cooperativos (cumplimiento exigib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No Cooperativos (prisioner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Información Completa (= info relevante, conoce estrategias y recompensas de los otros, pero no las ac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39:29Z</dcterms:created>
  <dc:creator>Sebastian Spolmann</dc:creator>
  <dc:description/>
  <dc:language>en-US</dc:language>
  <cp:lastModifiedBy>Sebastian Spolmann</cp:lastModifiedBy>
  <dcterms:modified xsi:type="dcterms:W3CDTF">2007-03-21T04:26:30Z</dcterms:modified>
  <cp:revision>55</cp:revision>
  <dc:subject/>
  <dc:title>Diapositiva 1</dc:title>
</cp:coreProperties>
</file>