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02C-F24C-43B5-98C0-688B44B3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0EB-1016-40C7-AE5F-6C00A144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A8C-AAF1-4F03-8347-0E45D7BD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A0D8-1155-4937-A348-0FDEB23B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1774-28A0-4BC0-B15F-80891A4F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A6A8-5376-4EC8-9630-C2DB42BA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1B6E-B7EC-4602-8AAF-55144A2F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EC5E-BD9C-4960-908A-3AAEE565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04E3-DFFB-49F3-A1A4-42EFE4A1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078B-F5E4-4FEC-B048-2C1F6202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5BEB-20E4-4124-8CE5-F888E2AB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0B71-8697-4D09-A45D-65AD8955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A3B7-B2B7-4248-9EFD-0960F71A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72A6-0C81-408D-9FF9-AAB5DE79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63FA-05EE-45BC-8125-8CEA0BC5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12DB-CB9F-42FF-BBF4-67B97CFB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F0DE-77F3-4D87-B820-35711F1D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956C-C353-4B38-91EC-60F3ACE8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3E6-DCAA-4340-9277-4CCAC421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87AE-08C6-40A8-BB5B-0E8955E9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EA2-C442-41B0-8164-A291CEEA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B27-B044-4BE9-B467-0A79C7A9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616-BC01-4190-B2F2-4079FF92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4D1-0044-4587-ABFE-377E869C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AD33-96B0-4F1F-9233-B1F41CBCA48D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C805-1AEA-4AAC-B627-0B1B796467FE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erecho de la 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Solución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Utilizar mecanismos Regulator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erecho Antimonopolios (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Antitrust Law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or qué hablar de Libre Competencia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Problema Económ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autoritaria, dirigida, planificada (centralmen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de libre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interacción Oferta y Demanda (</a:t>
            </a:r>
            <a:r>
              <a:rPr b="0" i="1" lang="es-ES" sz="2600" spc="-1" strike="noStrike">
                <a:solidFill>
                  <a:srgbClr val="000000"/>
                </a:solidFill>
                <a:latin typeface="Garamond"/>
              </a:rPr>
              <a:t>Mano invisible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Varios e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 (Siste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Competencia (Interés - Mecanismos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tor de la Economí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nsumidores reciben Bs y 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alidad, Cantidad y Pre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ferentes recibe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ductos, Costos e Ingre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Fundamentos Económicos: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Modelo de Competencia Perfec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Gran Número de Oferentes y Demand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ducto Homogén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ibre Movilidad de los Factores Produ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metría de Información (Complet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Competencia Perfecta: Consecuenci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s Empresas intervinientes son Precio-Aceptantes o Tomadoras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Grado de Elasticidad es Al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No Existen Barreras Legales o Financi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stos de Transacción bajos o n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95280" y="277920"/>
            <a:ext cx="8748720" cy="6178320"/>
            <a:chOff x="395280" y="277920"/>
            <a:chExt cx="8748720" cy="6178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395280" y="277920"/>
              <a:ext cx="8748720" cy="61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395280" y="277920"/>
              <a:ext cx="8748720" cy="617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8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uando Ingresos Marginales (IMg) = P = Costos Marginales (CMg), se detiene la P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logra eficiencia privada y social (Pare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UMg = P = CM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, cantidades y rentas (no hay alternativa más satisfactori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2 Teoremas bás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Pero </a:t>
            </a:r>
            <a:r>
              <a:rPr b="1" i="1" lang="es-ES" sz="4200" spc="-1" strike="noStrike">
                <a:solidFill>
                  <a:srgbClr val="000000"/>
                </a:solidFill>
                <a:latin typeface="Garamond"/>
              </a:rPr>
              <a:t>al final del día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 Oferta (Demanda) tiende a concentra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xisten Inelastic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Hay Barr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Fuertes Asimetrías de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mpetencia Imperfec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nopolio Pu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cionar producto canasta consu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s Sustitutos – Competencia poten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mpetencia Monopolí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Varios empresarios. Bs diferen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lig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1:30:47Z</dcterms:created>
  <dc:creator>Sebastian Spolmann</dc:creator>
  <dc:description/>
  <dc:language>en-US</dc:language>
  <cp:lastModifiedBy>Sebastian Spolmann</cp:lastModifiedBy>
  <dcterms:modified xsi:type="dcterms:W3CDTF">2007-03-09T06:10:48Z</dcterms:modified>
  <cp:revision>26</cp:revision>
  <dc:subject/>
  <dc:title>Fundamentos Económicos: Modelo de Competencia Perfecta</dc:title>
</cp:coreProperties>
</file>