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57FD-F870-4155-B99D-5295A67B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B07-2EE9-4519-BC7D-ED8A49D2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945-7EB3-40EF-91A4-9EC8568A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106-18FA-4E3E-9035-9F39E6D2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C5DC-E2D9-48B8-BB6F-DA639E2A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1C14-F160-4D49-98CA-D3CD047B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F020-C920-4B51-A996-D7AA8D2A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367B-AEF8-4980-BBE6-FA6E685B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5666-2D86-4FFD-8A7C-63A31433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7EBC-637E-4B84-9599-DD39546B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9700-A438-4F1D-B1E9-7479C500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517C-60EB-4586-9E17-D57C7C76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8EDA-B313-4AC1-A5C0-8E6DA7D0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D2B7-2B09-429C-B888-879B80A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4F6B-A55C-49E2-B917-3B632C4F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F218-F5FB-444B-ADA1-7938C7F5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C1D1-527C-49B1-BFAE-7F3E9AA8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476-2C18-4CD7-AFB9-EBB3A917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8367-53F2-43C5-B638-2A2C6071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C63-CE95-4B8B-B365-908B22C4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CED-9123-4236-A223-7D214851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480-3210-4819-8EEC-3615BF89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436-5779-4143-ADE0-FDD3A8BA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2E6-3B9C-42C7-B46F-00075649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633A-F7DB-421F-AAF4-E0FD24BCE60E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0B40-C10C-4C04-BEB5-5289E2F61579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erecho de la 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Solución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Utilizar mecanismos Regulator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erecho Antimonopolios (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Antitrust Law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or qué hablar de Libre Competencia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Problema Económ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autoritaria, dirigida, planificada (centralmen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de libre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interacción Oferta y Demanda (</a:t>
            </a:r>
            <a:r>
              <a:rPr b="0" i="1" lang="es-ES" sz="2600" spc="-1" strike="noStrike">
                <a:solidFill>
                  <a:srgbClr val="000000"/>
                </a:solidFill>
                <a:latin typeface="Garamond"/>
              </a:rPr>
              <a:t>Mano invisible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Varios e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 (Siste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Competencia (Interés - Mecanismos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tor de la Economí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nsumidores reciben Bs y 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alidad, Cantidad y Pre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ferentes recibe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ductos, Costos e Ingre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Fundamentos Económicos: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Modelo de Competencia Perfec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Gran Número de Oferentes y Demand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ducto Homogén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ibre Movilidad de los Factores Produ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metría de Información (Complet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Competencia Perfecta: Consecuenci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s Empresas intervinientes son Precio-Aceptantes o Tomadoras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Grado de Elasticidad es Al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No Existen Barreras Legales o Financi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stos de Transacción bajos o n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95280" y="277920"/>
            <a:ext cx="8748720" cy="6178320"/>
            <a:chOff x="395280" y="277920"/>
            <a:chExt cx="8748720" cy="6178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395280" y="277920"/>
              <a:ext cx="8748720" cy="61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395280" y="277920"/>
              <a:ext cx="8748720" cy="617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8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uando Ingresos Marginales (IMg) = P = Costos Marginales (CMg), se detiene la P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logra eficiencia privada y social (Pare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UMg = P = CM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, cantidades y rentas (no hay alternativa más satisfactori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2 Teoremas bás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Pero </a:t>
            </a:r>
            <a:r>
              <a:rPr b="1" i="1" lang="es-ES" sz="4200" spc="-1" strike="noStrike">
                <a:solidFill>
                  <a:srgbClr val="000000"/>
                </a:solidFill>
                <a:latin typeface="Garamond"/>
              </a:rPr>
              <a:t>al final del día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 Oferta (Demanda) tiende a concentra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xisten Inelastic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Hay Barr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Fuertes Asimetrías de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mpetencia Imperfec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nopolio Pu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cionar producto canasta consu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s Sustitutos – Competencia poten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mpetencia Monopolí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Varios empresarios. Bs diferen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lig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1:30:47Z</dcterms:created>
  <dc:creator>Sebastian Spolmann</dc:creator>
  <dc:description/>
  <dc:language>en-US</dc:language>
  <cp:lastModifiedBy>Sebastian Spolmann</cp:lastModifiedBy>
  <dcterms:modified xsi:type="dcterms:W3CDTF">2007-03-09T06:10:48Z</dcterms:modified>
  <cp:revision>26</cp:revision>
  <dc:subject/>
  <dc:title>Fundamentos Económicos: Modelo de Competencia Perfecta</dc:title>
</cp:coreProperties>
</file>