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DDE-A4EC-47AC-A6FA-2199842E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303-3091-4EDD-B59E-535C2DE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E6C-6F59-4A62-912A-67372A37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357-6002-4C5B-ACD2-97DF5A8E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0EE-2D9F-404B-818B-EF7B67A7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82B9-EA81-4AF0-90FA-E1A5FE4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8DDC-B37C-4D72-87D1-927D5CA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397-9FCE-4EA0-810E-68D99CC6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27E1-86F9-4A08-80BD-7A320D5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5A6E-A877-4FFC-8DC9-9948196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DED3-EA64-4CB2-8184-D08599F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CAC-EE22-42E4-92AA-F1CACAB3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DDF-39D8-49ED-99FE-D2AB187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64F7-A3AA-4621-811D-2D64A17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884-C49B-417A-8367-F7E6B8C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B6B7-25B1-42E4-AF8B-F1920123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D800-2B7A-47AE-8D92-43BE9FC7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14C-A7CC-4C16-AD3E-515858F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A91-F7D0-401A-9BCA-1C1078C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93E-FB39-47DC-9E9D-1D410D8B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E9F-A002-45E5-8470-A483D94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AE6-033F-4E4D-BFFF-5849EA0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229-D5CD-4F37-BFCC-3E8934E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9F8-2478-4678-9CC9-20E1ABA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CB2-9AA5-4351-BC6A-08DB60A5A7D0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C83-A849-45D8-B108-93639E045AAA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2 Teoremas bá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3-09T06:10:48Z</dcterms:modified>
  <cp:revision>26</cp:revision>
  <dc:subject/>
  <dc:title>Fundamentos Económicos: Modelo de Competencia Perfecta</dc:title>
</cp:coreProperties>
</file>